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BFD8-EE8C-4C3F-95A1-47F6AC47B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B18B-3EB2-4940-BF63-B315C1A2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095989-8B19-4C2E-BB63-3380A8FD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E68E61-7408-45B3-AE94-3DC89D83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279F55-0602-434B-ADCE-3DE16ED8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4B17AE-5337-4F17-8870-816C3ACF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1E95EF-8175-44CD-BAB8-1D93DF6F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EEF953-7AFF-4903-90B7-770119D1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FA50F9-F47D-4456-9A6B-120F4131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6091B6-389D-489C-AAD3-F95020319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532677-C3F0-4907-B204-73DC5338C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BD7F-ED04-4070-A21F-5B7D59CA2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EA28-B116-43F7-8090-95966A64E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9376F-433F-4C75-B0F0-F1422772B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BC444-C49D-4560-B1B2-6E68010B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FE9F35-E210-428C-9606-78BBEE5A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5CB5B-B2CA-4548-BD9D-6BC587C4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8D1E69-3198-4991-900C-75948773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29C686-864D-45D8-AB2A-DF661FA6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F33F1-6E8D-4E8A-A2CE-62C915EF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BF24-66BB-43F5-9880-67DC10B5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2D982D-38A0-4BF2-8E23-E84E34AD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9A127-D14B-48A5-A998-5A7CEE5B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EAC6E-ECA9-46D8-90C5-CA7FD6B0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5F7A7-64A3-4DDF-A35E-5E2C644E2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59421-7C7B-4FE7-9C27-24B2E0A92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EE1DC-95A9-4A71-9C0A-FBD3DEA51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BF326-3D1E-4E57-9B5B-9E922AD7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DE6EF-DFB1-40D5-AC1A-3AA29A52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7C225-62DB-49EF-B32B-308D935C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D80AC-C9C7-498A-9D9F-77F14A6E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38AA-DA6A-493F-9226-ABD88CF4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54368-E737-4633-ADD6-DF72AE23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DDFBE-11D9-4E53-B87A-605EB52C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FB236-9FC4-4ECA-9827-018569E8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32B45-39B5-4EC7-9DED-55D14011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30A86-2D87-4F61-8C81-97453B65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05455-1EF1-4E1B-90A2-F27A074BB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07164-BB5F-4C83-990E-62D95A3C7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EC6A10-E12A-433E-A3CE-F92C76BC1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BC5705-2C9B-4A26-A675-652BE25A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44236C-48B6-427D-8E91-F03C76A1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31A8-1272-443B-80E4-B4E54FB0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290822-E6D2-450E-A302-9330936A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147F89-D16A-47BE-9C59-2BF33856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57A1F8-80A0-48EC-BD55-40F00B77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202965-382F-4E9C-BE8A-5BF46EA4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CF2D91-2272-40B0-9A20-5E5F7D9A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68F16C-4B33-46DB-97AF-111CD078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81A15E-0971-4B4B-904D-D77F2F91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3C1AB2-31ED-4A22-AD45-24FF0D6A3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8D9A09-56F4-4D86-9A8A-99E29ED7A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545CD-70C3-4B92-A7AE-725351A3E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B06C-C117-46A7-B084-C138AACB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A892E-B664-40DC-90D6-6EA8ECF4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7D7C1-AB2C-47BD-8C38-126DE3C9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9F232-7D9D-4595-B6B8-20E7FB9E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BBA39-17D8-4BAC-BDDD-78F48F00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80E9A-62F0-4E72-BD36-0DA0B9F6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9205B-E762-49CE-9ED0-DBCC75BA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AFEA1-F332-4F2C-9E35-632346EE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F3B50-D98B-4F3B-B21F-5A6E8F5B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710DE-41E5-4D67-A9E3-ABED1835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42B0E-B0B7-4039-9399-109A3DA99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BD0A-0314-4C6D-8035-2D39F230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BD2C7-409F-4A8B-BF4C-FF7AA6097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9B066-C548-471F-9652-D6070ADF3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74D30-846C-4AFC-8234-537DAB91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96F40-9345-40C7-AA06-4151F1C0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0D20C-1F4C-47BF-BEAD-01CB60F5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37199-A5B6-4358-89E6-418E3679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3FA1C-9BFD-45B7-A45B-5029DC60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BCB1F-3EF8-4D86-9982-19594466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3C372-7007-4917-8D75-B6D58F72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F974C-C818-47B5-9070-3A52DA01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8183-A2C1-4C8D-BC34-09584482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5495C-D34A-41FF-93E1-350B4EB5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01E4A-315F-44F6-A923-749D4866E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7E216-2C0D-4FA7-9175-6381D45BC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907F8-B6FA-4B25-8DC6-F78352425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D614E-B1AC-4C8E-A280-B2ACAA8A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4BD2D-64F9-4204-9086-A35B71AD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2A3B9-0E6C-4801-B9CC-4EA447C5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285D5-CB51-49E6-B17F-F8ECF699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E573D-A5EC-4D7D-B262-E3B19DAC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FF1E7-FC14-4C12-972F-A06C19E2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D764-456B-447E-83BC-654AF21F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E701F-994B-4BA5-BC77-F4E77326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F7C6F-176C-4098-B16A-F8E2D1F1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2E59A-FE74-4F2E-8A98-4C362ADC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FC2D5-3B90-4F77-888E-8F918E8C9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E0EF0-0A1F-42EF-940B-294AA85EE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4ED073-8954-4975-AE74-7DB7B081F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E2EE9C-CA20-432F-BDAD-A6C6EB9B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F6F6CF-E010-4CA9-A1C3-7D7CC0AA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556369-0A23-45FC-BFC4-0BA90012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0631D3-017F-40F6-A4EE-DECEFC32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5870-BDE0-4CCD-8E50-87F0DFA0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42E6CF-15C7-46BE-9772-F5A43DBE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3B6B51-CDB8-48EB-AEBA-651BAFE0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3905EB-4BE7-4B0B-8979-79EC78BD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B3EF83-2788-46F4-97F1-C049D272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8ED842-8766-4795-829F-21ED73FB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802F91-4A2B-450F-BBDC-CB75F8CFC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328D58-47DE-455A-BB55-83ACF2452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EE62AD-BF82-4A48-BBA7-E2663665F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F227F2-D987-4EFF-B9FF-2C42C814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979111-C6C4-4581-8FA1-969806EE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5674-EE80-405B-9ABD-1C029D5A628F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6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71B7-2083-4C68-8E49-C28CE6C7B6DC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tangle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8412-1D27-4526-B2B8-6DFFAA5990BD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3611-F641-4A85-8466-48B22D290E60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tangle 9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DF6D-DE03-4394-BFBF-AF5D3A1708BA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tangle 9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A153-BEE7-4F35-BB96-2E4038AD7052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tangle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3199-8474-4F6D-9023-9B9865E8C8B2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4CDB-D722-41CF-8E6B-4E687970EC5A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57EC-B159-4928-9E3A-DBE653DCACFB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63680" y="384120"/>
            <a:ext cx="8229600" cy="22129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ommon Law Model: The Court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Judge- primary duty is to preside over the court in a fair and impartial manner and instruct the jury on the law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rosecutor- primary duty is to promote justice, secondary duty is to prosecut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efense Counsel- spokesperson for defendant- assures defendant receives his or her right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Jury-finder of fac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1523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Unitary judicial system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ourt of Queen’s or King’s Bench-appeals from inferior court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upreme Court of Judicature-comprehensive body, below House of Lord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agistrates’ Court-inferior court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rown Court-intermediary cour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Royal Courts of Justice-Law court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Title 1" descr=""/>
          <p:cNvPicPr/>
          <p:nvPr/>
        </p:nvPicPr>
        <p:blipFill>
          <a:blip r:embed="rId1"/>
          <a:stretch/>
        </p:blipFill>
        <p:spPr>
          <a:xfrm>
            <a:off x="457200" y="225360"/>
            <a:ext cx="8229600" cy="117000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9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UNITED STATES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9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UNITED KINGDOM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6840" y="236196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Constitution- law of the land</a:t>
            </a: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Judicial review of legislation</a:t>
            </a: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Generally stresses due process model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Defendants rights based generally on constitutional rights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Exclusionary rule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644720" y="236196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No written constitution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No right to judicial review of legislation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Generally stresses crime control model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Defendants rights based generally on case law and statutes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Rockwell"/>
              </a:rPr>
              <a:t>No exclusionary rule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Used in United States and United Kingdom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recedent as a basis for judgmen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uilt on a case to case approach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dversarial system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eveloped from the feudal land law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nglish settlers brought common law to the colonie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80080" indent="-2800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fter Norman Conquest in 1066-England was two nations within on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13800" indent="-21924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Franci-French 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13800" indent="-21924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nglici-native English person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13800" indent="-21924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Two nations were separated by a wide gulf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r centuries the common law of England consisted of a system of remedie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80080" indent="-2800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y 1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Rockwel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Century, selected decisions were published in Year Book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uke of Normandy and later King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xpanded the Anglo-French domains and strengthened the royal administratio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eveloped new judicial forms and solidified common law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15236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King John was forced to sign in 1215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ecame a permanent part of the law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rovides guarantees against the arbitrary disregard of feudal right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rovided protection for all freem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ause 39 required judgment by peer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rst solicitor general  and later chief justic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xpert on Year Book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ublished a 11 volume work on common law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rafted Petition of Righ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No imprisonment without caus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No quartering soldier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No martial law in peace tim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No taxes without consent of Parliament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457200" y="225360"/>
            <a:ext cx="8229600" cy="11764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ublished Commentaries on the Laws of England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till cited today in judicial decision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ost influential jurist in the history of common law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fter revolution, enacted statutory law was what was formerly English common law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ual federalism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Majority criminal cases tried in state court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ommon law crimes have been codified by penal code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upreme Cour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welve U.S. Courts of Appea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U.S. District Court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At least one in each stat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General trial court for federal case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Judges appointed by president and confirmed by senate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Life time appointment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lnSpc>
                <a:spcPct val="90000"/>
              </a:lnSpc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Federal Magistrates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3T14:28:44Z</dcterms:created>
  <dc:creator>cliff</dc:creator>
  <dc:description/>
  <dc:language>en-US</dc:language>
  <cp:lastModifiedBy>Cliff Roberson</cp:lastModifiedBy>
  <dcterms:modified xsi:type="dcterms:W3CDTF">2015-06-26T18:49:08Z</dcterms:modified>
  <cp:revision>13</cp:revision>
  <dc:subject/>
  <dc:title>Chapter 2</dc:title>
</cp:coreProperties>
</file>