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xml" ContentType="application/vnd.openxmlformats-officedocument.presentationml.notesSlid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5.xml.rels" ContentType="application/vnd.openxmlformats-package.relationships+xml"/>
  <Override PartName="/ppt/notesSlides/_rels/notesSlide72.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40F8-5FA8-479F-8116-18657BBFA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5B34-6D5E-467C-83A5-CF34AE9BD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3840" y="762120"/>
            <a:ext cx="2557440" cy="1919160"/>
          </a:xfrm>
          <a:prstGeom prst="rect">
            <a:avLst/>
          </a:prstGeom>
          <a:ln w="0">
            <a:noFill/>
          </a:ln>
        </p:spPr>
      </p:sp>
      <p:sp>
        <p:nvSpPr>
          <p:cNvPr id="246" name="PlaceHolder 2"/>
          <p:cNvSpPr>
            <a:spLocks noGrp="1"/>
          </p:cNvSpPr>
          <p:nvPr>
            <p:ph type="body"/>
          </p:nvPr>
        </p:nvSpPr>
        <p:spPr>
          <a:xfrm>
            <a:off x="2819160" y="762120"/>
            <a:ext cx="3809880" cy="54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63DA-BCC2-4EE3-A032-5082B7F2E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079-EBF3-48EF-A3F5-F6CC27F02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6E2D-A18F-400E-85FF-2BE1E3845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66C7-37D3-4FC9-ADBA-1A185A429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E107-1151-44CD-A7EF-C7E44915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7995-12A2-4574-9910-65064A30C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E6AC-9F2C-41E0-A1CB-799CE7F94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62A1-2C21-4094-9B3A-581950184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CE96-70B2-47F1-BD74-BA7A6AF90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C476-AFDC-46C0-BD32-C1F519CDD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2B94-C60A-4A71-BB3D-863BD3063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3CD3-EA6B-4E48-8982-B7306664E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7121-583E-412E-AF77-D3E2DCEA8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68DB-EBBD-42B9-8118-4D1F38BEC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9D28-4ADD-48DA-9983-62E943118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F478-EF08-4B0C-BF62-87BAE26DA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BD0-021D-4BC0-BD2F-77340ED6B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2B05-5FB0-4025-9128-FA33567F3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F17B-8332-4806-926D-CE2DA31AF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0513-0B07-4A46-B462-A0AFC29E9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5C14-CF5C-4E05-9EE3-D6F8670CE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431E-172C-4C73-AFC7-FD069C2E7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9CD5-2612-4650-8D4E-2CC388AA4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4631-919B-4B65-9F8E-47895D5B0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921-F09B-4F26-8632-0C4BF4D7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7FA2-8410-48CC-8E7D-99C003132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55EB-AA5E-4076-8C6B-16A498C78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F564-1978-4269-9B3A-E1621D6D4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4246-B601-4F5C-A1FA-A9886DA21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ECC4-AC30-4B3E-A652-7951F7F08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6976-49DD-4053-B1CC-3BA34477B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D451-BFB0-4DD7-9AFB-DEE24AE5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B7F3-76CB-4478-A19D-17B824BAE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C0AB-5118-4016-AD73-F109BA41E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9EA3-2A54-4B12-9CC5-510E86F01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8030-D3B6-4447-B984-E74B92369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B887-8FE1-44BD-8B8B-5D2020B2D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3082-007E-4CF1-8129-12AE78782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9400-BAE6-4871-BD3E-2C0C5D1EA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0D97-2A09-4BFD-8975-4ECFFCD73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9EF7-6023-4561-8C4E-C51E5740B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32F1-45A8-4F91-9D15-AFB78FA91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862B-FFB9-4F93-912E-9C7981213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38AA-1B20-4FCA-B41A-7EA693E03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EECA-8F1F-4FE8-A329-064D1E8AD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A7CC-36DF-42EA-9E8B-932DF91A2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64F8-4FB8-4D3A-9346-B685B0088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BBFA-8647-4ECB-82D9-A80319D73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20D0-AE11-4B8E-A1C2-93EF580F5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6E5B-D0D8-4E3A-AC88-D86331931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5B9F-AB82-44C8-81EF-D0BB342F6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ECFA-F238-469B-AFB1-1C1AA5FE9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0F69-6661-4BEA-AA7A-37C06FFD3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FCE-94E0-4AFD-8F46-53868EF53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A01F-A9B0-4D24-895B-42E9593A4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F84D-E13A-422C-BAAD-F97E3B3E7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DCAD-AA58-40A8-ACCD-456927C70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E674-85C1-4FE1-B571-0B9F58F6C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F2C0-0DC8-43EC-BA29-61C6FC115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F369-5139-4BBC-96B8-0C78F6803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A8C1-1F47-458B-9E18-CDE4395BD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23B8-8B97-45A4-A90C-A76482A5E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295F-064D-4AF1-8525-29E8E902C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5D2D-6B77-4901-A29A-E674CD429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F45A-B20B-40CA-BAC5-E7CAF7B0D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6530-D545-4320-B084-F2CDB2C8E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ED0A-2EC5-4635-9779-84F3AEF15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2D12-3472-480C-96FB-260A69391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DC38-3D29-45F7-9769-3A7D14547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7702-753D-4A2F-A49B-BB41788F6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78CC-8966-4CC4-A1CD-6DA5C1A44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8405-CB51-4DB1-A5AB-C2003B58D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E8B8-E288-4DBA-9A19-B8B44FA6B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ECDE-4320-4316-A5D1-0BEB1AF22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9674-4BF4-418D-96BF-9ECEFEFD7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CFD9-F895-4B75-B896-241E6598B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DAB8-5383-4DF5-9F30-4B1B2603E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8405-E7EF-496D-9855-2756B9A47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E4A4-FF70-4276-AC60-8B0C6B7DB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0ECC-28CA-4EAB-8FBA-F680C31A8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A631-84F3-4928-A794-8F77D921A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8A66-50DC-4160-8ADC-F17B5FA74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E6DF-A520-48B6-BB4C-7BCCBB700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63C1-C0C3-4751-ABDF-E9C6745A4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66BA-4973-4779-AC85-A05AF524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B718-12C0-4082-89F3-FF3FD8DEC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F96C-4F83-4AEA-B3BA-435697AC8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3AA4-F9EB-4DB9-8767-353BC3717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D19F-54D3-4596-835A-70D03A2E6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F2F2-DE60-479B-A881-0552E73BC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8194-96AD-49CB-AE5B-F302DA263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215B-CEA4-47D7-9E91-3164EE239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076C-A2D2-4134-A2C7-1D8FE1552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8CDE-C0D4-4861-B524-0281AB5A8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FA51-C060-4C16-8BD5-31C14B6F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E0D5-4A8A-4566-B154-732A1FE5C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9DE2-8982-4CA0-A893-7578D50A3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F6DC-C470-4537-BBBF-8038D0609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FC0EE-4743-4E23-88D8-C80213233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E1777-404D-49C7-B7D0-9688F03A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D9731-0563-4C32-BF37-07E2FD074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D5D50-8F89-4824-94A8-D3A8BD9E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3983-A2E0-44D8-8149-B93F26B3F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3948B-5BF5-4BB1-9DE3-B0B652D92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679B-5353-41BD-839E-94168F6E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F40C-4940-4D93-BE8B-8F314CD8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163B-FB3E-437B-8E84-FFFB376B7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EC9E-78D8-4F64-ABBC-7FC08594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F94D-4301-47C6-8F2B-9820FEBDA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E513-C084-439A-9DAD-B8489648E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BC09-E54E-4B69-B1C9-35270B510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Thre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TICs</a:t>
            </a:r>
            <a:endParaRPr b="0" lang="en-US" sz="3600" spc="-1" strike="noStrike">
              <a:solidFill>
                <a:srgbClr val="000000"/>
              </a:solidFill>
              <a:latin typeface="Arial"/>
            </a:endParaRPr>
          </a:p>
        </p:txBody>
      </p:sp>
      <p:sp>
        <p:nvSpPr>
          <p:cNvPr id="86" name="PlaceHolder 2"/>
          <p:cNvSpPr>
            <a:spLocks noGrp="1"/>
          </p:cNvSpPr>
          <p:nvPr>
            <p:ph/>
          </p:nvPr>
        </p:nvSpPr>
        <p:spPr>
          <a:xfrm>
            <a:off x="418680" y="1116000"/>
            <a:ext cx="4038840" cy="452592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manufacturing plant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processing and storage facilit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oline and jet fuel storage tank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 with cyanide and mercury compounds</a:t>
            </a:r>
            <a:endParaRPr b="0" lang="en-US" sz="2400" spc="-1" strike="noStrike">
              <a:solidFill>
                <a:srgbClr val="000000"/>
              </a:solidFill>
              <a:latin typeface="Arial"/>
            </a:endParaRPr>
          </a:p>
        </p:txBody>
      </p:sp>
      <p:sp>
        <p:nvSpPr>
          <p:cNvPr id="87" name="PlaceHolder 3"/>
          <p:cNvSpPr>
            <a:spLocks noGrp="1"/>
          </p:cNvSpPr>
          <p:nvPr>
            <p:ph/>
          </p:nvPr>
        </p:nvSpPr>
        <p:spPr>
          <a:xfrm>
            <a:off x="4648320" y="1152000"/>
            <a:ext cx="4038480" cy="452628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icide</a:t>
            </a:r>
            <a:r>
              <a:rPr b="0" lang="en-US" sz="2400" spc="-1" strike="noStrike" u="sng">
                <a:solidFill>
                  <a:srgbClr val="000000"/>
                </a:solidFill>
                <a:uFillTx/>
                <a:latin typeface="Arial"/>
              </a:rPr>
              <a:t> </a:t>
            </a:r>
            <a:r>
              <a:rPr b="0" lang="en-US" sz="2400" spc="-1" strike="noStrike">
                <a:solidFill>
                  <a:srgbClr val="000000"/>
                </a:solidFill>
                <a:latin typeface="Arial"/>
              </a:rPr>
              <a:t>manufacturing and supply distribut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medical, and research laborator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s and medical clin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09480" y="50292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s/rashes: Individuals experiencing unexplained water-like blisters, wheals, other rash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28600" y="457200"/>
            <a:ext cx="8686800" cy="640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casualties: Many persons exhibiting unexplained serious health problems (nausea, disorientation, difficulty in breathing, convulsions, de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 pattern of casualties: Casualties distributed in a pattern that may be associated with agent dissemina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533520"/>
            <a:ext cx="86868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nesses occurring in confined geographic area: Lower rates for people indoors versus outdo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04920" y="45720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liquid droplets: Surfaces may have oily droplets/film; water surfaces have oily fil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2280" y="380520"/>
            <a:ext cx="838224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with unusual appearance:  Large areas of trees, shrubs, food crops, lawns that are dead, discolored, withered                                           (no drou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0" y="304560"/>
            <a:ext cx="8763120" cy="70102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dor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y, flower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pungen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lic/horseradish</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ter almond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ch kernel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wn hay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icular odor must be completely out of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with surround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152280"/>
            <a:ext cx="8610480" cy="5516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metal debris: Unexploded bomb-like materials, especially if they contain a liquid (no recent 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mptoms</a:t>
            </a:r>
            <a:endParaRPr b="0" lang="en-US" sz="3600" spc="-1" strike="noStrike">
              <a:solidFill>
                <a:srgbClr val="000000"/>
              </a:solidFill>
              <a:latin typeface="Arial"/>
            </a:endParaRPr>
          </a:p>
        </p:txBody>
      </p:sp>
      <p:sp>
        <p:nvSpPr>
          <p:cNvPr id="231" name="PlaceHolder 2"/>
          <p:cNvSpPr>
            <a:spLocks noGrp="1"/>
          </p:cNvSpPr>
          <p:nvPr>
            <p:ph/>
          </p:nvPr>
        </p:nvSpPr>
        <p:spPr>
          <a:xfrm>
            <a:off x="457200" y="121896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that a toxic chemical agent has be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lained runny n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 attack of spray emitting from an aircra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mist/fumes/ clouds of unknown orig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ghter or strange behavior in other per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rr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brea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ight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Detection Equipment and Associated Technologies</a:t>
            </a:r>
            <a:endParaRPr b="0" lang="en-US" sz="3600" spc="-1" strike="noStrike">
              <a:solidFill>
                <a:srgbClr val="000000"/>
              </a:solidFill>
              <a:latin typeface="Arial"/>
            </a:endParaRPr>
          </a:p>
        </p:txBody>
      </p:sp>
      <p:sp>
        <p:nvSpPr>
          <p:cNvPr id="233" name="PlaceHolder 2"/>
          <p:cNvSpPr>
            <a:spLocks noGrp="1"/>
          </p:cNvSpPr>
          <p:nvPr>
            <p:ph/>
          </p:nvPr>
        </p:nvSpPr>
        <p:spPr>
          <a:xfrm>
            <a:off x="304560" y="1828440"/>
            <a:ext cx="7924680" cy="42973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M8 paper: detects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256 Series Chemical Agent Detector Kit: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eger colorimetric tub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ionization detector (P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Detection:</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M256A1, M272 water testing kit, MINICAMS, the ICAD, M18A2, M21 remote sensing alarm, M90, M93A1 Fox, Bubbler, CAM, and DAAMS, M8 paper, or M9 paper.</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Weapons Defined</a:t>
            </a:r>
            <a:endParaRPr b="0" lang="en-US" sz="3600" spc="-1" strike="noStrike">
              <a:solidFill>
                <a:srgbClr val="000000"/>
              </a:solidFill>
              <a:latin typeface="Arial"/>
            </a:endParaRPr>
          </a:p>
        </p:txBody>
      </p:sp>
      <p:sp>
        <p:nvSpPr>
          <p:cNvPr id="89" name="PlaceHolder 2"/>
          <p:cNvSpPr>
            <a:spLocks noGrp="1"/>
          </p:cNvSpPr>
          <p:nvPr>
            <p:ph/>
          </p:nvPr>
        </p:nvSpPr>
        <p:spPr>
          <a:xfrm>
            <a:off x="0" y="1294920"/>
            <a:ext cx="91440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ny chemical which, through its chemical effect on living processes, may cause death, temporary loss of performance, or permanent injury to people and animal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The Chemical Weapons Conven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to Consider when Choosing a Detection Device</a:t>
            </a:r>
            <a:endParaRPr b="0" lang="en-US" sz="3600" spc="-1" strike="noStrike">
              <a:solidFill>
                <a:srgbClr val="000000"/>
              </a:solidFill>
              <a:latin typeface="Arial"/>
            </a:endParaRPr>
          </a:p>
        </p:txBody>
      </p:sp>
      <p:sp>
        <p:nvSpPr>
          <p:cNvPr id="236" name="PlaceHolder 2"/>
          <p:cNvSpPr>
            <a:spLocks noGrp="1"/>
          </p:cNvSpPr>
          <p:nvPr>
            <p:ph/>
          </p:nvPr>
        </p:nvSpPr>
        <p:spPr>
          <a:xfrm>
            <a:off x="457200" y="1743120"/>
            <a:ext cx="4191120" cy="4525920"/>
          </a:xfrm>
          <a:prstGeom prst="rect">
            <a:avLst/>
          </a:prstGeom>
          <a:noFill/>
          <a:ln w="0">
            <a:noFill/>
          </a:ln>
        </p:spPr>
        <p:txBody>
          <a:bodyPr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detected</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to interferenc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tatus</a:t>
            </a:r>
            <a:endParaRPr b="0" lang="en-US" sz="2400" spc="-1" strike="noStrike">
              <a:solidFill>
                <a:srgbClr val="000000"/>
              </a:solidFill>
              <a:latin typeface="Arial"/>
            </a:endParaRPr>
          </a:p>
          <a:p>
            <a:pPr marL="2318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4952880" y="1743120"/>
            <a:ext cx="4191120" cy="452592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 cap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apabilitie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need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environment</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dvantages’ of Chemical Weapons to Terrorists</a:t>
            </a: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nature of many types (VX, mustard g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o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asualties (stun or k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eff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production cost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esicants are byproducts or similar compounds to common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advantages of Chemical Weapons</a:t>
            </a:r>
            <a:endParaRPr b="0" lang="en-US" sz="36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o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equipment to produce/st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resis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temperature contr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iscrimin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60" y="304920"/>
            <a:ext cx="8915400" cy="589752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W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92, after a decade of negotiations, the Conference on Disarmament agreed to the text of </a:t>
            </a:r>
            <a:r>
              <a:rPr b="1" lang="en-US" sz="2800" spc="-1" strike="noStrike">
                <a:solidFill>
                  <a:srgbClr val="000000"/>
                </a:solidFill>
                <a:latin typeface="Arial"/>
              </a:rPr>
              <a:t>The Chemical Weapons Convention</a:t>
            </a:r>
            <a:r>
              <a:rPr b="0" lang="en-US" sz="2800" spc="-1" strike="noStrike">
                <a:solidFill>
                  <a:srgbClr val="000000"/>
                </a:solidFill>
                <a:latin typeface="Arial"/>
              </a:rPr>
              <a:t> (CWC), which was then adopted by the General Assembly at its forty-seventh session, on 30 November 1992, in its resolution entitled Convention on the Prohibition of the Development, Production, Stockpiling and Use of Chemical Weapons and on Their Destructi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un.org/Depts/dda/WMD/cw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320" y="533520"/>
            <a:ext cx="8991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Signatories included: US, UK, China, Russia, Israel … (184 ‘States-Parties’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not sign the CWC: North Korea, Syria, Iraq, Egypt, South Sudan, Ango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of Chemical Weapons</a:t>
            </a:r>
            <a:endParaRPr b="0" lang="en-US" sz="36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rine gas released into the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used during trench warfa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19040" y="3510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admitted use on Chi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bombing of Bari Harbor, Italy (2,000 100 lb mustard bomb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va Protocol in 197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ed use of Chemical 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defoliants and riot control ag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treaties requiring disposal of stored chemical weapons in 1985, 1992, 1993 and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Iran/Iraq conflict in 1982-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240" y="304560"/>
            <a:ext cx="8458200" cy="556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rmistice of WWI, the horrors of chemical warfare prompted the banning of chemical weapons in wa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mitment resulted in the signing, by 16 nations, of the 1925 Geneva Protocol for the Prohibition of the Use of Asphyxiating, Poisonous or Other Gases, and Bacteriological Methods of Warfar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did not sign the Protocol until 197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04920" y="457200"/>
            <a:ext cx="8153280" cy="55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va Protocol does not, incidentally, prohibit the development, production, or possession of chemical weapons, only its use on the battlefiel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signing the Geneva Protocol included the caveat that they had the right to retaliate with chemical weapons should they be attacked in such a wa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45720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re / were US Chemical Weapons Stockpil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assification of Chemical Agents</a:t>
            </a:r>
            <a:endParaRPr b="0" lang="en-US" sz="4000" spc="-1" strike="noStrike">
              <a:solidFill>
                <a:srgbClr val="000000"/>
              </a:solidFill>
              <a:latin typeface="Arial"/>
            </a:endParaRPr>
          </a:p>
        </p:txBody>
      </p:sp>
      <p:sp>
        <p:nvSpPr>
          <p:cNvPr id="50" name="Rectangle 3"/>
          <p:cNvSpPr/>
          <p:nvPr/>
        </p:nvSpPr>
        <p:spPr>
          <a:xfrm>
            <a:off x="1546200" y="1600200"/>
            <a:ext cx="2895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Warfare Agents</a:t>
            </a:r>
            <a:endParaRPr b="0" lang="en-US" sz="2000" spc="-1" strike="noStrike">
              <a:solidFill>
                <a:srgbClr val="000000"/>
              </a:solidFill>
              <a:latin typeface="Arial"/>
            </a:endParaRPr>
          </a:p>
        </p:txBody>
      </p:sp>
      <p:sp>
        <p:nvSpPr>
          <p:cNvPr id="51" name="Rectangle 4"/>
          <p:cNvSpPr/>
          <p:nvPr/>
        </p:nvSpPr>
        <p:spPr>
          <a:xfrm>
            <a:off x="389880" y="2962440"/>
            <a:ext cx="120312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2" name="Rectangle 5"/>
          <p:cNvSpPr/>
          <p:nvPr/>
        </p:nvSpPr>
        <p:spPr>
          <a:xfrm>
            <a:off x="1876320" y="296244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3" name="Rectangle 6"/>
          <p:cNvSpPr/>
          <p:nvPr/>
        </p:nvSpPr>
        <p:spPr>
          <a:xfrm>
            <a:off x="319896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is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4" name="Rectangle 7"/>
          <p:cNvSpPr/>
          <p:nvPr/>
        </p:nvSpPr>
        <p:spPr>
          <a:xfrm>
            <a:off x="460764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5" name="Line 8"/>
          <p:cNvSpPr/>
          <p:nvPr/>
        </p:nvSpPr>
        <p:spPr>
          <a:xfrm>
            <a:off x="933480" y="26528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9"/>
          <p:cNvSpPr/>
          <p:nvPr/>
        </p:nvSpPr>
        <p:spPr>
          <a:xfrm>
            <a:off x="2405160" y="2676600"/>
            <a:ext cx="0" cy="28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a:off x="3703680" y="2666880"/>
            <a:ext cx="1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5126040" y="2652840"/>
            <a:ext cx="0" cy="30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3083040" y="2390760"/>
            <a:ext cx="0" cy="27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917640" y="2666880"/>
            <a:ext cx="4222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Rectangle 14"/>
          <p:cNvSpPr/>
          <p:nvPr/>
        </p:nvSpPr>
        <p:spPr>
          <a:xfrm>
            <a:off x="4876920" y="4191120"/>
            <a:ext cx="213336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Industrial Chemicals</a:t>
            </a:r>
            <a:endParaRPr b="0" lang="en-US" sz="2000" spc="-1" strike="noStrike">
              <a:solidFill>
                <a:srgbClr val="000000"/>
              </a:solidFill>
              <a:latin typeface="Arial"/>
            </a:endParaRPr>
          </a:p>
        </p:txBody>
      </p:sp>
      <p:sp>
        <p:nvSpPr>
          <p:cNvPr id="62" name="Rectangle 15"/>
          <p:cNvSpPr/>
          <p:nvPr/>
        </p:nvSpPr>
        <p:spPr>
          <a:xfrm>
            <a:off x="3276000" y="5638680"/>
            <a:ext cx="140112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gene</a:t>
            </a:r>
            <a:endParaRPr b="0" lang="en-US" sz="2000" spc="-1" strike="noStrike">
              <a:solidFill>
                <a:srgbClr val="000000"/>
              </a:solidFill>
              <a:latin typeface="Arial"/>
            </a:endParaRPr>
          </a:p>
        </p:txBody>
      </p:sp>
      <p:sp>
        <p:nvSpPr>
          <p:cNvPr id="63" name="Rectangle 16"/>
          <p:cNvSpPr/>
          <p:nvPr/>
        </p:nvSpPr>
        <p:spPr>
          <a:xfrm>
            <a:off x="5032800" y="5638680"/>
            <a:ext cx="1797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hloride</a:t>
            </a:r>
            <a:endParaRPr b="0" lang="en-US" sz="2000" spc="-1" strike="noStrike">
              <a:solidFill>
                <a:srgbClr val="000000"/>
              </a:solidFill>
              <a:latin typeface="Arial"/>
            </a:endParaRPr>
          </a:p>
        </p:txBody>
      </p:sp>
      <p:sp>
        <p:nvSpPr>
          <p:cNvPr id="64" name="Rectangle 17"/>
          <p:cNvSpPr/>
          <p:nvPr/>
        </p:nvSpPr>
        <p:spPr>
          <a:xfrm>
            <a:off x="7162920" y="5622840"/>
            <a:ext cx="153648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orine</a:t>
            </a:r>
            <a:endParaRPr b="0" lang="en-US" sz="2000" spc="-1" strike="noStrike">
              <a:solidFill>
                <a:srgbClr val="000000"/>
              </a:solidFill>
              <a:latin typeface="Arial"/>
            </a:endParaRPr>
          </a:p>
        </p:txBody>
      </p:sp>
      <p:sp>
        <p:nvSpPr>
          <p:cNvPr id="65" name="Line 18"/>
          <p:cNvSpPr/>
          <p:nvPr/>
        </p:nvSpPr>
        <p:spPr>
          <a:xfrm>
            <a:off x="3983040" y="5243400"/>
            <a:ext cx="0" cy="38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8004240" y="5248440"/>
            <a:ext cx="0" cy="365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a:off x="5972040" y="4981680"/>
            <a:ext cx="0" cy="65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3962520" y="5257800"/>
            <a:ext cx="405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2"/>
          <p:cNvSpPr/>
          <p:nvPr/>
        </p:nvSpPr>
        <p:spPr>
          <a:xfrm>
            <a:off x="31680" y="542916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ree are listed; however, hundreds of TICs are potentially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iston Army Depot</a:t>
            </a:r>
            <a:endParaRPr b="0" lang="en-US" sz="3200" spc="-1" strike="noStrike">
              <a:solidFill>
                <a:srgbClr val="000000"/>
              </a:solidFill>
              <a:latin typeface="Arial"/>
            </a:endParaRPr>
          </a:p>
        </p:txBody>
      </p:sp>
      <p:sp>
        <p:nvSpPr>
          <p:cNvPr id="100" name=""/>
          <p:cNvSpPr txBox="1"/>
          <p:nvPr/>
        </p:nvSpPr>
        <p:spPr>
          <a:xfrm>
            <a:off x="152280" y="1218960"/>
            <a:ext cx="8305920" cy="5562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Anniston, AL</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September 201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ster Agent</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as a munitions storage facility in 194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storing approximately 7% of the national chemical warfare agent stockpile in the early 196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the stockpile began in 200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disposal was completed in 2006, VX in 2008, and blister agent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e Bluff Arsenal</a:t>
            </a:r>
            <a:endParaRPr b="0" lang="en-US" sz="3200" spc="-1" strike="noStrike">
              <a:solidFill>
                <a:srgbClr val="000000"/>
              </a:solidFill>
              <a:latin typeface="Arial"/>
            </a:endParaRPr>
          </a:p>
        </p:txBody>
      </p:sp>
      <p:sp>
        <p:nvSpPr>
          <p:cNvPr id="102" name=""/>
          <p:cNvSpPr txBox="1"/>
          <p:nvPr/>
        </p:nvSpPr>
        <p:spPr>
          <a:xfrm>
            <a:off x="75960" y="1066680"/>
            <a:ext cx="8458200" cy="5486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 Closed (Transitioned into a Chemical Agent Disposal faci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pons Stor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Sar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Nerve Ga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 (Distilled Must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disposal completed in 2007, VX in 200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disposal ongo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e Bluff facility now functions as the preeminent Chemical Agent Disposal facility, collecting and destroying chemical munitions and materiel, and decontaminating and recycling ton containers stored at the facil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chemical weapons production facility in the U.S. was destroyed at Pine Bluff in 2006.</a:t>
            </a:r>
            <a:endParaRPr b="0" lang="en-US" sz="1800" spc="-1" strike="noStrike">
              <a:solidFill>
                <a:srgbClr val="000000"/>
              </a:solidFill>
              <a:latin typeface="Arial"/>
            </a:endParaRPr>
          </a:p>
        </p:txBody>
      </p:sp>
      <p:sp>
        <p:nvSpPr>
          <p:cNvPr id="1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30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port Chemical Depot</a:t>
            </a:r>
            <a:endParaRPr b="0" lang="en-US" sz="3200" spc="-1" strike="noStrike">
              <a:solidFill>
                <a:srgbClr val="000000"/>
              </a:solidFill>
              <a:latin typeface="Arial"/>
            </a:endParaRPr>
          </a:p>
        </p:txBody>
      </p:sp>
      <p:sp>
        <p:nvSpPr>
          <p:cNvPr id="105" name=""/>
          <p:cNvSpPr txBox="1"/>
          <p:nvPr/>
        </p:nvSpPr>
        <p:spPr>
          <a:xfrm>
            <a:off x="76320" y="1143000"/>
            <a:ext cx="853416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Newport, I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January 201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warfare materials and chemical agent production facil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used the sole VX production facility in the U.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on of warfare materials stopped in the 1960’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lition of the production facility began in 19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disposal completed in 200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ewood Area of </a:t>
            </a:r>
            <a:br>
              <a:rPr sz="3200"/>
            </a:br>
            <a:r>
              <a:rPr b="0" lang="en-US" sz="3200" spc="-1" strike="noStrike">
                <a:solidFill>
                  <a:srgbClr val="000000"/>
                </a:solidFill>
                <a:latin typeface="Arial"/>
              </a:rPr>
              <a:t>Aberdeen Proving Ground</a:t>
            </a:r>
            <a:endParaRPr b="0" lang="en-US" sz="3200" spc="-1" strike="noStrike">
              <a:solidFill>
                <a:srgbClr val="000000"/>
              </a:solidFill>
              <a:latin typeface="Arial"/>
            </a:endParaRPr>
          </a:p>
        </p:txBody>
      </p:sp>
      <p:sp>
        <p:nvSpPr>
          <p:cNvPr id="107" name=""/>
          <p:cNvSpPr txBox="1"/>
          <p:nvPr/>
        </p:nvSpPr>
        <p:spPr>
          <a:xfrm>
            <a:off x="26640" y="1218960"/>
            <a:ext cx="873612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Edgewood, M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Closed (June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5% of the nation’s original chemical weapons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d in 1917 as the Army’s primary research and development center for equipment and mun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gent storage began in 194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all chemical agents completed Febr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tilla Chemical Depot</a:t>
            </a:r>
            <a:endParaRPr b="0" lang="en-US" sz="3200" spc="-1" strike="noStrike">
              <a:solidFill>
                <a:srgbClr val="000000"/>
              </a:solidFill>
              <a:latin typeface="Arial"/>
            </a:endParaRPr>
          </a:p>
        </p:txBody>
      </p:sp>
      <p:sp>
        <p:nvSpPr>
          <p:cNvPr id="109" name=""/>
          <p:cNvSpPr txBox="1"/>
          <p:nvPr/>
        </p:nvSpPr>
        <p:spPr>
          <a:xfrm>
            <a:off x="152280" y="1066320"/>
            <a:ext cx="8686800" cy="57913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Umatilla, OR</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October 2011)</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B (Sar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 (Distilled Mustard)</a:t>
            </a:r>
            <a:endParaRPr b="0" lang="en-US" sz="2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materiel storage facility for everything from blankets to ammunitio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d to a chemical storage depot in 1962.</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paration for closure, non-chemical supplies were shipped elsewhere from 1990-1994.</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mical munitions were destroyed from 2004-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et Chemical Depot</a:t>
            </a:r>
            <a:endParaRPr b="0" lang="en-US" sz="3200" spc="-1" strike="noStrike">
              <a:solidFill>
                <a:srgbClr val="000000"/>
              </a:solidFill>
              <a:latin typeface="Arial"/>
            </a:endParaRPr>
          </a:p>
        </p:txBody>
      </p:sp>
      <p:sp>
        <p:nvSpPr>
          <p:cNvPr id="111" name=""/>
          <p:cNvSpPr txBox="1"/>
          <p:nvPr/>
        </p:nvSpPr>
        <p:spPr>
          <a:xfrm>
            <a:off x="155520" y="1219320"/>
            <a:ext cx="853128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ion:  Tooele, U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ignation:  Closed (January 2012)</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apons Stored: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B (Sar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 (Tabu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X (Nerve G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 (Sulfur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D (Distilled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 (Mustard/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wisit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tory: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44% of the nation’s original chemical weapons stockpi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disposal began in 1996 and officially ended in January 2012.</a:t>
            </a:r>
            <a:endParaRPr b="0" lang="en-US" sz="2200" spc="-1" strike="noStrike">
              <a:solidFill>
                <a:srgbClr val="000000"/>
              </a:solidFill>
              <a:latin typeface="Arial"/>
            </a:endParaRPr>
          </a:p>
        </p:txBody>
      </p:sp>
      <p:pic>
        <p:nvPicPr>
          <p:cNvPr id="112" name="Picture 2" descr="http://didierruef.photoshelter.com/img/pixel.gif"/>
          <p:cNvPicPr/>
          <p:nvPr/>
        </p:nvPicPr>
        <p:blipFill>
          <a:blip r:embed="rId1"/>
          <a:stretch/>
        </p:blipFill>
        <p:spPr>
          <a:xfrm>
            <a:off x="155520" y="-136440"/>
            <a:ext cx="9720" cy="9360"/>
          </a:xfrm>
          <a:prstGeom prst="rect">
            <a:avLst/>
          </a:prstGeom>
          <a:ln w="0">
            <a:noFill/>
          </a:ln>
        </p:spPr>
      </p:pic>
      <p:pic>
        <p:nvPicPr>
          <p:cNvPr id="113" name="Picture 4" descr="http://didierruef.photoshelter.com/img/pixel.gif"/>
          <p:cNvPicPr/>
          <p:nvPr/>
        </p:nvPicPr>
        <p:blipFill>
          <a:blip r:embed="rId2"/>
          <a:stretch/>
        </p:blipFill>
        <p:spPr>
          <a:xfrm>
            <a:off x="307800" y="15840"/>
            <a:ext cx="9720" cy="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28640" y="15228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ston Atoll Chemical Agent Disposal System </a:t>
            </a:r>
            <a:endParaRPr b="0" lang="en-US" sz="3200" spc="-1" strike="noStrike">
              <a:solidFill>
                <a:srgbClr val="000000"/>
              </a:solidFill>
              <a:latin typeface="Arial"/>
            </a:endParaRPr>
          </a:p>
        </p:txBody>
      </p:sp>
      <p:sp>
        <p:nvSpPr>
          <p:cNvPr id="115" name=""/>
          <p:cNvSpPr txBox="1"/>
          <p:nvPr/>
        </p:nvSpPr>
        <p:spPr>
          <a:xfrm>
            <a:off x="151920" y="1598400"/>
            <a:ext cx="8458200" cy="5121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Johnston Atoll, H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2000)</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Distilled Mustard)</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the first full-scale chemical disposal fac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4 years the facility destroyed over 4 million pounds of chemical warfare ag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ility was dismantled in 2000, but official closure and decontamination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grass Army Depot</a:t>
            </a:r>
            <a:endParaRPr b="0" lang="en-US" sz="3200" spc="-1" strike="noStrike">
              <a:solidFill>
                <a:srgbClr val="000000"/>
              </a:solidFill>
              <a:latin typeface="Arial"/>
            </a:endParaRPr>
          </a:p>
        </p:txBody>
      </p:sp>
      <p:sp>
        <p:nvSpPr>
          <p:cNvPr id="117" name=""/>
          <p:cNvSpPr txBox="1"/>
          <p:nvPr/>
        </p:nvSpPr>
        <p:spPr>
          <a:xfrm>
            <a:off x="152280" y="1142640"/>
            <a:ext cx="8686800" cy="5567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Richmond, 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Active (Scheduled for clo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ard Ag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532 tons of chemical mu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blo Chemical Depot</a:t>
            </a:r>
            <a:endParaRPr b="0" lang="en-US" sz="3200" spc="-1" strike="noStrike">
              <a:solidFill>
                <a:srgbClr val="000000"/>
              </a:solidFill>
              <a:latin typeface="Arial"/>
            </a:endParaRPr>
          </a:p>
        </p:txBody>
      </p:sp>
      <p:sp>
        <p:nvSpPr>
          <p:cNvPr id="119" name=""/>
          <p:cNvSpPr txBox="1"/>
          <p:nvPr/>
        </p:nvSpPr>
        <p:spPr>
          <a:xfrm>
            <a:off x="75960" y="1302840"/>
            <a:ext cx="8381880" cy="527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Pueblo, 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ion:  Active (Scheduled for 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Sto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of the United States’ original chemical stock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ed into a chemical stockpile in 1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agent destruction plant is under co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hemical Weapons</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ter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chemical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 Control/Training 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e have the ability to make and use chemicals and poisonous gas. And those gases and poisons are made of the simplest ingredients, which are available in the pharmacies and we could, as well, smuggle them from one country to another if needed. And this is for use against vital institutions and residential populations."</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Ramzi Yous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23" name="PlaceHolder 2"/>
          <p:cNvSpPr>
            <a:spLocks noGrp="1"/>
          </p:cNvSpPr>
          <p:nvPr>
            <p:ph/>
          </p:nvPr>
        </p:nvSpPr>
        <p:spPr>
          <a:xfrm>
            <a:off x="228600" y="1294920"/>
            <a:ext cx="53928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un (G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B)</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n (G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yclosarin </a:t>
            </a:r>
            <a:r>
              <a:rPr b="0" lang="en-US" sz="3200" spc="-1" strike="noStrike">
                <a:solidFill>
                  <a:srgbClr val="000000"/>
                </a:solidFill>
                <a:latin typeface="Arial"/>
              </a:rPr>
              <a:t>(GF)</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X, VE, VM,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Series</a:t>
            </a:r>
            <a:endParaRPr b="0" lang="en-US" sz="4000" spc="-1" strike="noStrike">
              <a:solidFill>
                <a:srgbClr val="000000"/>
              </a:solidFill>
              <a:latin typeface="Arial"/>
            </a:endParaRPr>
          </a:p>
        </p:txBody>
      </p:sp>
      <p:sp>
        <p:nvSpPr>
          <p:cNvPr id="125" name="PlaceHolder 2"/>
          <p:cNvSpPr>
            <a:spLocks noGrp="1"/>
          </p:cNvSpPr>
          <p:nvPr>
            <p:ph/>
          </p:nvPr>
        </p:nvSpPr>
        <p:spPr>
          <a:xfrm>
            <a:off x="3049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aled or absorbed by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 (volatile g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hickening agent to increase effective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 Serie</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27" name="PlaceHolder 2"/>
          <p:cNvSpPr>
            <a:spLocks noGrp="1"/>
          </p:cNvSpPr>
          <p:nvPr>
            <p:ph/>
          </p:nvPr>
        </p:nvSpPr>
        <p:spPr>
          <a:xfrm>
            <a:off x="380520" y="1218960"/>
            <a:ext cx="861084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for ‘venom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liq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y, odorless, tasteless, looks like motor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br>
              <a:rPr sz="3600"/>
            </a:br>
            <a:r>
              <a:rPr b="0" lang="en-US" sz="3600" spc="-1" strike="noStrike">
                <a:solidFill>
                  <a:srgbClr val="000000"/>
                </a:solidFill>
                <a:latin typeface="Arial"/>
              </a:rPr>
              <a:t>Common Effects and Symptoms</a:t>
            </a:r>
            <a:endParaRPr b="0" lang="en-US" sz="3600" spc="-1" strike="noStrike">
              <a:solidFill>
                <a:srgbClr val="000000"/>
              </a:solidFill>
              <a:latin typeface="Arial"/>
            </a:endParaRPr>
          </a:p>
        </p:txBody>
      </p:sp>
      <p:sp>
        <p:nvSpPr>
          <p:cNvPr id="129" name="PlaceHolder 2"/>
          <p:cNvSpPr>
            <a:spLocks noGrp="1"/>
          </p:cNvSpPr>
          <p:nvPr>
            <p:ph/>
          </p:nvPr>
        </p:nvSpPr>
        <p:spPr>
          <a:xfrm>
            <a:off x="380880" y="1523520"/>
            <a:ext cx="82296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osis (constriction of pupils) and visual ef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d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al con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l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ghtness in the ch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mi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dd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xie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60912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in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sl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ghtma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t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em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dominal cra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rrh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oluntary</a:t>
            </a:r>
            <a:r>
              <a:rPr b="0" lang="en-US" sz="2800" spc="-1" strike="noStrike">
                <a:solidFill>
                  <a:srgbClr val="000000"/>
                </a:solidFill>
                <a:latin typeface="Verdana"/>
                <a:ea typeface="Arial"/>
              </a:rPr>
              <a:t> </a:t>
            </a:r>
            <a:r>
              <a:rPr b="0" lang="en-US" sz="2800" spc="-1" strike="noStrike">
                <a:solidFill>
                  <a:srgbClr val="000000"/>
                </a:solidFill>
                <a:latin typeface="Arial"/>
                <a:ea typeface="Arial"/>
              </a:rPr>
              <a:t>urination and defe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2" name="PlaceHolder 2"/>
          <p:cNvSpPr>
            <a:spLocks noGrp="1"/>
          </p:cNvSpPr>
          <p:nvPr>
            <p:ph/>
          </p:nvPr>
        </p:nvSpPr>
        <p:spPr>
          <a:xfrm>
            <a:off x="304920" y="1295280"/>
            <a:ext cx="4419360" cy="4678560"/>
          </a:xfrm>
          <a:prstGeom prst="rect">
            <a:avLst/>
          </a:prstGeom>
          <a:noFill/>
          <a:ln w="0">
            <a:noFill/>
          </a:ln>
        </p:spPr>
        <p:txBody>
          <a:bodyPr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 or vapor</a:t>
            </a:r>
            <a:endParaRPr b="0" lang="en-US" sz="24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ommercially available</a:t>
            </a:r>
            <a:endParaRPr b="0" lang="en-US" sz="2400" spc="-1" strike="noStrike">
              <a:solidFill>
                <a:srgbClr val="000000"/>
              </a:solidFill>
              <a:latin typeface="Arial"/>
            </a:endParaRPr>
          </a:p>
        </p:txBody>
      </p:sp>
      <p:sp>
        <p:nvSpPr>
          <p:cNvPr id="133" name="Rectangle 6"/>
          <p:cNvSpPr/>
          <p:nvPr/>
        </p:nvSpPr>
        <p:spPr>
          <a:xfrm>
            <a:off x="4933800" y="1295280"/>
            <a:ext cx="4038840" cy="5181840"/>
          </a:xfrm>
          <a:prstGeom prst="rect">
            <a:avLst/>
          </a:prstGeom>
          <a:noFill/>
          <a:ln w="0">
            <a:noFill/>
          </a:ln>
        </p:spPr>
        <p:style>
          <a:lnRef idx="0"/>
          <a:fillRef idx="0"/>
          <a:effectRef idx="0"/>
          <a:fontRef idx="minor"/>
        </p:style>
        <p:txBody>
          <a:bodyPr lIns="90000" rIns="90000" tIns="46800" bIns="46800" anchor="t">
            <a:normAutofit/>
          </a:bodyPr>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gns/Symptoms:   </a:t>
            </a:r>
            <a:endParaRPr b="0" lang="en-US" sz="3100" spc="-1" strike="noStrike">
              <a:solidFill>
                <a:srgbClr val="000000"/>
              </a:solidFill>
              <a:latin typeface="Arial"/>
            </a:endParaRPr>
          </a:p>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LUDGEM </a:t>
            </a:r>
            <a:endParaRPr b="0" lang="en-US" sz="31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iv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rimation or tear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tion </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disorders</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sis or vomit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osis or pin-pointed pup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5" name="PlaceHolder 2"/>
          <p:cNvSpPr>
            <a:spLocks noGrp="1"/>
          </p:cNvSpPr>
          <p:nvPr>
            <p:ph/>
          </p:nvPr>
        </p:nvSpPr>
        <p:spPr>
          <a:xfrm>
            <a:off x="228600" y="1523880"/>
            <a:ext cx="8610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holinesterase inhibitors) interfere with C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ith enzyme acetylcholinesterase and creating an excess of acetylcholine which affects the transmission of nerve impuls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8680" y="609120"/>
            <a:ext cx="9067680" cy="6324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erve agents the most toxic of known chemical ag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 agents are non-persis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 agents are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e G agents can be ‘thickened’ with other materials which will increase their persist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are volatile and some are non-volatile at room tempera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s a relatively volatile liquid (thus, non-persisten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76312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complete volatilization of sarin (GB): mainly a vapor haz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 is a relatively non-volatile liquid, and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 liquid contact haz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Industrial Chemicals (TICs)</a:t>
            </a:r>
            <a:endParaRPr b="0" lang="en-US" sz="3600" spc="-1" strike="noStrike">
              <a:solidFill>
                <a:srgbClr val="000000"/>
              </a:solidFill>
              <a:latin typeface="Arial"/>
            </a:endParaRPr>
          </a:p>
        </p:txBody>
      </p:sp>
      <p:sp>
        <p:nvSpPr>
          <p:cNvPr id="72" name="PlaceHolder 2"/>
          <p:cNvSpPr>
            <a:spLocks noGrp="1"/>
          </p:cNvSpPr>
          <p:nvPr>
            <p:ph/>
          </p:nvPr>
        </p:nvSpPr>
        <p:spPr>
          <a:xfrm>
            <a:off x="456840" y="11430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when cooled and under pressur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when released</a:t>
            </a:r>
            <a:endParaRPr b="0" lang="en-US" sz="2800" spc="-1" strike="noStrike">
              <a:solidFill>
                <a:srgbClr val="000000"/>
              </a:solidFill>
              <a:latin typeface="Arial"/>
            </a:endParaRPr>
          </a:p>
        </p:txBody>
      </p:sp>
      <p:sp>
        <p:nvSpPr>
          <p:cNvPr id="73" name="PlaceHolder 3"/>
          <p:cNvSpPr>
            <a:spLocks noGrp="1"/>
          </p:cNvSpPr>
          <p:nvPr>
            <p:ph/>
          </p:nvPr>
        </p:nvSpPr>
        <p:spPr>
          <a:xfrm>
            <a:off x="4535280" y="1874880"/>
            <a:ext cx="452268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8078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an be absorbed through any of a victim’s body surfac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 y="960120"/>
            <a:ext cx="8991720" cy="521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ular clothing is penetrated by nerve agents whether they occur in a liquid or vapor 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792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nerve agent could be absorbed through the skin, eyes, mouth and membranes of the nose and through the gastrointestinal tract when eaten with food or wa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ute of entry: respiratory trac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28600" y="456840"/>
            <a:ext cx="876312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no treatment available for a nerve agent victim, the person will likely die of a diminished amount of O</a:t>
            </a:r>
            <a:r>
              <a:rPr b="0" lang="en-US" sz="2800" spc="-1" strike="noStrike" baseline="-25000">
                <a:solidFill>
                  <a:srgbClr val="000000"/>
                </a:solidFill>
                <a:latin typeface="Arial"/>
              </a:rPr>
              <a:t>2</a:t>
            </a:r>
            <a:r>
              <a:rPr b="0" lang="en-US" sz="2800" spc="-1" strike="noStrike">
                <a:solidFill>
                  <a:srgbClr val="000000"/>
                </a:solidFill>
                <a:latin typeface="Arial"/>
              </a:rPr>
              <a:t> in blood and tissues resulting fro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way ob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respiration mus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io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1920" y="579240"/>
            <a:ext cx="853452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a patient may survive, even after several lethal doses of nerve ag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ssisted ventilation provi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ways d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ropi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60" y="304920"/>
            <a:ext cx="89838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a very large dose of nerve agent has been acquired quickly, death can occur rapid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e rate is crit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ily exposure to small doses can be cumulative resulting in symptoms after several day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ve clothing is required, consistin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 or SC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RNE suit or full protective clothing (designed to keep gases, vapor, liquids, and solids from any contact with the skin while preventing ingestion or inha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boo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610480" cy="566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 vapor is absorbed slowly through the sk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arin attacks, Tokyo</a:t>
            </a:r>
            <a:br>
              <a:rPr sz="3600"/>
            </a:br>
            <a:endParaRPr b="0" lang="en-US" sz="4000" spc="-1" strike="noStrike">
              <a:solidFill>
                <a:srgbClr val="000000"/>
              </a:solidFill>
              <a:latin typeface="Arial"/>
            </a:endParaRPr>
          </a:p>
        </p:txBody>
      </p:sp>
      <p:sp>
        <p:nvSpPr>
          <p:cNvPr id="148" name="PlaceHolder 2"/>
          <p:cNvSpPr>
            <a:spLocks noGrp="1"/>
          </p:cNvSpPr>
          <p:nvPr>
            <p:ph/>
          </p:nvPr>
        </p:nvSpPr>
        <p:spPr>
          <a:xfrm>
            <a:off x="152280" y="1189080"/>
            <a:ext cx="876312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地下鉄サリン事件 </a:t>
            </a:r>
            <a:r>
              <a:rPr b="0" lang="en-US" sz="2800" spc="-1" strike="noStrike">
                <a:solidFill>
                  <a:srgbClr val="000000"/>
                </a:solidFill>
                <a:latin typeface="Arial"/>
              </a:rPr>
              <a:t>(‘subway sarin incident’) was an act of domestic terrorism perpetrated by members of Aum Shinrikyo, March 20,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52280" y="380880"/>
            <a:ext cx="8839440" cy="647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ive coordinated attacks: conspirators released sarin gas on several lines of the Tokyo Sub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ed 12, seriously injured 54, created vision problems for nearly a thousand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380880"/>
            <a:ext cx="3886200" cy="4525920"/>
          </a:xfrm>
          <a:prstGeom prst="rect">
            <a:avLst/>
          </a:prstGeom>
          <a:noFill/>
          <a:ln w="0">
            <a:noFill/>
          </a:ln>
        </p:spPr>
        <p:txBody>
          <a:bodyPr anchor="t">
            <a:normAutofit fontScale="98000"/>
          </a:bodyPr>
          <a:p>
            <a:pPr marL="3358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offensive smell at high concentrations; new-mown hay at low concs.</a:t>
            </a:r>
            <a:endParaRPr b="0" lang="en-US" sz="2800" spc="-1" strike="noStrike">
              <a:solidFill>
                <a:srgbClr val="000000"/>
              </a:solidFill>
              <a:latin typeface="Arial"/>
            </a:endParaRPr>
          </a:p>
        </p:txBody>
      </p:sp>
      <p:sp>
        <p:nvSpPr>
          <p:cNvPr id="75" name="PlaceHolder 2"/>
          <p:cNvSpPr>
            <a:spLocks noGrp="1"/>
          </p:cNvSpPr>
          <p:nvPr>
            <p:ph/>
          </p:nvPr>
        </p:nvSpPr>
        <p:spPr>
          <a:xfrm>
            <a:off x="4635000" y="1036800"/>
            <a:ext cx="4280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 after 2-6 hours with heav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280" y="304560"/>
            <a:ext cx="8915400" cy="566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ttack directed against trains passing through Kasumigaseki and Nagatacho, home to the Japanese govern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st serious attack in Japan since end of WW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Response?</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not decontamin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did not don appropriate PPE; hence, they also became i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lf-adm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osal of VX</a:t>
            </a:r>
            <a:endParaRPr b="0" lang="en-US" sz="3600" spc="-1" strike="noStrike">
              <a:solidFill>
                <a:srgbClr val="000000"/>
              </a:solidFill>
              <a:latin typeface="Arial"/>
            </a:endParaRPr>
          </a:p>
        </p:txBody>
      </p:sp>
      <p:sp>
        <p:nvSpPr>
          <p:cNvPr id="154" name=""/>
          <p:cNvSpPr txBox="1"/>
          <p:nvPr/>
        </p:nvSpPr>
        <p:spPr>
          <a:xfrm>
            <a:off x="228600" y="1294920"/>
            <a:ext cx="876312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on the US implemented program CHASE (Cut Holes And Sink ‘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program stockpiles of VX and other agents where put into ships and sunk off of the coast of New Jersey, but due to the dangers this was soon abandon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agent is eliminated through the use of chemical neutral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hydrolization, VX was chemically reduced to a less toxic agent, and was subsequently destroyed.</a:t>
            </a:r>
            <a:endParaRPr b="0" lang="en-US" sz="24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ister Agents (Vesicants)</a:t>
            </a:r>
            <a:endParaRPr b="0" lang="en-US" sz="3600" spc="-1" strike="noStrike">
              <a:solidFill>
                <a:srgbClr val="000000"/>
              </a:solidFill>
              <a:latin typeface="Arial"/>
            </a:endParaRPr>
          </a:p>
        </p:txBody>
      </p:sp>
      <p:sp>
        <p:nvSpPr>
          <p:cNvPr id="156" name="PlaceHolder 2"/>
          <p:cNvSpPr>
            <a:spLocks noGrp="1"/>
          </p:cNvSpPr>
          <p:nvPr>
            <p:ph/>
          </p:nvPr>
        </p:nvSpPr>
        <p:spPr>
          <a:xfrm>
            <a:off x="241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yldichloroarsine (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dichloroarsine (M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lewisite Mix (H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yldichloroarsine (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ister Agents (Vesicants)</a:t>
            </a:r>
            <a:endParaRPr b="0" lang="en-US" sz="4400" spc="-1" strike="noStrike">
              <a:solidFill>
                <a:srgbClr val="000000"/>
              </a:solidFill>
              <a:latin typeface="Arial"/>
            </a:endParaRPr>
          </a:p>
        </p:txBody>
      </p:sp>
      <p:sp>
        <p:nvSpPr>
          <p:cNvPr id="158" name="PlaceHolder 2"/>
          <p:cNvSpPr>
            <a:spLocks noGrp="1"/>
          </p:cNvSpPr>
          <p:nvPr>
            <p:ph/>
          </p:nvPr>
        </p:nvSpPr>
        <p:spPr>
          <a:xfrm>
            <a:off x="380520" y="1798200"/>
            <a:ext cx="8153640" cy="4907160"/>
          </a:xfrm>
          <a:prstGeom prst="rect">
            <a:avLst/>
          </a:prstGeom>
          <a:noFill/>
          <a:ln w="0">
            <a:noFill/>
          </a:ln>
        </p:spPr>
        <p:txBody>
          <a:bodyPr anchor="t">
            <a:normAutofit/>
          </a:bodyPr>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vapor</a:t>
            </a:r>
            <a:endParaRPr b="0" lang="en-US" sz="2800" spc="-1" strike="noStrike">
              <a:solidFill>
                <a:srgbClr val="000000"/>
              </a:solidFill>
              <a:latin typeface="Arial"/>
            </a:endParaRPr>
          </a:p>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mercially available</a:t>
            </a:r>
            <a:endParaRPr b="0" lang="en-US" sz="2800" spc="-1" strike="noStrike">
              <a:solidFill>
                <a:srgbClr val="000000"/>
              </a:solidFill>
              <a:latin typeface="Arial"/>
            </a:endParaRPr>
          </a:p>
          <a:p>
            <a:pPr marL="343080" indent="0">
              <a:spcBef>
                <a:spcPts val="2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533520"/>
            <a:ext cx="80769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 (sulfur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N (nitrogen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casual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fighting efficiency due to protective gear wo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kin, eyes,  lung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per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lfur Mustard, HD </a:t>
            </a:r>
            <a:br>
              <a:rPr sz="3600"/>
            </a:br>
            <a:endParaRPr b="0" lang="en-US" sz="3600" spc="-1" strike="noStrike">
              <a:solidFill>
                <a:srgbClr val="000000"/>
              </a:solidFill>
              <a:latin typeface="Arial"/>
            </a:endParaRPr>
          </a:p>
        </p:txBody>
      </p:sp>
      <p:sp>
        <p:nvSpPr>
          <p:cNvPr id="161" name="PlaceHolder 2"/>
          <p:cNvSpPr>
            <a:spLocks noGrp="1"/>
          </p:cNvSpPr>
          <p:nvPr>
            <p:ph/>
          </p:nvPr>
        </p:nvSpPr>
        <p:spPr>
          <a:xfrm>
            <a:off x="304920" y="1417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 (2-chloroethyl) sulfi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baseline="-25000">
                <a:solidFill>
                  <a:srgbClr val="000000"/>
                </a:solidFill>
                <a:latin typeface="Arial"/>
              </a:rPr>
              <a:t>4</a:t>
            </a:r>
            <a:r>
              <a:rPr b="0" lang="en-US" sz="3200" spc="-1" strike="noStrike">
                <a:solidFill>
                  <a:srgbClr val="000000"/>
                </a:solidFill>
                <a:latin typeface="Arial"/>
              </a:rPr>
              <a:t>H</a:t>
            </a:r>
            <a:r>
              <a:rPr b="0" lang="en-US" sz="3200" spc="-1" strike="noStrike" baseline="-25000">
                <a:solidFill>
                  <a:srgbClr val="000000"/>
                </a:solidFill>
                <a:latin typeface="Arial"/>
              </a:rPr>
              <a:t>8</a:t>
            </a:r>
            <a:r>
              <a:rPr b="0" lang="en-US" sz="3200" spc="-1" strike="noStrike">
                <a:solidFill>
                  <a:srgbClr val="000000"/>
                </a:solidFill>
                <a:latin typeface="Arial"/>
              </a:rPr>
              <a:t>Cl</a:t>
            </a:r>
            <a:r>
              <a:rPr b="0" lang="en-US" sz="3200" spc="-1" strike="noStrike" baseline="-25000">
                <a:solidFill>
                  <a:srgbClr val="000000"/>
                </a:solidFill>
                <a:latin typeface="Arial"/>
              </a:rPr>
              <a:t>2</a:t>
            </a:r>
            <a:r>
              <a:rPr b="0" lang="en-US" sz="3200" spc="-1" strike="noStrike">
                <a:solidFill>
                  <a:srgbClr val="000000"/>
                </a:solidFill>
                <a:latin typeface="Arial"/>
              </a:rPr>
              <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1.27 g/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liqu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ty in water: neglig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ting point: 14.4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217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 0.11 mm Hg @ 25 °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1920" y="609480"/>
            <a:ext cx="85345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gent HD is H that has been purified through washing and vacuum distillation to reduce sulfur impur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 supply of sulfur must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on contai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llery sh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uni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685800"/>
            <a:ext cx="8839080" cy="6019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 Agents --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large amounts during World War 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contaminate troops, force enem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ops to wear full protective equipment, reduc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efficienc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240" y="685440"/>
            <a:ext cx="85345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many troops out of service for hours, days, weeks,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eaths limited even though exposure to blister agents can be fat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0880" y="380880"/>
            <a:ext cx="3733920" cy="452592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Carbon tetrachloride</a:t>
            </a:r>
            <a:r>
              <a:rPr b="0" lang="en-US" sz="3100" spc="-1" strike="noStrike">
                <a:solidFill>
                  <a:srgbClr val="000000"/>
                </a:solidFill>
                <a:latin typeface="Arial"/>
              </a:rPr>
              <a:t>   </a:t>
            </a:r>
            <a:r>
              <a:rPr b="0" lang="en-US" sz="2800" spc="-1" strike="noStrike">
                <a:solidFill>
                  <a:srgbClr val="000000"/>
                </a:solidFill>
                <a:latin typeface="Arial"/>
              </a:rPr>
              <a:t>Key ingredient in Freons (Freon 10, Freon R-11, R-12)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a:t>
            </a:r>
            <a:endParaRPr b="0" lang="en-US" sz="2800" spc="-1" strike="noStrike">
              <a:solidFill>
                <a:srgbClr val="000000"/>
              </a:solidFill>
              <a:latin typeface="Arial"/>
            </a:endParaRPr>
          </a:p>
        </p:txBody>
      </p:sp>
      <p:sp>
        <p:nvSpPr>
          <p:cNvPr id="77" name="PlaceHolder 2"/>
          <p:cNvSpPr>
            <a:spLocks noGrp="1"/>
          </p:cNvSpPr>
          <p:nvPr>
            <p:ph/>
          </p:nvPr>
        </p:nvSpPr>
        <p:spPr>
          <a:xfrm>
            <a:off x="4647960" y="1265400"/>
            <a:ext cx="4343400" cy="4525920"/>
          </a:xfrm>
          <a:prstGeom prst="rect">
            <a:avLst/>
          </a:prstGeom>
          <a:noFill/>
          <a:ln w="0">
            <a:noFill/>
          </a:ln>
        </p:spPr>
        <p:txBody>
          <a:bodyPr anchor="t">
            <a:normAutofit fontScale="92000"/>
          </a:bodyPr>
          <a:p>
            <a:pPr marL="315360" indent="-31536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a:p>
            <a:pPr marL="315360" indent="-31536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Adverse effects on central nervous system and brain, headaches, dizziness, nausea, liver and kidney damage, blurred vision, coma, dea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304920"/>
            <a:ext cx="84582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ersistent agent retains casualty-producing effects from minutes to day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istence of chemical agents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ag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terr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id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persistent agents dissipate or vaporize rapidly after release, are a short-duration haz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304920"/>
            <a:ext cx="853452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increases in wooded, rather than open terrain (why is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longer in winter than summ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at from vapor increases under hot conditions, decreases with cool                       tempera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evant Properties of </a:t>
            </a:r>
            <a:br>
              <a:rPr sz="3600"/>
            </a:br>
            <a:r>
              <a:rPr b="0" lang="en-US" sz="3600" spc="-1" strike="noStrike">
                <a:solidFill>
                  <a:srgbClr val="000000"/>
                </a:solidFill>
                <a:latin typeface="Arial"/>
              </a:rPr>
              <a:t>Chemical Weapons</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a:t>
            </a:r>
            <a:r>
              <a:rPr b="0" lang="en-US" sz="3200" spc="-1" strike="noStrike" baseline="-25000">
                <a:solidFill>
                  <a:srgbClr val="000000"/>
                </a:solidFill>
                <a:latin typeface="Arial"/>
              </a:rPr>
              <a:t>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25000">
                <a:solidFill>
                  <a:srgbClr val="000000"/>
                </a:solidFill>
                <a:latin typeface="Arial"/>
              </a:rPr>
              <a:t>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dens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81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persistent on a cold day? </a:t>
            </a:r>
            <a:br>
              <a:rPr sz="2800"/>
            </a:br>
            <a:r>
              <a:rPr b="0" lang="en-US" sz="2800" spc="-1" strike="noStrike">
                <a:solidFill>
                  <a:srgbClr val="000000"/>
                </a:solidFill>
                <a:latin typeface="Arial"/>
              </a:rPr>
              <a:t>A hot day?</a:t>
            </a:r>
            <a:endParaRPr b="0" lang="en-US" sz="2800" spc="-1" strike="noStrike">
              <a:solidFill>
                <a:srgbClr val="000000"/>
              </a:solidFill>
              <a:latin typeface="Arial"/>
            </a:endParaRPr>
          </a:p>
        </p:txBody>
      </p:sp>
      <p:sp>
        <p:nvSpPr>
          <p:cNvPr id="170" name="PlaceHolder 2"/>
          <p:cNvSpPr>
            <a:spLocks noGrp="1"/>
          </p:cNvSpPr>
          <p:nvPr>
            <p:ph/>
          </p:nvPr>
        </p:nvSpPr>
        <p:spPr>
          <a:xfrm>
            <a:off x="457200" y="53352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mm H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dens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rav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ity, mg/m</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2,000</a:t>
            </a:r>
            <a:r>
              <a:rPr b="0" lang="en-US" sz="2400" spc="-1" strike="noStrike">
                <a:solidFill>
                  <a:srgbClr val="000000"/>
                </a:solidFill>
                <a:latin typeface="Arial"/>
              </a:rPr>
              <a:t>	</a:t>
            </a:r>
            <a:r>
              <a:rPr b="0" lang="en-US" sz="2400" spc="-1" strike="noStrike">
                <a:solidFill>
                  <a:srgbClr val="000000"/>
                </a:solidFill>
                <a:latin typeface="Arial"/>
              </a:rPr>
              <a:t>6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Straight Connector 2"/>
          <p:cNvSpPr/>
          <p:nvPr/>
        </p:nvSpPr>
        <p:spPr>
          <a:xfrm>
            <a:off x="4952880" y="11430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6"/>
          <p:cNvSpPr/>
          <p:nvPr/>
        </p:nvSpPr>
        <p:spPr>
          <a:xfrm>
            <a:off x="533520" y="4952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8"/>
          <p:cNvSpPr/>
          <p:nvPr/>
        </p:nvSpPr>
        <p:spPr>
          <a:xfrm>
            <a:off x="387360" y="380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ology</a:t>
            </a:r>
            <a:endParaRPr b="0" lang="en-US" sz="3600" spc="-1" strike="noStrike">
              <a:solidFill>
                <a:srgbClr val="000000"/>
              </a:solidFill>
              <a:latin typeface="Arial"/>
            </a:endParaRPr>
          </a:p>
        </p:txBody>
      </p:sp>
      <p:sp>
        <p:nvSpPr>
          <p:cNvPr id="175" name="PlaceHolder 2"/>
          <p:cNvSpPr>
            <a:spLocks noGrp="1"/>
          </p:cNvSpPr>
          <p:nvPr>
            <p:ph/>
          </p:nvPr>
        </p:nvSpPr>
        <p:spPr>
          <a:xfrm>
            <a:off x="304920" y="1218960"/>
            <a:ext cx="853416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all persons respond in the same manner to any chemical ag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8600" y="533160"/>
            <a:ext cx="86868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lewisite (L) and phosgene oxime (CX) are immediately painf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agents may cause little or no pain for hours after expos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H and HD) is used primarily to bring about delayed casua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28600" y="6091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lfur mustard exposure attacks the skin/eyes/ respiratory tract, but a victim can remain symptom-free for some time after exposur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Blister Agents</a:t>
            </a:r>
            <a:endParaRPr b="0" lang="en-US" sz="4000" spc="-1" strike="noStrike">
              <a:solidFill>
                <a:srgbClr val="000000"/>
              </a:solidFill>
              <a:latin typeface="Arial"/>
            </a:endParaRPr>
          </a:p>
        </p:txBody>
      </p:sp>
      <p:sp>
        <p:nvSpPr>
          <p:cNvPr id="179" name="PlaceHolder 2"/>
          <p:cNvSpPr>
            <a:spLocks noGrp="1"/>
          </p:cNvSpPr>
          <p:nvPr>
            <p:ph/>
          </p:nvPr>
        </p:nvSpPr>
        <p:spPr>
          <a:xfrm>
            <a:off x="228600" y="10663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of expo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ondition of victim before expo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ffect length of time before symptoms appear and severity of skin blis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1764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ng troops have better survival rates in a chemical agent attack than older civili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talk about terrorism, WMDs, etc. must think of casualties as </a:t>
            </a:r>
            <a:r>
              <a:rPr b="0" lang="en-US" sz="3200" spc="-1" strike="noStrike" u="sng">
                <a:solidFill>
                  <a:srgbClr val="000000"/>
                </a:solidFill>
                <a:uFillTx/>
                <a:latin typeface="Arial"/>
              </a:rPr>
              <a:t>civilians</a:t>
            </a:r>
            <a:r>
              <a:rPr b="0" lang="en-US" sz="3200" spc="-1" strike="noStrike">
                <a:solidFill>
                  <a:srgbClr val="000000"/>
                </a:solidFill>
                <a:latin typeface="Arial"/>
              </a:rPr>
              <a:t> who are likely not going to survive as well as young, fit military troo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nd health of a population are some of the factors to consider in assessing reactions to mustard g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80880" y="914400"/>
            <a:ext cx="373392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Freon 10, R-11 and R12 now banned, though carbon tetrachloride still commercially available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Ether or chloroform</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0" y="990720"/>
            <a:ext cx="4075200" cy="4525920"/>
          </a:xfrm>
          <a:prstGeom prst="rect">
            <a:avLst/>
          </a:prstGeom>
          <a:noFill/>
          <a:ln w="0">
            <a:noFill/>
          </a:ln>
        </p:spPr>
        <p:txBody>
          <a:bodyPr anchor="t">
            <a:normAutofit/>
          </a:bodyPr>
          <a:p>
            <a:pPr marL="343080" indent="-34308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arcinogenic in animals; causes mutations in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655560"/>
            <a:ext cx="8229600" cy="58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tract is subject to mustard attacks on the mucous membra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ard gas causes depletion of all elements of bone marrow and temporary blind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s may have lengthy psychological proble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de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libi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lfur mustard is a known carcinog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ffective medical care exists for persons with mustard agent exposure and les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55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cin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o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p:txBody>
      </p:sp>
      <p:sp>
        <p:nvSpPr>
          <p:cNvPr id="186"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e is directed toward relieving symptoms and preventing infections in order to promote h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0" y="1219320"/>
            <a:ext cx="86868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ders should understand principles of </a:t>
            </a:r>
            <a:r>
              <a:rPr b="1" lang="en-US" sz="3200" spc="-1" strike="noStrike">
                <a:solidFill>
                  <a:srgbClr val="000000"/>
                </a:solidFill>
                <a:latin typeface="Arial"/>
              </a:rPr>
              <a:t>toxicology</a:t>
            </a:r>
            <a:r>
              <a:rPr b="0" lang="en-US" sz="3200" spc="-1" strike="noStrike">
                <a:solidFill>
                  <a:srgbClr val="000000"/>
                </a:solidFill>
                <a:latin typeface="Arial"/>
              </a:rPr>
              <a:t>, the scientific discipline of the effects, antidotes, detection, and other studies related to poi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 and nitrogen must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N-3) are serious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ly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the skin/eyes/respiratory 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t to drugs that may counter such eff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must rely on PPE and respirator or SCB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1" name="PlaceHolder 2"/>
          <p:cNvSpPr>
            <a:spLocks noGrp="1"/>
          </p:cNvSpPr>
          <p:nvPr>
            <p:ph/>
          </p:nvPr>
        </p:nvSpPr>
        <p:spPr>
          <a:xfrm>
            <a:off x="457200" y="1295280"/>
            <a:ext cx="83059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ctims contaminated with blister agents create a danger to those around the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staff having contact with contaminated persons must wear full PPE (remember sarin response, Toky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tamination must be done outdoors to prevent vapor accumulation indo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3" name="PlaceHolder 2"/>
          <p:cNvSpPr>
            <a:spLocks noGrp="1"/>
          </p:cNvSpPr>
          <p:nvPr>
            <p:ph/>
          </p:nvPr>
        </p:nvSpPr>
        <p:spPr>
          <a:xfrm>
            <a:off x="228240" y="1295280"/>
            <a:ext cx="85345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parate contaminated persons from those uncontami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 should be carried out on equipment and vehicles used to treat or transport victi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Medical Management</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Management is supportiv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The skin lesions should be managed in the same way that a necrotic ulcerated lesion from another cause would be manag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r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lori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corrosive smell</a:t>
            </a:r>
            <a:endParaRPr b="0" lang="en-US" sz="2800" spc="-1" strike="noStrike">
              <a:solidFill>
                <a:srgbClr val="000000"/>
              </a:solidFill>
              <a:latin typeface="Arial"/>
            </a:endParaRPr>
          </a:p>
        </p:txBody>
      </p:sp>
      <p:sp>
        <p:nvSpPr>
          <p:cNvPr id="81" name="PlaceHolder 2"/>
          <p:cNvSpPr>
            <a:spLocks noGrp="1"/>
          </p:cNvSpPr>
          <p:nvPr>
            <p:ph/>
          </p:nvPr>
        </p:nvSpPr>
        <p:spPr>
          <a:xfrm>
            <a:off x="4495680" y="1569960"/>
            <a:ext cx="4523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Agents</a:t>
            </a:r>
            <a:endParaRPr b="0" lang="en-US" sz="4000" spc="-1" strike="noStrike">
              <a:solidFill>
                <a:srgbClr val="000000"/>
              </a:solidFill>
              <a:latin typeface="Arial"/>
            </a:endParaRPr>
          </a:p>
        </p:txBody>
      </p:sp>
      <p:sp>
        <p:nvSpPr>
          <p:cNvPr id="198"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ine (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nogen chloride (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cyanide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 Agents</a:t>
            </a:r>
            <a:endParaRPr b="0" lang="en-US" sz="3600" spc="-1" strike="noStrike">
              <a:solidFill>
                <a:srgbClr val="000000"/>
              </a:solidFill>
              <a:latin typeface="Arial"/>
            </a:endParaRPr>
          </a:p>
        </p:txBody>
      </p:sp>
      <p:sp>
        <p:nvSpPr>
          <p:cNvPr id="200" name="PlaceHolder 2"/>
          <p:cNvSpPr>
            <a:spLocks noGrp="1"/>
          </p:cNvSpPr>
          <p:nvPr>
            <p:ph/>
          </p:nvPr>
        </p:nvSpPr>
        <p:spPr>
          <a:xfrm>
            <a:off x="304920" y="1219320"/>
            <a:ext cx="8534160" cy="49068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Gasping for air, frothing or vomiting, nausea, stupor, coma, and death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s available, but must be delivered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drogen Cyanid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transfer of oxygen to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s gas mask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609480"/>
            <a:ext cx="86868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s by interfering with cell respiration (exchange of O</a:t>
            </a:r>
            <a:r>
              <a:rPr b="0" lang="en-US" sz="2800" spc="-1" strike="noStrike" baseline="-25000">
                <a:solidFill>
                  <a:srgbClr val="000000"/>
                </a:solidFill>
                <a:latin typeface="Arial"/>
              </a:rPr>
              <a:t>2</a:t>
            </a:r>
            <a:r>
              <a:rPr b="0" lang="en-US" sz="2800" spc="-1" strike="noStrike">
                <a:solidFill>
                  <a:srgbClr val="000000"/>
                </a:solidFill>
                <a:latin typeface="Arial"/>
              </a:rPr>
              <a:t> and CO</a:t>
            </a:r>
            <a:r>
              <a:rPr b="0" lang="en-US" sz="2800" spc="-1" strike="noStrike" baseline="-25000">
                <a:solidFill>
                  <a:srgbClr val="000000"/>
                </a:solidFill>
                <a:latin typeface="Arial"/>
              </a:rPr>
              <a:t>2</a:t>
            </a:r>
            <a:r>
              <a:rPr b="0" lang="en-US" sz="2800" spc="-1" strike="noStrike">
                <a:solidFill>
                  <a:srgbClr val="000000"/>
                </a:solidFill>
                <a:latin typeface="Arial"/>
              </a:rPr>
              <a:t> between blood and t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blocks the use of O</a:t>
            </a:r>
            <a:r>
              <a:rPr b="0" lang="en-US" sz="2800" spc="-1" strike="noStrike" baseline="-25000">
                <a:solidFill>
                  <a:srgbClr val="000000"/>
                </a:solidFill>
                <a:latin typeface="Arial"/>
              </a:rPr>
              <a:t>2</a:t>
            </a:r>
            <a:r>
              <a:rPr b="0" lang="en-US" sz="2800" spc="-1" strike="noStrike">
                <a:solidFill>
                  <a:srgbClr val="000000"/>
                </a:solidFill>
                <a:latin typeface="Arial"/>
              </a:rPr>
              <a:t> in cells, causing asphyxiation in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SA) interferes with blood and damages the liver and kidney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exposure could cause anem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is a carcinog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28240" y="380880"/>
            <a:ext cx="8458200" cy="559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vapor used, little need for decontamination; if liquid is present, wash skin promptly to remove contam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U.S. Army Medical Research Institute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fectious Diseases (USAMRI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456840"/>
            <a:ext cx="845820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yanide liquid is absorbed through the skin can continue to penetrate the bloodstrea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monary (Choking) Agents</a:t>
            </a:r>
            <a:endParaRPr b="0" lang="en-US" sz="4000" spc="-1" strike="noStrike">
              <a:solidFill>
                <a:srgbClr val="000000"/>
              </a:solidFill>
              <a:latin typeface="Arial"/>
            </a:endParaRPr>
          </a:p>
        </p:txBody>
      </p:sp>
      <p:sp>
        <p:nvSpPr>
          <p:cNvPr id="207" name="PlaceHolder 2"/>
          <p:cNvSpPr>
            <a:spLocks noGrp="1"/>
          </p:cNvSpPr>
          <p:nvPr>
            <p:ph/>
          </p:nvPr>
        </p:nvSpPr>
        <p:spPr>
          <a:xfrm>
            <a:off x="304920" y="1447920"/>
            <a:ext cx="5163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ately 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king Agents</a:t>
            </a:r>
            <a:endParaRPr b="0" lang="en-US" sz="4000" spc="-1" strike="noStrike">
              <a:solidFill>
                <a:srgbClr val="000000"/>
              </a:solidFill>
              <a:latin typeface="Arial"/>
            </a:endParaRPr>
          </a:p>
        </p:txBody>
      </p:sp>
      <p:sp>
        <p:nvSpPr>
          <p:cNvPr id="209" name="PlaceHolder 2"/>
          <p:cNvSpPr>
            <a:spLocks noGrp="1"/>
          </p:cNvSpPr>
          <p:nvPr>
            <p:ph/>
          </p:nvPr>
        </p:nvSpPr>
        <p:spPr>
          <a:xfrm>
            <a:off x="228240" y="1371600"/>
            <a:ext cx="8458200" cy="5029200"/>
          </a:xfrm>
          <a:prstGeom prst="rect">
            <a:avLst/>
          </a:prstGeom>
          <a:noFill/>
          <a:ln w="0">
            <a:noFill/>
          </a:ln>
        </p:spPr>
        <p:txBody>
          <a:bodyPr anchor="t">
            <a:normAutofit/>
          </a:bodyPr>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Irritation of airway from nose to lungs, pulmonary edema, coughing, skin lesions (if liquid touches skin),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609480"/>
            <a:ext cx="838188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monary (choking) agents cause physical injury to the lungs through inha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s may swell and lungs may become filled with liquid, and, in serious cases, lack of O</a:t>
            </a:r>
            <a:r>
              <a:rPr b="0" lang="en-US" sz="3200" spc="-1" strike="noStrike" baseline="-25000">
                <a:solidFill>
                  <a:srgbClr val="000000"/>
                </a:solidFill>
                <a:latin typeface="Arial"/>
              </a:rPr>
              <a:t>2</a:t>
            </a:r>
            <a:r>
              <a:rPr b="0" lang="en-US" sz="3200" spc="-1" strike="noStrike">
                <a:solidFill>
                  <a:srgbClr val="000000"/>
                </a:solidFill>
                <a:latin typeface="Arial"/>
              </a:rPr>
              <a:t> causes dea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Cs When Used as a Weapon</a:t>
            </a:r>
            <a:endParaRPr b="0" lang="en-US" sz="3600" spc="-1" strike="noStrike">
              <a:solidFill>
                <a:srgbClr val="000000"/>
              </a:solidFill>
              <a:latin typeface="Arial"/>
            </a:endParaRPr>
          </a:p>
        </p:txBody>
      </p:sp>
      <p:sp>
        <p:nvSpPr>
          <p:cNvPr id="83" name="PlaceHolder 2"/>
          <p:cNvSpPr>
            <a:spLocks noGrp="1"/>
          </p:cNvSpPr>
          <p:nvPr>
            <p:ph/>
          </p:nvPr>
        </p:nvSpPr>
        <p:spPr>
          <a:xfrm>
            <a:off x="75960" y="1294920"/>
            <a:ext cx="883908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sands of chemicals can be used as a terrorist weap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ommon, commercially-available substances can be used successfully in an act of terro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s, solids, gases</a:t>
            </a:r>
            <a:endParaRPr b="0" lang="en-US" sz="2400" spc="-1" strike="noStrike">
              <a:solidFill>
                <a:srgbClr val="000000"/>
              </a:solidFill>
              <a:latin typeface="Arial"/>
            </a:endParaRPr>
          </a:p>
        </p:txBody>
      </p:sp>
      <p:sp>
        <p:nvSpPr>
          <p:cNvPr id="84" name="Rectangle 6"/>
          <p:cNvSpPr/>
          <p:nvPr/>
        </p:nvSpPr>
        <p:spPr>
          <a:xfrm>
            <a:off x="457200" y="4419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Commercially available and often a ‘sof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560" y="456840"/>
            <a:ext cx="838188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CG) was big killer in World War I (80% of all chemical fata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is a corrosive and highly toxic gas that leads to ‘dry land drowning’ through pulmonary edema which can occur up to 48 hours after expos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ous skin irritant, produces acute lesions similar to those from frostbite or bur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r>
              <a:rPr b="0" lang="en-US" sz="2800" spc="-1" strike="noStrike" baseline="-25000">
                <a:solidFill>
                  <a:srgbClr val="000000"/>
                </a:solidFill>
                <a:latin typeface="Arial"/>
              </a:rPr>
              <a:t>(aq)</a:t>
            </a:r>
            <a:r>
              <a:rPr b="0" lang="en-US" sz="2800" spc="-1" strike="noStrike">
                <a:solidFill>
                  <a:srgbClr val="000000"/>
                </a:solidFill>
                <a:latin typeface="Arial"/>
              </a:rPr>
              <a:t> and CO form through its decomposi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decomposition releases toxic and/or hazardous ga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chemical Agent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pacitating a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by food/water or aeros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rmanent injury, </a:t>
            </a:r>
            <a:r>
              <a:rPr b="0" i="1" lang="en-US" sz="2800" spc="-1" strike="noStrike">
                <a:solidFill>
                  <a:srgbClr val="000000"/>
                </a:solidFill>
                <a:latin typeface="Arial"/>
              </a:rPr>
              <a:t>lasts for d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ersistent in food/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persistent in va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ot Control</a:t>
            </a:r>
            <a:endParaRPr b="0" lang="en-US" sz="40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eth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incapacitation without permanent harm (&lt;2h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rritant to mucous membra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 gas (solid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r gas or vomit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rorist Use of Chemical Agents: </a:t>
            </a:r>
            <a:r>
              <a:rPr b="0" lang="en-US" sz="3200" spc="-1" strike="noStrike">
                <a:solidFill>
                  <a:srgbClr val="000000"/>
                </a:solidFill>
                <a:latin typeface="Arial"/>
              </a:rPr>
              <a:t>Exposure, Dissemination,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457200"/>
            <a:ext cx="91440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hemical weapons work ‘optimally’ when used against untrained people and unprotected targ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a:t>
            </a:r>
            <a:r>
              <a:rPr b="0" i="1" lang="en-US" sz="2800" spc="-1" strike="noStrike">
                <a:solidFill>
                  <a:srgbClr val="000000"/>
                </a:solidFill>
                <a:latin typeface="Arial"/>
              </a:rPr>
              <a:t>warfare</a:t>
            </a:r>
            <a:r>
              <a:rPr b="0" lang="en-US" sz="2800" spc="-1" strike="noStrike">
                <a:solidFill>
                  <a:srgbClr val="000000"/>
                </a:solidFill>
                <a:latin typeface="Arial"/>
              </a:rPr>
              <a:t> attacks, by their very nature, seriously affect warfare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r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effici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for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agents are distribu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m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upplies/reservo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304560"/>
            <a:ext cx="9144000" cy="65530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cators of a Possible Chemical Incid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 animals: numerous animals (wild, domestic, small, large), birds and fish in same ar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insect life:  If normal insect activity (ground, air, water) missing, check ground, water, shoreline etc. for dead ins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60" y="609480"/>
            <a:ext cx="8915400" cy="655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ar water: check for dead fish, aqua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8:54Z</dcterms:created>
  <dc:creator>Computing Services</dc:creator>
  <dc:description/>
  <dc:language>en-US</dc:language>
  <cp:lastModifiedBy>Pichtel, John</cp:lastModifiedBy>
  <dcterms:modified xsi:type="dcterms:W3CDTF">2015-09-29T13:22:33Z</dcterms:modified>
  <cp:revision>152</cp:revision>
  <dc:subject/>
  <dc:title>CHEMICAL WEAPONS DENIED</dc:title>
</cp:coreProperties>
</file>