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35E-742C-4C7E-B242-F8E19701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2E8-B00E-45AB-82FB-5F911B272F63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D6E4-F3EB-42F2-B9B7-182452097F0E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67D-8657-4E0D-9C6E-D36A1B1D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0B64-0A8C-4E33-B570-AEE05CA4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D7F-B92E-462B-986D-81B345F0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99DA-22A3-4DE3-B35F-8796553B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F90-A797-479A-9249-E1926EC2423D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EB2-F20D-4AEB-8139-6031B188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80A6-AAA8-4081-924A-1FB01B8379D7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C2E7-F40A-4A09-A612-66F16FB8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730-3FFF-4FAD-97EA-91A0F200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562-2D9A-4E9E-A518-B7EA46EC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D53-8167-4AC6-9FE0-148F2F20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999-97A0-43F4-A26F-756C05EF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569-881B-4FEE-AFAD-CDCFAB70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621-BA96-4C8E-A74F-AE080571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F5C-4C77-4EFE-9C17-68D04CCC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7BF-60E2-4A50-8B02-5577556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7C3-BE0A-4168-B1A0-D70C650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258-0C87-42A3-964D-54805E7E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06D-3C66-4902-AC39-EA14446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643-F344-4BE2-8E26-38AA624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E2D-E7BE-4DBD-8385-8D4A37F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871D-2E8E-4FE5-A8CF-60D6468A1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A401-6695-43AD-8597-3669A7BAE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C56D-1AF3-444F-A251-9F4305692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55720" y="131760"/>
            <a:ext cx="7373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c00000"/>
                </a:solidFill>
                <a:latin typeface="Arial"/>
              </a:rPr>
              <a:t>Chapter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0ac2"/>
                </a:solidFill>
                <a:latin typeface="Arial"/>
              </a:rPr>
              <a:t>OTFT Parameters, Structures, Models, Materials, Fabrication and Applications - A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914400" y="1432080"/>
            <a:ext cx="777240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871720" y="1467000"/>
            <a:ext cx="3376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6320" y="743040"/>
          <a:ext cx="8991360" cy="6038640"/>
        </p:xfrm>
        <a:graphic>
          <a:graphicData uri="http://schemas.openxmlformats.org/drawingml/2006/table">
            <a:tbl>
              <a:tblPr/>
              <a:tblGrid>
                <a:gridCol w="2624040"/>
                <a:gridCol w="2806560"/>
                <a:gridCol w="3560760"/>
              </a:tblGrid>
              <a:tr h="4392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C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RGANIC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O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mer/Small molecule based organic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icon based inorganic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harge carrier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rons and Exci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 carriers through electrons, holes and 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Charge Transpor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band 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Mobilit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6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cm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V.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2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m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V.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Bond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onic, Covalent and Van-der waal fo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onic, Covalent, metall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Co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5/ft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00/ft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Fabrication Cos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 - $ 10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Temperature Rang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temp  (30 – 120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er than 1050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Device Siz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ft X Roll to R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than 1m</a:t>
                      </a:r>
                      <a:r>
                        <a:rPr b="0" lang="en-IN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Subs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 Plastic Subs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id Glass or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108b4"/>
                </a:solidFill>
                <a:latin typeface="Calibri"/>
              </a:rPr>
              <a:t>Difference Between Organic and Inorganic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152280" y="53352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440"/>
          <a:ext cx="9150480" cy="6442200"/>
        </p:xfrm>
        <a:graphic>
          <a:graphicData uri="http://schemas.openxmlformats.org/drawingml/2006/table">
            <a:tbl>
              <a:tblPr/>
              <a:tblGrid>
                <a:gridCol w="2814480"/>
                <a:gridCol w="2961000"/>
                <a:gridCol w="3375000"/>
              </a:tblGrid>
              <a:tr h="5713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 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C MATER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RGANIC MATER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Process Condition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 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tra Clean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Proces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ous direct pri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–step photo lith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1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Biodegradabilit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egradable being made from 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biodegrad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1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Compatibilit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flexible or plastic subst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compatible with plastic or flexible subs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75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Free Carrier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not support free electrons and holes instead have Polarons and exci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 carriers in form of electrons and ho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 Effective Mas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380880" y="816120"/>
            <a:ext cx="4419720" cy="2993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04920" y="45720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新細明體"/>
              </a:rPr>
              <a:t>Transfer (I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alibri"/>
                <a:ea typeface="新細明體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新細明體"/>
              </a:rPr>
              <a:t>-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alibri"/>
                <a:ea typeface="新細明體"/>
              </a:rPr>
              <a:t>g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新細明體"/>
              </a:rPr>
              <a:t>)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105520" y="838080"/>
            <a:ext cx="38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Field Effect Mobility (μ) [cm</a:t>
            </a:r>
            <a:r>
              <a:rPr b="1" lang="en-US" sz="1400" spc="-1" strike="noStrike" baseline="20000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/V.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667480" y="40384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ub-threshold Slope (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657760" y="3211560"/>
            <a:ext cx="2952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hreshold Voltage (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562720" y="3672000"/>
            <a:ext cx="33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On/Off Current Ratio (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/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of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5105520" y="1314360"/>
          <a:ext cx="1828800" cy="8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314360"/>
                    <a:ext cx="1828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5562720" y="457200"/>
            <a:ext cx="30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新細明體"/>
              </a:rPr>
              <a:t>Performance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2971800" y="457200"/>
            <a:ext cx="28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saturation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OTFTs Performance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23"/>
          <p:cNvSpPr/>
          <p:nvPr/>
        </p:nvSpPr>
        <p:spPr>
          <a:xfrm>
            <a:off x="8686800" y="638172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2E56-8CBF-4F59-9CAC-961372676E09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-15408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715000" y="5486400"/>
            <a:ext cx="309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ransconductance (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-15408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-15408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3951360"/>
            <a:ext cx="52578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Performance of an OTFT is characterized in terms of several conventional parameters,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Field effect mobilit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Threshold voltag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n/off current rat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ub-threshold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Transconduct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7010280" y="1295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38680" y="2138400"/>
                <a:ext cx="26924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sat</m:t>
                                        </m:r>
                                      </m:sub>
                                    </m:sSub>
                                  </m:e>
                                </m:ra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6137280" y="4495680"/>
                <a:ext cx="1940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6413400" y="5867280"/>
                <a:ext cx="135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li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Straight Connector 21"/>
          <p:cNvSpPr/>
          <p:nvPr/>
        </p:nvSpPr>
        <p:spPr>
          <a:xfrm>
            <a:off x="152280" y="4366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新細明體"/>
              </a:rPr>
              <a:t>Factors Influencing OTFTs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838080"/>
          <a:ext cx="9144000" cy="5410440"/>
        </p:xfrm>
        <a:graphic>
          <a:graphicData uri="http://schemas.openxmlformats.org/drawingml/2006/table">
            <a:tbl>
              <a:tblPr/>
              <a:tblGrid>
                <a:gridCol w="3595680"/>
                <a:gridCol w="5548320"/>
              </a:tblGrid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formance 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minant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bility (Hig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brication Technique, Impurity, Gate Biasing, Material for Semicond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 – Current (Hig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/L , Mobility, Contact Resistance, Channel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ff - Current (Lo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/L, Gate Insulator, Contact Re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reshold Voltage (Lo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annel Length, Thickness of  Semiconductor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-Threshold Slope (Steep Slop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pacitance &amp; Thickness of Insul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ain /Source and Gate Bia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act Resistance (Lo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ucture of PTFT Channel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Slide Number Placeholder 14"/>
          <p:cNvSpPr/>
          <p:nvPr/>
        </p:nvSpPr>
        <p:spPr>
          <a:xfrm>
            <a:off x="8686800" y="638172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100-5AFF-4704-8F94-67D677A71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115920"/>
            <a:ext cx="851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38040" y="988920"/>
            <a:ext cx="88059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arget: &gt;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/Vs on/off ratio &gt;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新細明體"/>
              </a:rPr>
              <a:t>6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r n type or p/n type Organic Semico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njugated π-Electron System, High Electron Affinity ( for n type) or ambipolar Characteristics (for p/n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ood Intermolecular Electronic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ood Film Forming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hemical P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Material Requirements for OT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12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FDC-8551-4A3C-A492-64D16C6E8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47680" y="422280"/>
          <a:ext cx="8915400" cy="5878440"/>
        </p:xfrm>
        <a:graphic>
          <a:graphicData uri="http://schemas.openxmlformats.org/drawingml/2006/table">
            <a:tbl>
              <a:tblPr/>
              <a:tblGrid>
                <a:gridCol w="2057400"/>
                <a:gridCol w="4191120"/>
                <a:gridCol w="2666880"/>
              </a:tblGrid>
              <a:tr h="57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c ( PTFTs / OTFTS/OF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rganic (MOSFETs/TF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strat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PET-Polyethylene Terephthlat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PEN –Polyethylene Naphthalate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Klauk et al. 2003etc.(High Toughness &amp; thermal resistance, Flexibility, Light we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licon waf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High Melting Point, good flatness, Low Diffusivity of chem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Electr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ld,Platinum,Al,Mg,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algun Gothic"/>
                        </a:rPr>
                        <a:t>source/drain metal with large work function matched with either HOMO or LUMO. Polymer contact-PEDOT:P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ls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Au, 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miconducting Layer (Channel/ Thin Fil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c Semiconduc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th  electrical 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3HT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Poly(-3-hexylthiophene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3AT-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y (3-alkylthiophen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3OT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 (3-octylthiophe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ntacene: good electrical Propt.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a-Si:H, 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electric 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algun Gothic"/>
                        </a:rPr>
                        <a:t>Gate insulating layer with high dielectric constant  and high  resistivity (PMMA-Polymethyle methacrylate 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sulating Materi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Si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, Ti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, A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3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2280" y="3428640"/>
            <a:ext cx="457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15"/>
          <p:cNvSpPr/>
          <p:nvPr/>
        </p:nvSpPr>
        <p:spPr>
          <a:xfrm>
            <a:off x="8610480" y="6620040"/>
            <a:ext cx="533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8F4-91E5-4699-8176-93CBB98D3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Organic and Inorganic Devic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6"/>
          <p:cNvSpPr/>
          <p:nvPr/>
        </p:nvSpPr>
        <p:spPr>
          <a:xfrm>
            <a:off x="152280" y="3808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Organic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658800"/>
            <a:ext cx="8991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semiconductors are classified as the conducting polymer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mall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of polymers is found lower than small molecu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ue to higher molecular w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btain it higher; the grains of semiconductor should b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larger in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of Polymer transistor (PTFTs/OTFTs) critical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epends on the chemical and structural ordering of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hains at interface of OSC-insul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 Influencing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of metal and dielectric with 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molecular structure of the activ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injection at contacts and stability.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Organic Semiconductor Material Bas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8377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c semicond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is an organic material with semiconductor proper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lecular conjug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The fundamental property that allows organic molecules to conduct electronic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jugation c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oca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allow charge transpor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c Semiconductor materials categories 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ycyclic aromatic compounds(e.g. Pentacene, anthracene, etc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ymeric organic semiconductors(e.g. Poly(3-hexylthiophene, etc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6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Electronic structure of Organic semicond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15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EAD-642D-4A97-A492-733CC2AA6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1028520" y="4745880"/>
            <a:ext cx="638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dvTimes"/>
              </a:rPr>
              <a:t>Fi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dvTimes"/>
              </a:rPr>
              <a:t>(a) s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dvTimes"/>
              </a:rPr>
              <a:t>p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Calibri"/>
                <a:ea typeface="AdvTimes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dvTime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dvTimes"/>
              </a:rPr>
              <a:t>hybridization of two carbon atoms and (b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onding of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orbit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7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2895840" cy="2995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5016240" cy="2349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685800" y="609480"/>
            <a:ext cx="295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rganic 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486400" y="609480"/>
            <a:ext cx="295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organic 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79200" y="4017960"/>
            <a:ext cx="48196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Weak Van der Waals interaction fo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π-bond over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olecular gas property (molecule’s ident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Hopping type charge transport do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ow mobility and small mean free 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5130720" y="4005360"/>
            <a:ext cx="4013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trong covalent bo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-b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Only crystal proper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Band type charge transport do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High mobility and large mean free 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18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3B2-8B99-483F-8583-1703736A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Organic and Inorganic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9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2080" y="762120"/>
            <a:ext cx="906156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otivation Behind this Emerging Research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rganic Thin Film Transist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TFT Operating Principle, Its Advantages and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TFT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TFT Characteristic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rganic Semiconductor Materials Bas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ther Materials Required for OTF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abr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266C-E86C-4DA0-BA71-02CB0CA0F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n-IN" sz="2800" spc="-1" strike="noStrike">
                <a:solidFill>
                  <a:srgbClr val="0000cc"/>
                </a:solidFill>
                <a:latin typeface="Calibri"/>
              </a:rPr>
              <a:t>Outline of the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5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457200" y="838080"/>
            <a:ext cx="8381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Calibri"/>
              </a:rPr>
              <a:t>Small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xtensively us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ype Small molecule OSC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13-bis_triisopropyl-silylethynyl (TIPS) pentac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Pentacene and its derivatives are the most promis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xtensively used materials due to highest mo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position on dielectric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ed higher carrier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743200" y="4543560"/>
            <a:ext cx="4114800" cy="15411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P-type Organic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1172880" y="6068880"/>
            <a:ext cx="72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08b8"/>
                </a:solidFill>
                <a:latin typeface="Arial"/>
              </a:rPr>
              <a:t>Chemical Structure of Pentacene small molecule Semicond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P-type Organic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85800" y="83808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Calibri"/>
              </a:rPr>
              <a:t>Conducting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 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extensively us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type conducting polyme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 - Polyacet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thioph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fluor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3AT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y (3-alkylthiophe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3H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Poly(-3-hexylthiophene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3OT - poly (3-octylthiophene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QT-12 - Poly 3, 3΄΄-dialkylquarterthioph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8T2 - Poly-9, 9’ dioctyl-fluorene-co-bithioph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N-type Organic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and n-type OSCs are required to design the complement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nverters that are beneficial for low power consumption,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oise margin and better s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e developme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 semiconductors is equ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optimum thermodynamic stability window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doped materi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rongly depends on the free energy of activation that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ssociated with the chemical process/reaction with either wat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r oxy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esigning these devices, the semiconductor must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utilized which, can allow the injection of electrons into its LU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Ambipolar Materials O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52280" y="838080"/>
            <a:ext cx="883944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iterature, the majority of OTFTs is demonstrated either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 semiconduc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hieve the organic complementary technology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 transistors can be incorporated by electrical conne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r ambipolar charge transport can be realized in a sing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ransi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 reported high gain inverter with a natural pigment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ndigo, which contains the balanced electron and hole mobil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nd good stability against the degradation in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Source and Drain Electrod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762120"/>
            <a:ext cx="8991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Electrodes can be fabricated using either inorganic or organ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   materi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Contact metal for source (S) and drain (D) should cont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   low interface barrier with active layer to inject a large number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  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Contacts must possess a small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Contact Electrode can be fabricated by thermal evaporation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Adding Ni on Au improves the adhesion of gold on oxide,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dvTimes"/>
              </a:rPr>
              <a:t>    whereas, Pt electrodes are inferior compara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914400"/>
          <a:ext cx="8001000" cy="5486400"/>
        </p:xfrm>
        <a:graphic>
          <a:graphicData uri="http://schemas.openxmlformats.org/drawingml/2006/table">
            <a:tbl>
              <a:tblPr/>
              <a:tblGrid>
                <a:gridCol w="4179960"/>
                <a:gridCol w="3821040"/>
              </a:tblGrid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  <a:ea typeface="MS Mincho"/>
                        </a:rPr>
                        <a:t>Electrode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  <a:ea typeface="MS Mincho"/>
                        </a:rPr>
                        <a:t>Work function (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Arial"/>
                          <a:ea typeface="MS Mincho"/>
                        </a:rPr>
                        <a:t>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u (Gol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u (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opp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g (Silv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Cr (Chromi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 (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lumi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0 - 4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Ni (Nick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0 - 5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Ti (Titani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Pt (Platin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Ca (Calci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Co (Cobal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dvTimes"/>
                        </a:rPr>
                        <a:t>Fe (Iro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marL="4572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Work Function of S/D Contact Electr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4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Gate Electrod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52280" y="930240"/>
            <a:ext cx="8839440" cy="45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material for gat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lectrode should be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good adhesion and patterning capabilities to the substrate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gate dielect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metal work function should be comparable to the ac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semiconductor layer to attain lower threshold voltag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materials include heavily doped silicon, Al, Au, indium t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oxide (ITO)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Gate Dielectric Materi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685800"/>
            <a:ext cx="89917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ator material needs to have very high resistance to prevent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leakage between gate and cha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ielectric constant to achieve enough capacitanc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hannel current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ielectric constant insulators result in lower switch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voltage and elevated current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c 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good process ability and dielectr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Inorganic Gate Dielectric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28600" y="930240"/>
            <a:ext cx="8915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the researchers are focusing to enhance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properties of dielectric materials, since it is extremely crucia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achieve the reliability and high-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lectric materials should have the compatibility with OSCs, the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materials should exhibit high insulation al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esistivity reduces the interface trap density between OSC and g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ielectric which, in turn prevents the leak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4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Substrat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838080"/>
            <a:ext cx="9144000" cy="63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OTFTs are fabricated on a heavily doped silic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substrate to achieve the film of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lectric with eas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is often used in electronics not only for its intrinsic properti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but also for its good interface with thermally grown ox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substrates like poly ethylene-naphthalate have show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remarkable performance in term of flexibility that motivates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researchers for its utilization in flexible electronic device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ircu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Important Landmarks and 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earchers realized in 1970 that some applications, like displays, RFID tags, required large array of low cost electronics which was not possible with silic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is marked the advent of amorphous silicon TFTs (a-Si-TF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iscovery and Development of the conducting polymers (Polyacetylene-pure state is poor conductor+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 by Dr. H. Shirakawa, Dr. Alan G. MacDiarmid and  Dr. Alan. J. Heeger created a new research field in 197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rganic Semiconductor Material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ducting Polym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Polythiophene group (P3HT, P3OT, P3AT)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mall Molecu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Pentacene, CuPc, PCBM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uP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First Organic / Polymer Thin Film Transistor (OTFT/PTFT) was demonstrated properly – 198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13"/>
          <p:cNvSpPr/>
          <p:nvPr/>
        </p:nvSpPr>
        <p:spPr>
          <a:xfrm>
            <a:off x="8686800" y="638172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B220-4748-47B6-8555-ECFD7824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152280" y="4572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Limitations of Organic Mater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c semiconductor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y soft and  sophistic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c Materia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can break easil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c materials chan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environmental conditions after long du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ability comes from chemical stru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ompou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ower mobil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witching spe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to silicon based de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low mobility, it is limited to low spee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13"/>
          <p:cNvSpPr/>
          <p:nvPr/>
        </p:nvSpPr>
        <p:spPr>
          <a:xfrm>
            <a:off x="8153280" y="624528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5B8C-A8DE-465A-AE8C-1A5E6E1EE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66FA-0800-42B4-99FF-283AD240F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t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Performance of </a:t>
            </a:r>
            <a:r>
              <a:rPr b="1" i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p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-type OSC Materials in terms of Mo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Mobility_Materials.emf"/>
          <p:cNvPicPr/>
          <p:nvPr/>
        </p:nvPicPr>
        <p:blipFill>
          <a:blip r:embed="rId1"/>
          <a:srcRect l="10597" t="10679" r="4790" b="4747"/>
          <a:stretch/>
        </p:blipFill>
        <p:spPr>
          <a:xfrm>
            <a:off x="200160" y="64944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403200" y="5334120"/>
            <a:ext cx="41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Comparative plot of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growth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-type O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Mobility_Process method.emf"/>
          <p:cNvPicPr/>
          <p:nvPr/>
        </p:nvPicPr>
        <p:blipFill>
          <a:blip r:embed="rId2"/>
          <a:srcRect l="10160" t="10339" r="6241" b="3899"/>
          <a:stretch/>
        </p:blipFill>
        <p:spPr>
          <a:xfrm>
            <a:off x="4724280" y="685800"/>
            <a:ext cx="4038840" cy="3809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5029200" y="484812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dvTimes"/>
              </a:rPr>
              <a:t>Comparative plot for growth in mobility of p- and n-type transistors w. r. t. fabrication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152280" y="4572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新細明體"/>
              </a:rPr>
              <a:t>Basic Fabrication Steps SG-OTFT (BGB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80880" y="1298520"/>
            <a:ext cx="8458200" cy="4583160"/>
            <a:chOff x="380880" y="1298520"/>
            <a:chExt cx="8458200" cy="4583160"/>
          </a:xfrm>
        </p:grpSpPr>
        <p:pic>
          <p:nvPicPr>
            <p:cNvPr id="259" name="Text Box 5" descr=""/>
            <p:cNvPicPr/>
            <p:nvPr/>
          </p:nvPicPr>
          <p:blipFill>
            <a:blip r:embed="rId1"/>
            <a:stretch/>
          </p:blipFill>
          <p:spPr>
            <a:xfrm>
              <a:off x="380880" y="4767120"/>
              <a:ext cx="38988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Text Box 2" descr=""/>
            <p:cNvPicPr/>
            <p:nvPr/>
          </p:nvPicPr>
          <p:blipFill>
            <a:blip r:embed="rId2"/>
            <a:stretch/>
          </p:blipFill>
          <p:spPr>
            <a:xfrm>
              <a:off x="4591800" y="1298520"/>
              <a:ext cx="424728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Text Box 3" descr=""/>
            <p:cNvPicPr/>
            <p:nvPr/>
          </p:nvPicPr>
          <p:blipFill>
            <a:blip r:embed="rId3"/>
            <a:stretch/>
          </p:blipFill>
          <p:spPr>
            <a:xfrm>
              <a:off x="4591800" y="3029760"/>
              <a:ext cx="41990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Text Box 4" descr=""/>
            <p:cNvPicPr/>
            <p:nvPr/>
          </p:nvPicPr>
          <p:blipFill>
            <a:blip r:embed="rId4"/>
            <a:stretch/>
          </p:blipFill>
          <p:spPr>
            <a:xfrm>
              <a:off x="4591800" y="4767120"/>
              <a:ext cx="419904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Text Box 6" descr=""/>
            <p:cNvPicPr/>
            <p:nvPr/>
          </p:nvPicPr>
          <p:blipFill>
            <a:blip r:embed="rId5"/>
            <a:stretch/>
          </p:blipFill>
          <p:spPr>
            <a:xfrm>
              <a:off x="470880" y="3029760"/>
              <a:ext cx="3586320" cy="11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7"/>
            <p:cNvSpPr/>
            <p:nvPr/>
          </p:nvSpPr>
          <p:spPr>
            <a:xfrm rot="16200000">
              <a:off x="2015640" y="4281120"/>
              <a:ext cx="684000" cy="376920"/>
            </a:xfrm>
            <a:prstGeom prst="rightArrow">
              <a:avLst>
                <a:gd name="adj1" fmla="val 50000"/>
                <a:gd name="adj2" fmla="val 3701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0"/>
            <p:cNvSpPr/>
            <p:nvPr/>
          </p:nvSpPr>
          <p:spPr>
            <a:xfrm>
              <a:off x="4217400" y="5376960"/>
              <a:ext cx="437760" cy="288720"/>
            </a:xfrm>
            <a:prstGeom prst="leftArrow">
              <a:avLst>
                <a:gd name="adj1" fmla="val 50000"/>
                <a:gd name="adj2" fmla="val 3797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Text Box 6" descr=""/>
            <p:cNvPicPr/>
            <p:nvPr/>
          </p:nvPicPr>
          <p:blipFill>
            <a:blip r:embed="rId6"/>
            <a:stretch/>
          </p:blipFill>
          <p:spPr>
            <a:xfrm>
              <a:off x="458640" y="1298520"/>
              <a:ext cx="35802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7"/>
            <p:cNvSpPr/>
            <p:nvPr/>
          </p:nvSpPr>
          <p:spPr>
            <a:xfrm>
              <a:off x="4048200" y="1624680"/>
              <a:ext cx="614520" cy="370440"/>
            </a:xfrm>
            <a:prstGeom prst="rightArrow">
              <a:avLst>
                <a:gd name="adj1" fmla="val 50000"/>
                <a:gd name="adj2" fmla="val 3799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 rot="5400000">
              <a:off x="6579720" y="2516760"/>
              <a:ext cx="697680" cy="395640"/>
            </a:xfrm>
            <a:prstGeom prst="rightArrow">
              <a:avLst>
                <a:gd name="adj1" fmla="val 50000"/>
                <a:gd name="adj2" fmla="val 3700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 rot="5400000">
              <a:off x="6654600" y="4250520"/>
              <a:ext cx="653040" cy="441000"/>
            </a:xfrm>
            <a:prstGeom prst="rightArrow">
              <a:avLst>
                <a:gd name="adj1" fmla="val 50000"/>
                <a:gd name="adj2" fmla="val 3701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Slide Number Placeholder 13"/>
          <p:cNvSpPr/>
          <p:nvPr/>
        </p:nvSpPr>
        <p:spPr>
          <a:xfrm>
            <a:off x="8153280" y="624528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817E-DB37-4925-BC4D-F2B068C6F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8"/>
          <p:cNvGrpSpPr/>
          <p:nvPr/>
        </p:nvGrpSpPr>
        <p:grpSpPr>
          <a:xfrm>
            <a:off x="1676520" y="762120"/>
            <a:ext cx="5943600" cy="5588280"/>
            <a:chOff x="1676520" y="762120"/>
            <a:chExt cx="5943600" cy="5588280"/>
          </a:xfrm>
        </p:grpSpPr>
        <p:grpSp>
          <p:nvGrpSpPr>
            <p:cNvPr id="274" name="Group 22"/>
            <p:cNvGrpSpPr/>
            <p:nvPr/>
          </p:nvGrpSpPr>
          <p:grpSpPr>
            <a:xfrm>
              <a:off x="1676520" y="762120"/>
              <a:ext cx="5943600" cy="5588280"/>
              <a:chOff x="1676520" y="762120"/>
              <a:chExt cx="5943600" cy="5588280"/>
            </a:xfrm>
          </p:grpSpPr>
          <p:sp>
            <p:nvSpPr>
              <p:cNvPr id="275" name="Text Box 5"/>
              <p:cNvSpPr/>
              <p:nvPr/>
            </p:nvSpPr>
            <p:spPr>
              <a:xfrm>
                <a:off x="1746360" y="3673800"/>
                <a:ext cx="587376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Organic Semiconduct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Material: Small molecules/conducting  polym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rocess: Thermal evaporation/ solution proc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"/>
              <p:cNvSpPr/>
              <p:nvPr/>
            </p:nvSpPr>
            <p:spPr>
              <a:xfrm>
                <a:off x="1746360" y="1720800"/>
                <a:ext cx="587376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Gate Met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Materials: Organic/inorgan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rocess: Vacuum thermal evaporation/solution processin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3"/>
              <p:cNvSpPr/>
              <p:nvPr/>
            </p:nvSpPr>
            <p:spPr>
              <a:xfrm>
                <a:off x="1746360" y="2691000"/>
                <a:ext cx="587376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Gate Dielectr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Materials: Organic/inorgan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rocess: Thermal evaporation/solution process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"/>
              <p:cNvSpPr/>
              <p:nvPr/>
            </p:nvSpPr>
            <p:spPr>
              <a:xfrm>
                <a:off x="1746360" y="4634280"/>
                <a:ext cx="587376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Source/Drain Contac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Materials: Organic/inorgan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rocess: Shadow masking/lithography/lift-off/transfer print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6"/>
              <p:cNvSpPr/>
              <p:nvPr/>
            </p:nvSpPr>
            <p:spPr>
              <a:xfrm>
                <a:off x="1746360" y="5586840"/>
                <a:ext cx="587376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assivation  Lay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Materials: Organic/inorganic insulato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rocess: CVD, Dry Etching, RIE: Reactive ion etch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6"/>
              <p:cNvSpPr/>
              <p:nvPr/>
            </p:nvSpPr>
            <p:spPr>
              <a:xfrm>
                <a:off x="1676520" y="762120"/>
                <a:ext cx="594360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Substr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Materials: Heavily doped Si wafer /glass /plastic or organic compatible mate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algun Gothic"/>
                  </a:rPr>
                  <a:t>Process: RCA cleaning/cleaning by suitable sol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7"/>
              <p:cNvSpPr/>
              <p:nvPr/>
            </p:nvSpPr>
            <p:spPr>
              <a:xfrm rot="5400000">
                <a:off x="4488840" y="1464840"/>
                <a:ext cx="175680" cy="29412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7"/>
              <p:cNvSpPr/>
              <p:nvPr/>
            </p:nvSpPr>
            <p:spPr>
              <a:xfrm rot="5400000">
                <a:off x="4471920" y="2439360"/>
                <a:ext cx="188640" cy="29412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AutoShape 7"/>
            <p:cNvSpPr/>
            <p:nvPr/>
          </p:nvSpPr>
          <p:spPr>
            <a:xfrm rot="5400000">
              <a:off x="4482360" y="3416040"/>
              <a:ext cx="188640" cy="29412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 rot="5400000">
              <a:off x="4558680" y="4385520"/>
              <a:ext cx="188640" cy="29412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7"/>
            <p:cNvSpPr/>
            <p:nvPr/>
          </p:nvSpPr>
          <p:spPr>
            <a:xfrm rot="5400000">
              <a:off x="4558680" y="5353560"/>
              <a:ext cx="188640" cy="29412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新細明體"/>
              </a:rPr>
              <a:t>Basic Fabrication Steps SG-OTFT (BG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1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-36360" y="666720"/>
            <a:ext cx="9067320" cy="6087960"/>
            <a:chOff x="-36360" y="666720"/>
            <a:chExt cx="9067320" cy="6087960"/>
          </a:xfrm>
        </p:grpSpPr>
        <p:pic>
          <p:nvPicPr>
            <p:cNvPr id="290" name="Picture 3" descr="otft-1"/>
            <p:cNvPicPr/>
            <p:nvPr/>
          </p:nvPicPr>
          <p:blipFill>
            <a:blip r:embed="rId1"/>
            <a:stretch/>
          </p:blipFill>
          <p:spPr>
            <a:xfrm>
              <a:off x="-36360" y="666720"/>
              <a:ext cx="9067320" cy="60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4"/>
            <p:cNvSpPr/>
            <p:nvPr/>
          </p:nvSpPr>
          <p:spPr>
            <a:xfrm>
              <a:off x="1306800" y="1019880"/>
              <a:ext cx="1401120" cy="703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O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"/>
            <p:cNvSpPr/>
            <p:nvPr/>
          </p:nvSpPr>
          <p:spPr>
            <a:xfrm>
              <a:off x="7920" y="2689920"/>
              <a:ext cx="126108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LC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6"/>
            <p:cNvSpPr/>
            <p:nvPr/>
          </p:nvSpPr>
          <p:spPr>
            <a:xfrm>
              <a:off x="260280" y="4693680"/>
              <a:ext cx="1254240" cy="70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Organ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693720" y="5688720"/>
              <a:ext cx="1107720" cy="703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Sen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6471360" y="5729400"/>
              <a:ext cx="1243440" cy="703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Bio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Sen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7386120" y="4646160"/>
              <a:ext cx="1109880" cy="703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Organ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La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7350120" y="2925000"/>
              <a:ext cx="1451520" cy="703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Smart C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RFID Ta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6008760" y="1124280"/>
              <a:ext cx="1058760" cy="398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E-p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3435840" y="4135320"/>
              <a:ext cx="2025000" cy="520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OT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5460840" y="2727000"/>
              <a:ext cx="1375560" cy="671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5460840" y="3486960"/>
              <a:ext cx="1375560" cy="6415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Opt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5074200" y="4405680"/>
              <a:ext cx="1394640" cy="6804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3620880" y="4646160"/>
              <a:ext cx="1356120" cy="708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Appar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2083680" y="4324320"/>
              <a:ext cx="1354320" cy="5619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Sen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1946160" y="3467520"/>
              <a:ext cx="1980000" cy="6832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Memory 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9"/>
            <p:cNvSpPr/>
            <p:nvPr/>
          </p:nvSpPr>
          <p:spPr>
            <a:xfrm>
              <a:off x="1984320" y="2668680"/>
              <a:ext cx="1454040" cy="6555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LC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0"/>
            <p:cNvSpPr/>
            <p:nvPr/>
          </p:nvSpPr>
          <p:spPr>
            <a:xfrm>
              <a:off x="2960280" y="1979640"/>
              <a:ext cx="1437120" cy="6253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O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1"/>
            <p:cNvSpPr/>
            <p:nvPr/>
          </p:nvSpPr>
          <p:spPr>
            <a:xfrm>
              <a:off x="4595040" y="2081880"/>
              <a:ext cx="1436760" cy="6451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E-P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2"/>
            <p:cNvSpPr/>
            <p:nvPr/>
          </p:nvSpPr>
          <p:spPr>
            <a:xfrm>
              <a:off x="2711880" y="6050880"/>
              <a:ext cx="1211760" cy="7038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Electr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algun Gothic"/>
                </a:rPr>
                <a:t>Fabr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Slide Number Placeholder 32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21C-32F4-42CB-9C6E-FA150A0FF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Organic TF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B80-55EC-48B6-91AA-B4494795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47520" y="939960"/>
            <a:ext cx="909648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ling is not very much effective in OTFT due to their lower drive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scaling is almost similar in both OTFT and MOSFE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in OTFT reduces by the scaling factor in full scaling that in turn degrades the switching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ant voltage scaling increases the drain current and power density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FTs are strongly affected by the contact resistance that becomes increasingly evident as the channel length is scaled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cc"/>
                </a:solidFill>
                <a:latin typeface="Calibri"/>
              </a:rPr>
              <a:t>Effect of Scaling on OTFT Parameters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5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5FF-BC28-44FB-9FC6-A49F34213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123840" y="851040"/>
            <a:ext cx="88678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OSCs alters with time and ecological environment due to their susceptibility to water and oxygen under ambient 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Several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-channel TFTs processed and tested under inert condition on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Numerous issues are still open ended, specifically those associated with the stability and performance variation from roll to roll and device t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of fabrication methodology and synthesis of novel materials, th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lifetime/dur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be undoubtedly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encapsulation of the devices, longer functioning lifetime can be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care must be taken against exposure of devices to moisture and oxygen, which can be achieved by depositing a film of inorganic oxides and special protective coat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cc"/>
                </a:solidFill>
                <a:latin typeface="Calibri"/>
              </a:rPr>
              <a:t>Lifetime and Durability of Organic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A60D-4BF6-412F-9A4B-D8AB3C4FA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52280" y="685800"/>
            <a:ext cx="899172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mprovement in Stability, lifetime and du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Cost economy, temperature dependency, operating bias and power diss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iniatu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ok for high performance OSCs, electrode, dielectric and substrate materials and novel OTFT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Surface treatment and self-assembled monolayer of the dielec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 doping region near the contacts and additional OSC layer between contact and O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0" y="76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cc"/>
                </a:solidFill>
                <a:latin typeface="Calibri"/>
              </a:rPr>
              <a:t>Steps Needed for OTFTs to be Commercialized on a Larger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8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6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Malgun Gothic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c transistor boasts of a bright futu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 wide spectrum of appl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requir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suitable mode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dequately understand the OTFTs behavior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investig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active and dielectric layers thickness on the performance of both top and bottom contact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strongly requir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techniq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can substantially improve the performance of organic digital circu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323960" y="1372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dvGulliv-R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3"/>
          <p:cNvSpPr/>
          <p:nvPr/>
        </p:nvSpPr>
        <p:spPr>
          <a:xfrm>
            <a:off x="8763120" y="6381720"/>
            <a:ext cx="38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CAD-B256-47BB-8C56-E98E56CF0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114480" y="722160"/>
            <a:ext cx="9029520" cy="49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OTFTs provide various important benefits over TFT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MOSFET/CMOS based on inorganic semiconductor mate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echanical flexi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Foldable, Bendable, Lightweigh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ompatibility with plastic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Organic displays are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Polymer based TFTs with electrical characteristics comparable to or better than (a-Si-H) TFTs devices have been demonst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Does not require a glass substrate as amorphous silicon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Chemical tunability of conducting poly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Easy integration in different device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algun Gothic"/>
              </a:rPr>
              <a:t>Ecological and economic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  <a:ea typeface="Arial"/>
              </a:rPr>
              <a:t>Motivation and Why OTFT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7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6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08b4"/>
                </a:solidFill>
                <a:latin typeface="Calibri"/>
              </a:rPr>
              <a:t>Classification</a:t>
            </a:r>
            <a:r>
              <a:rPr b="0" lang="en-US" sz="3200" spc="-1" strike="noStrike">
                <a:solidFill>
                  <a:srgbClr val="2108b4"/>
                </a:solidFill>
                <a:latin typeface="Calibri"/>
              </a:rPr>
              <a:t> of OTFTs Struct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 Same Side Corner Rectangle 4"/>
          <p:cNvSpPr/>
          <p:nvPr/>
        </p:nvSpPr>
        <p:spPr>
          <a:xfrm>
            <a:off x="1905120" y="824040"/>
            <a:ext cx="5333760" cy="5331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c Thin Film Transistors (OTF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4"/>
          <p:cNvSpPr/>
          <p:nvPr/>
        </p:nvSpPr>
        <p:spPr>
          <a:xfrm>
            <a:off x="2514600" y="3176640"/>
            <a:ext cx="2819520" cy="434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 Gate (B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5"/>
          <p:cNvSpPr/>
          <p:nvPr/>
        </p:nvSpPr>
        <p:spPr>
          <a:xfrm>
            <a:off x="4419720" y="5346720"/>
            <a:ext cx="2819160" cy="4874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al Gate (D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6"/>
          <p:cNvSpPr/>
          <p:nvPr/>
        </p:nvSpPr>
        <p:spPr>
          <a:xfrm>
            <a:off x="0" y="3164040"/>
            <a:ext cx="2362320" cy="4474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 Gate (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7"/>
          <p:cNvSpPr/>
          <p:nvPr/>
        </p:nvSpPr>
        <p:spPr>
          <a:xfrm>
            <a:off x="6400800" y="4425840"/>
            <a:ext cx="2743200" cy="5526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 Gate (B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25"/>
          <p:cNvCxnSpPr/>
          <p:nvPr/>
        </p:nvCxnSpPr>
        <p:spPr>
          <a:xfrm>
            <a:off x="2361960" y="2057040"/>
            <a:ext cx="156276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30"/>
          <p:cNvCxnSpPr/>
          <p:nvPr/>
        </p:nvCxnSpPr>
        <p:spPr>
          <a:xfrm flipH="1">
            <a:off x="1218600" y="2082960"/>
            <a:ext cx="1143720" cy="1041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37"/>
          <p:cNvCxnSpPr/>
          <p:nvPr/>
        </p:nvCxnSpPr>
        <p:spPr>
          <a:xfrm>
            <a:off x="6885000" y="3101760"/>
            <a:ext cx="1573920" cy="12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39"/>
          <p:cNvCxnSpPr/>
          <p:nvPr/>
        </p:nvCxnSpPr>
        <p:spPr>
          <a:xfrm flipH="1">
            <a:off x="6001920" y="3132000"/>
            <a:ext cx="843840" cy="217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Slide Number Placeholder 23"/>
          <p:cNvSpPr/>
          <p:nvPr/>
        </p:nvSpPr>
        <p:spPr>
          <a:xfrm>
            <a:off x="8686800" y="6458040"/>
            <a:ext cx="38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826-08EC-49A8-AD7E-E73932EFD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9"/>
          <p:cNvSpPr/>
          <p:nvPr/>
        </p:nvSpPr>
        <p:spPr>
          <a:xfrm>
            <a:off x="685800" y="1562040"/>
            <a:ext cx="2895480" cy="4953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gle Gate (S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0"/>
          <p:cNvCxnSpPr/>
          <p:nvPr/>
        </p:nvCxnSpPr>
        <p:spPr>
          <a:xfrm>
            <a:off x="4381560" y="1397160"/>
            <a:ext cx="80064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21"/>
          <p:cNvCxnSpPr/>
          <p:nvPr/>
        </p:nvCxnSpPr>
        <p:spPr>
          <a:xfrm flipH="1">
            <a:off x="3580560" y="1397160"/>
            <a:ext cx="80100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Rounded Rectangle 23"/>
          <p:cNvSpPr/>
          <p:nvPr/>
        </p:nvSpPr>
        <p:spPr>
          <a:xfrm>
            <a:off x="5181480" y="1562040"/>
            <a:ext cx="2895840" cy="4953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- Gate (M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31"/>
          <p:cNvCxnSpPr/>
          <p:nvPr/>
        </p:nvCxnSpPr>
        <p:spPr>
          <a:xfrm flipH="1">
            <a:off x="6857640" y="2057040"/>
            <a:ext cx="32400" cy="109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33"/>
          <p:cNvCxnSpPr/>
          <p:nvPr/>
        </p:nvCxnSpPr>
        <p:spPr>
          <a:xfrm flipH="1">
            <a:off x="4839840" y="3101760"/>
            <a:ext cx="2005920" cy="12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Rounded Rectangle 35"/>
          <p:cNvSpPr/>
          <p:nvPr/>
        </p:nvSpPr>
        <p:spPr>
          <a:xfrm>
            <a:off x="2743200" y="4400640"/>
            <a:ext cx="2895480" cy="628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 Gate (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6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08b4"/>
                </a:solidFill>
                <a:latin typeface="Calibri"/>
              </a:rPr>
              <a:t>Classification of Single Gate OTFT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 Same Side Corner Rectangle 4"/>
          <p:cNvSpPr/>
          <p:nvPr/>
        </p:nvSpPr>
        <p:spPr>
          <a:xfrm>
            <a:off x="1600200" y="674640"/>
            <a:ext cx="5486400" cy="5446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G-OT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4"/>
          <p:cNvSpPr/>
          <p:nvPr/>
        </p:nvSpPr>
        <p:spPr>
          <a:xfrm>
            <a:off x="5181480" y="2119320"/>
            <a:ext cx="342900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ttom Gate (B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5"/>
          <p:cNvSpPr/>
          <p:nvPr/>
        </p:nvSpPr>
        <p:spPr>
          <a:xfrm>
            <a:off x="5583240" y="5618160"/>
            <a:ext cx="350532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ttom Gate-Bottom Contact (BGB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6"/>
          <p:cNvSpPr/>
          <p:nvPr/>
        </p:nvSpPr>
        <p:spPr>
          <a:xfrm>
            <a:off x="1143000" y="2133720"/>
            <a:ext cx="320040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p Gate (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7"/>
          <p:cNvSpPr/>
          <p:nvPr/>
        </p:nvSpPr>
        <p:spPr>
          <a:xfrm>
            <a:off x="2340000" y="5618160"/>
            <a:ext cx="31240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ttom Gate-Top Contact (BG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5"/>
          <p:cNvCxnSpPr>
            <a:stCxn id="90" idx="9"/>
          </p:cNvCxnSpPr>
          <p:nvPr/>
        </p:nvCxnSpPr>
        <p:spPr>
          <a:xfrm>
            <a:off x="4343400" y="1219320"/>
            <a:ext cx="22867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30"/>
          <p:cNvCxnSpPr>
            <a:stCxn id="90" idx="10"/>
          </p:cNvCxnSpPr>
          <p:nvPr/>
        </p:nvCxnSpPr>
        <p:spPr>
          <a:xfrm flipH="1">
            <a:off x="2437920" y="1219320"/>
            <a:ext cx="190584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37"/>
          <p:cNvCxnSpPr/>
          <p:nvPr/>
        </p:nvCxnSpPr>
        <p:spPr>
          <a:xfrm>
            <a:off x="6705720" y="4876560"/>
            <a:ext cx="167688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39"/>
          <p:cNvCxnSpPr/>
          <p:nvPr/>
        </p:nvCxnSpPr>
        <p:spPr>
          <a:xfrm flipH="1">
            <a:off x="4571280" y="4875840"/>
            <a:ext cx="213444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Slide Number Placeholder 23"/>
          <p:cNvSpPr/>
          <p:nvPr/>
        </p:nvSpPr>
        <p:spPr>
          <a:xfrm>
            <a:off x="8763120" y="6381720"/>
            <a:ext cx="38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8703-1BCB-4860-94FC-F4E7A250E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4"/>
          <p:cNvSpPr/>
          <p:nvPr/>
        </p:nvSpPr>
        <p:spPr>
          <a:xfrm>
            <a:off x="3429000" y="3962520"/>
            <a:ext cx="3200400" cy="8380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op Gate-Top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TG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6"/>
          <p:cNvSpPr/>
          <p:nvPr/>
        </p:nvSpPr>
        <p:spPr>
          <a:xfrm>
            <a:off x="55440" y="3976560"/>
            <a:ext cx="3200400" cy="8384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op Gate-Bottom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TGB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29"/>
          <p:cNvCxnSpPr/>
          <p:nvPr/>
        </p:nvCxnSpPr>
        <p:spPr>
          <a:xfrm>
            <a:off x="6629400" y="2895480"/>
            <a:ext cx="76680" cy="198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31"/>
          <p:cNvCxnSpPr/>
          <p:nvPr/>
        </p:nvCxnSpPr>
        <p:spPr>
          <a:xfrm flipH="1">
            <a:off x="609120" y="3275640"/>
            <a:ext cx="205776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32"/>
          <p:cNvCxnSpPr/>
          <p:nvPr/>
        </p:nvCxnSpPr>
        <p:spPr>
          <a:xfrm>
            <a:off x="2588760" y="3276360"/>
            <a:ext cx="175500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33"/>
          <p:cNvCxnSpPr/>
          <p:nvPr/>
        </p:nvCxnSpPr>
        <p:spPr>
          <a:xfrm flipH="1">
            <a:off x="2631240" y="2895120"/>
            <a:ext cx="2520" cy="383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Straight Connector 18"/>
          <p:cNvSpPr/>
          <p:nvPr/>
        </p:nvSpPr>
        <p:spPr>
          <a:xfrm>
            <a:off x="152280" y="50004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4360" y="333360"/>
            <a:ext cx="78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52280" y="1573200"/>
            <a:ext cx="5715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mpatibility with plastic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ower-cost deposi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ower temperature manufacturing (60-120</a:t>
            </a:r>
            <a:r>
              <a:rPr b="0" lang="en-US" sz="2000" spc="-1" strike="noStrike" baseline="20000">
                <a:solidFill>
                  <a:srgbClr val="000000"/>
                </a:solidFill>
                <a:latin typeface="Arial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3"/>
          <p:cNvSpPr/>
          <p:nvPr/>
        </p:nvSpPr>
        <p:spPr>
          <a:xfrm>
            <a:off x="8763120" y="6381720"/>
            <a:ext cx="38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3DBB-BA94-4E3C-9BEC-19F0073499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6320" y="609480"/>
            <a:ext cx="90676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istor having organic semiconductor (small molecules/ conducting polymers) as active layer to current flow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Organic Thin Film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762120"/>
          <a:ext cx="9144000" cy="5638680"/>
        </p:xfrm>
        <a:graphic>
          <a:graphicData uri="http://schemas.openxmlformats.org/drawingml/2006/table">
            <a:tbl>
              <a:tblPr/>
              <a:tblGrid>
                <a:gridCol w="1192320"/>
                <a:gridCol w="3379680"/>
                <a:gridCol w="4572000"/>
              </a:tblGrid>
              <a:tr h="28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408b0"/>
                          </a:solidFill>
                          <a:latin typeface="Calibri"/>
                        </a:rPr>
                        <a:t>BGT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ontact Resist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Mobil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u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r Channel 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408b0"/>
                          </a:solidFill>
                          <a:latin typeface="Calibri"/>
                        </a:rPr>
                        <a:t>BGB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ontact Res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Mobil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urr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Fabric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Comparison of BGTC and BGBCOTFT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8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3253" t="0" r="0" b="0"/>
          <a:stretch/>
        </p:blipFill>
        <p:spPr>
          <a:xfrm>
            <a:off x="1390680" y="762120"/>
            <a:ext cx="29415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rcRect l="3108" t="0" r="0" b="0"/>
          <a:stretch/>
        </p:blipFill>
        <p:spPr>
          <a:xfrm>
            <a:off x="1303200" y="3581280"/>
            <a:ext cx="311652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22960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762120"/>
          <a:ext cx="9144000" cy="5790960"/>
        </p:xfrm>
        <a:graphic>
          <a:graphicData uri="http://schemas.openxmlformats.org/drawingml/2006/table">
            <a:tbl>
              <a:tblPr/>
              <a:tblGrid>
                <a:gridCol w="1192320"/>
                <a:gridCol w="3022560"/>
                <a:gridCol w="4929120"/>
              </a:tblGrid>
              <a:tr h="289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10ac2"/>
                          </a:solidFill>
                          <a:latin typeface="Calibri"/>
                        </a:rPr>
                        <a:t>TGB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gh Fabric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ontact Res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10ac2"/>
                          </a:solidFill>
                          <a:latin typeface="Calibri"/>
                        </a:rPr>
                        <a:t>TGB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Fabric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ontact Resist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MOSF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Straight Connector 8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rcRect l="2960" t="0" r="0" b="0"/>
          <a:stretch/>
        </p:blipFill>
        <p:spPr>
          <a:xfrm>
            <a:off x="1066680" y="3733920"/>
            <a:ext cx="3187800" cy="250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2"/>
          <a:srcRect l="3250" t="0" r="0" b="0"/>
          <a:stretch/>
        </p:blipFill>
        <p:spPr>
          <a:xfrm>
            <a:off x="1066680" y="838080"/>
            <a:ext cx="3187800" cy="2438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Arial"/>
              </a:rPr>
              <a:t>Comparison of TGBC and TGTC OTFT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2857680" y="640224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Organic Thin Film Transistor: Materials to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3:46:36Z</dcterms:created>
  <dc:creator>User</dc:creator>
  <dc:description/>
  <dc:language>en-US</dc:language>
  <cp:lastModifiedBy>Brajesh Kaushik</cp:lastModifiedBy>
  <dcterms:modified xsi:type="dcterms:W3CDTF">2016-07-07T17:36:31Z</dcterms:modified>
  <cp:revision>1924</cp:revision>
  <dc:subject/>
  <dc:title>Slide 1</dc:title>
</cp:coreProperties>
</file>