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3B9-8F00-44A7-BF86-0ADE4DBC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6CC-8B46-40DF-8E17-30043815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065-F0B0-440B-BD4B-7AE6E262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D19-B141-4BF3-A821-A41CEF6E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FC4-72EE-48DC-9C21-49C1D353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73C-88FD-463A-876C-3407E83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668-D5CB-4755-AC2F-7F94C718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440-8E5C-4CB0-9741-C5BB24B7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728-C787-4D87-94DC-E85A5ADA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E1F-22C7-42AE-BE5D-7104958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957-2EA8-4116-A51B-2B20EE8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551-9DA6-4926-AE97-1DC6A26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CA7-4941-484A-9D6A-9191EF15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Languages for 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90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. 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ur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s-on of “Hello, World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un the C program in Microsoft Visual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– Edit source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– Compile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– Run the executa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2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r-defin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=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&lt;=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nal value of the coun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repetition ac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Conversion Spec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2"/>
          <p:cNvPicPr/>
          <p:nvPr/>
        </p:nvPicPr>
        <p:blipFill>
          <a:blip r:embed="rId1"/>
          <a:stretch/>
        </p:blipFill>
        <p:spPr>
          <a:xfrm>
            <a:off x="53352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thmetic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a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a*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pow(a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 ( 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  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action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;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  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action_2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 ; 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r-defin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r mystring[16]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cpy(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destination 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ource 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cmp(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tring-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, 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tring-2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]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riented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33520" y="1709640"/>
            <a:ext cx="784836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ble or data item is the name of a piece of CPU memory that holds data.  The data is called the value of the variable/data item.  The original value of a variable could be a default value (such as 0).  The value of a variable can be changed through operations, but can never be l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 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r-defin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ing Function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ed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880" y="2197080"/>
            <a:ext cx="8458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fine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function type]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function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ata types of argu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3552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066680" y="2109960"/>
            <a:ext cx="73152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 2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r-defin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Diagram of Listing 2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52280" y="2222640"/>
            <a:ext cx="8610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r-defin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stomer – physically existing bod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ventory item – physically existing g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cket – a docu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me – an ev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tton on screen – a widget representing a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USTOMER – class of custom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VENTORY – class of inventory ite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ICKET – class of ticke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ME – class of g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TTON – class of but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P is actually “Class-oriented programm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Arithmeti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operations in procedural programming are similar to day-to-day arithmetic calculation, but use reverse expression.  For instance, instea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in programming, which means: 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l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 Constr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1981080"/>
            <a:ext cx="8915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ass_name_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and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he data and methods cannot be accessed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and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he data and methods can be accessed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Listings 2.8 and 2.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++ program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elationships between the tw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e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_name   object_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uter creates an object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S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bject_name.method_nam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message sending in OOP is not much different from calling function in structur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through of Listings 2.8 and 2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hrough Listing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0(a) and 2.10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++ programs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elationships between the tw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OP Diagram of Listing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0(a) and 2.10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83822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hrough Listing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1(a), 2.11(b), and 2.11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++ programs line-by-line to understand each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describes it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importa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elationships between the thre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yntax of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Executio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execution of the procedure of a program, instructions are executed one after another in a sequence (so called execution sequence) in which they are encountered, but not in the order they are listed in the program.  Statements of if-then and loops can control the execution sequence of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P Diagrams for Listing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1(a), 2.11(b), and 2.11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90480" y="1143000"/>
            <a:ext cx="7763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P Diagram for Listing 2.12(a) and Listing 2.12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9080" y="795240"/>
            <a:ext cx="91058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267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If-then-els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f-then-else statement controls the computer execution sequence based on a current condition.  The logic is illustrated in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-1"/>
          <p:cNvPicPr/>
          <p:nvPr/>
        </p:nvPicPr>
        <p:blipFill>
          <a:blip r:embed="rId1"/>
          <a:stretch/>
        </p:blipFill>
        <p:spPr>
          <a:xfrm>
            <a:off x="4800600" y="2057400"/>
            <a:ext cx="402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is a group of instructions which is specified once but are carried out several times in succession.  A loop statement defines such an iteration procedure, as illustrated in the figure.  The common loops include for-loop and do-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A-2"/>
          <p:cNvPicPr/>
          <p:nvPr/>
        </p:nvPicPr>
        <p:blipFill>
          <a:blip r:embed="rId1"/>
          <a:stretch/>
        </p:blipFill>
        <p:spPr>
          <a:xfrm>
            <a:off x="4952880" y="1752480"/>
            <a:ext cx="3721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requisit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 Cal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program must be divided into modules for better quality and re-use.  Here, a module could be a paragraph of instructions, a function, a method, a subroutine, depending upon a specific language.   An instruction can call a module to accomplish a specific task carried out by the module, as illustrated in the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A-3"/>
          <p:cNvPicPr/>
          <p:nvPr/>
        </p:nvPicPr>
        <p:blipFill>
          <a:blip r:embed="rId1"/>
          <a:stretch/>
        </p:blipFill>
        <p:spPr>
          <a:xfrm>
            <a:off x="525780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and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is an extension o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speaking, C is structured programming language, C++ is object-oriented programming language.  Now C++ is a superset of C and C++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re similar syn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features are followed by many other languages, such as JavaScript, PHP, C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C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*  C Programming Example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include&lt;iostrea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f("Hello, world ! \n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0:13:10Z</dcterms:created>
  <dc:creator>Computing &amp; Information Technology Services</dc:creator>
  <dc:description/>
  <dc:language>en-US</dc:language>
  <cp:lastModifiedBy>Windows User</cp:lastModifiedBy>
  <dcterms:modified xsi:type="dcterms:W3CDTF">2013-06-29T21:11:30Z</dcterms:modified>
  <cp:revision>16</cp:revision>
  <dc:subject/>
  <dc:title>Programming Languages for Business Problem Solving</dc:title>
</cp:coreProperties>
</file>