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8.wmf" ContentType="image/x-wmf"/>
  <Override PartName="/ppt/media/image13.png" ContentType="image/png"/>
  <Override PartName="/ppt/media/image14.png" ContentType="image/png"/>
  <Override PartName="/ppt/media/image9.wmf" ContentType="image/x-wmf"/>
  <Override PartName="/ppt/media/image7.wmf" ContentType="image/x-wmf"/>
  <Override PartName="/ppt/media/image12.png" ContentType="image/png"/>
  <Override PartName="/ppt/media/image33.png" ContentType="image/png"/>
  <Override PartName="/ppt/media/image4.png" ContentType="image/png"/>
  <Override PartName="/ppt/media/image3.wmf" ContentType="image/x-wmf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D9AB6-685E-4934-BCB0-8C0CA33C0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838080"/>
            <a:ext cx="845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0520" y="2987640"/>
            <a:ext cx="845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B6D08-E08A-468B-A9FD-A24D093E6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838080"/>
            <a:ext cx="4126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13840" y="838080"/>
            <a:ext cx="4126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380520" y="2987640"/>
            <a:ext cx="4126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713840" y="2987640"/>
            <a:ext cx="4126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217BC-498E-4A61-8454-468114407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838080"/>
            <a:ext cx="272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838080"/>
            <a:ext cx="272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98760" y="838080"/>
            <a:ext cx="272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380520" y="2987640"/>
            <a:ext cx="272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2987640"/>
            <a:ext cx="272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98760" y="2987640"/>
            <a:ext cx="272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1921F-05BE-4D51-BFD6-CF9757E67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1011E-B7DE-46DE-B6B3-06DC4C54F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80520" y="838080"/>
            <a:ext cx="8456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48E66-FA9F-4D32-83C3-A6F1E6109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520" y="838080"/>
            <a:ext cx="845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D74B8-4048-48D2-B711-E6D50F94C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520" y="838080"/>
            <a:ext cx="4126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13840" y="838080"/>
            <a:ext cx="4126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D8AAC-61BE-449B-A63E-3776FB5C6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B20EB-0EFD-47FB-B0EF-F9F2B43A5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-15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7AFAD-E3C0-4281-91FD-B4E8C0C50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838080"/>
            <a:ext cx="4126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13840" y="838080"/>
            <a:ext cx="4126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80520" y="2987640"/>
            <a:ext cx="4126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B3B74-E398-4613-BA5D-D7901C44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80520" y="838080"/>
            <a:ext cx="8456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7FD12-EF6C-4C50-A942-A1AC04BFA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520" y="838080"/>
            <a:ext cx="4126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13840" y="838080"/>
            <a:ext cx="4126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713840" y="2987640"/>
            <a:ext cx="4126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9F61B-71FA-47B9-9631-C6F7CC49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80520" y="838080"/>
            <a:ext cx="4126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13840" y="838080"/>
            <a:ext cx="4126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80520" y="2987640"/>
            <a:ext cx="845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CBD2A-BBE7-436A-B7AA-4232697F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80520" y="838080"/>
            <a:ext cx="845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80520" y="2987640"/>
            <a:ext cx="845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5C368-ED2B-4BB1-B121-786C1A63B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838080"/>
            <a:ext cx="4126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13840" y="838080"/>
            <a:ext cx="4126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80520" y="2987640"/>
            <a:ext cx="4126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713840" y="2987640"/>
            <a:ext cx="4126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E3D96-FDCC-495D-9714-ECB65EA2B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520" y="838080"/>
            <a:ext cx="272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838080"/>
            <a:ext cx="272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98760" y="838080"/>
            <a:ext cx="272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80520" y="2987640"/>
            <a:ext cx="272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2987640"/>
            <a:ext cx="272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98760" y="2987640"/>
            <a:ext cx="272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E2141-8AAD-4E81-9CC5-D6B2E803D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838080"/>
            <a:ext cx="845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BC289-2E2C-4A0F-8E6F-7FEEDAD94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838080"/>
            <a:ext cx="4126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3840" y="838080"/>
            <a:ext cx="4126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8045C-0D9B-4927-BB80-0D7E2E82D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9EB30-A68D-4AB9-B94E-708528447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09480" y="-15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237F1-1548-47F1-AFB5-BF38E9B62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838080"/>
            <a:ext cx="4126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3840" y="838080"/>
            <a:ext cx="4126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520" y="2987640"/>
            <a:ext cx="4126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E2C0F-F349-4344-AB72-6B6288A0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838080"/>
            <a:ext cx="4126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3840" y="838080"/>
            <a:ext cx="4126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713840" y="2987640"/>
            <a:ext cx="4126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47C9D-7FCB-4FBA-919A-C9BFFD07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520" y="838080"/>
            <a:ext cx="4126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3840" y="838080"/>
            <a:ext cx="4126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80520" y="2987640"/>
            <a:ext cx="845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BF5C3-636E-4C3B-BFBA-DECB9F97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304920"/>
              <a:ext cx="9144000" cy="6400800"/>
              <a:chOff x="0" y="304920"/>
              <a:chExt cx="9144000" cy="64008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3049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9144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12193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15238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18288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21337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24382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27432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0481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526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6576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39625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42670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45720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48769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1814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4864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7913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60958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64008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67057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" name=""/>
            <p:cNvGrpSpPr/>
            <p:nvPr/>
          </p:nvGrpSpPr>
          <p:grpSpPr>
            <a:xfrm>
              <a:off x="304920" y="0"/>
              <a:ext cx="8534160" cy="6858000"/>
              <a:chOff x="304920" y="0"/>
              <a:chExt cx="8534160" cy="6858000"/>
            </a:xfrm>
          </p:grpSpPr>
          <p:sp>
            <p:nvSpPr>
              <p:cNvPr id="25" name=""/>
              <p:cNvSpPr/>
              <p:nvPr/>
            </p:nvSpPr>
            <p:spPr>
              <a:xfrm>
                <a:off x="3049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094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9144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2193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15238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8288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21337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24382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7432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30481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33526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36576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39625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42670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45720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48769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1814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54864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7913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60958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4008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7057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0102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52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6201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9246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2296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5345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8390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" name=""/>
          <p:cNvSpPr/>
          <p:nvPr/>
        </p:nvSpPr>
        <p:spPr>
          <a:xfrm>
            <a:off x="3352680" y="0"/>
            <a:ext cx="579132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839080" y="0"/>
            <a:ext cx="0" cy="236232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20240" y="495360"/>
            <a:ext cx="1784520" cy="2324160"/>
            <a:chOff x="120240" y="495360"/>
            <a:chExt cx="1784520" cy="2324160"/>
          </a:xfrm>
        </p:grpSpPr>
        <p:sp>
          <p:nvSpPr>
            <p:cNvPr id="57" name=""/>
            <p:cNvSpPr/>
            <p:nvPr/>
          </p:nvSpPr>
          <p:spPr>
            <a:xfrm flipH="1">
              <a:off x="120240" y="592920"/>
              <a:ext cx="1784520" cy="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14640" y="498600"/>
              <a:ext cx="0" cy="23209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217440" y="495360"/>
              <a:ext cx="192600" cy="192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9" y="3"/>
                  </a:moveTo>
                  <a:arcTo wR="10800" hR="10800" stAng="-5476576" swAng="1620404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9" y="3"/>
                  </a:moveTo>
                  <a:arcTo wR="10800" hR="10800" stAng="-5476576" swAng="16204040"/>
                </a:path>
              </a:pathLst>
            </a:cu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380520" y="838080"/>
            <a:ext cx="845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A42CC-4945-4A69-8C41-89FA280ABD2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ftr" idx="3"/>
          </p:nvPr>
        </p:nvSpPr>
        <p:spPr>
          <a:xfrm>
            <a:off x="1803240" y="6248520"/>
            <a:ext cx="5359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Comic Sans MS"/>
              </a:rPr>
              <a:t>&lt;footer&gt;</a:t>
            </a:r>
            <a:r>
              <a:rPr b="0" lang="en-US" sz="1400" spc="-1" strike="noStrike">
                <a:solidFill>
                  <a:srgbClr val="40458c"/>
                </a:solidFill>
                <a:latin typeface="Comic Sans MS"/>
              </a:rPr>
              <a:t>C</a:t>
            </a:r>
            <a:r>
              <a:rPr b="0" lang="el-GR" sz="1400" spc="-1" strike="noStrike">
                <a:solidFill>
                  <a:srgbClr val="40458c"/>
                </a:solidFill>
                <a:latin typeface="Comic Sans MS"/>
              </a:rPr>
              <a:t>: </a:t>
            </a:r>
            <a:r>
              <a:rPr b="0" lang="en-US" sz="1400" spc="-1" strike="noStrike">
                <a:solidFill>
                  <a:srgbClr val="40458c"/>
                </a:solidFill>
                <a:latin typeface="Comic Sans MS"/>
              </a:rPr>
              <a:t>From Theory to Practice </a:t>
            </a:r>
            <a:r>
              <a:rPr b="0" lang="el-GR" sz="1400" spc="-1" strike="noStrike">
                <a:solidFill>
                  <a:srgbClr val="40458c"/>
                </a:solidFill>
                <a:latin typeface="Comic Sans MS"/>
              </a:rPr>
              <a:t>– </a:t>
            </a:r>
            <a:r>
              <a:rPr b="0" lang="en-US" sz="1400" spc="-1" strike="noStrike">
                <a:solidFill>
                  <a:srgbClr val="40458c"/>
                </a:solidFill>
                <a:latin typeface="Comic Sans MS"/>
              </a:rPr>
              <a:t>Chapt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2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0" y="3049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0" y="6094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0" y="9144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0" y="12193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0" y="15238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18288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1337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24382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27432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30481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33526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36576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9625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42670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45720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48769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51814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54864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57913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60958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64008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67057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9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094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9144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2193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5238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8288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1337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4382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7432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0481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3526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6576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9625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2670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5720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8769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1814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4864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913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0958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4008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7057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0102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3152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6201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9246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2296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5345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88390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803160" y="887400"/>
            <a:ext cx="0" cy="285120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4680" y="2940120"/>
            <a:ext cx="5097600" cy="144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609480" y="1488600"/>
            <a:ext cx="6050160" cy="180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 rot="16200000">
            <a:off x="674280" y="1366920"/>
            <a:ext cx="247320" cy="24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559" y="3"/>
                </a:moveTo>
                <a:arcTo wR="10800" hR="10800" stAng="-5476576" swAng="16204040"/>
                <a:lnTo>
                  <a:pt x="10800" y="10800"/>
                </a:lnTo>
                <a:close/>
              </a:path>
              <a:path fill="none" w="21600" h="21600">
                <a:moveTo>
                  <a:pt x="10559" y="3"/>
                </a:moveTo>
                <a:arcTo wR="10800" hR="10800" stAng="-5476576" swAng="16204040"/>
              </a:path>
            </a:pathLst>
          </a:cu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2349360" y="3098880"/>
            <a:ext cx="6045480" cy="2876400"/>
            <a:chOff x="2349360" y="3098880"/>
            <a:chExt cx="6045480" cy="2876400"/>
          </a:xfrm>
        </p:grpSpPr>
        <p:sp>
          <p:nvSpPr>
            <p:cNvPr id="161" name=""/>
            <p:cNvSpPr/>
            <p:nvPr/>
          </p:nvSpPr>
          <p:spPr>
            <a:xfrm>
              <a:off x="2349360" y="5464080"/>
              <a:ext cx="6045480" cy="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210520" y="3098880"/>
              <a:ext cx="0" cy="287640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5400000">
              <a:off x="8091000" y="5312520"/>
              <a:ext cx="247320" cy="24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9" y="3"/>
                  </a:moveTo>
                  <a:arcTo wR="10800" hR="10800" stAng="-5476576" swAng="1620404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9" y="3"/>
                  </a:moveTo>
                  <a:arcTo wR="10800" hR="10800" stAng="-5476576" swAng="16204040"/>
                </a:path>
              </a:pathLst>
            </a:cu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B151E-D135-4ADA-B72C-340E60C993A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40458c"/>
              </a:solidFill>
              <a:latin typeface="Comic Sans MS"/>
            </a:endParaRPr>
          </a:p>
          <a:p>
            <a:pPr lvl="2" marL="914400" algn="ctr">
              <a:spcBef>
                <a:spcPts val="55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58c"/>
                </a:solidFill>
                <a:latin typeface="Comic Sans MS"/>
              </a:rPr>
              <a:t>Third Outline Level</a:t>
            </a:r>
            <a:endParaRPr b="1" lang="en-US" sz="2200" spc="-1" strike="noStrike">
              <a:solidFill>
                <a:srgbClr val="40458c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35040" y="1409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C: From Theory to Practice</a:t>
            </a:r>
            <a:endParaRPr b="1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29528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omic Sans MS"/>
              </a:rPr>
              <a:t>Chapter 2</a:t>
            </a:r>
            <a:r>
              <a:rPr b="1" lang="el-GR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br>
              <a:rPr sz="3200"/>
            </a:br>
            <a:r>
              <a:rPr b="1" i="1" lang="en-US" sz="3200" spc="-1" strike="noStrike">
                <a:solidFill>
                  <a:srgbClr val="0000ff"/>
                </a:solidFill>
                <a:latin typeface="Comic Sans MS"/>
              </a:rPr>
              <a:t>Data Types, Variables </a:t>
            </a: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Comic Sans MS"/>
              </a:rPr>
              <a:t>and Data Output</a:t>
            </a: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1625760" y="6362640"/>
            <a:ext cx="5841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George S. Tselikis and Nikolaos D. Tselika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ssigning Values to Variables</a:t>
            </a:r>
            <a:r>
              <a:rPr b="1" lang="el-GR" sz="3200" spc="-1" strike="noStrike">
                <a:solidFill>
                  <a:srgbClr val="ff0000"/>
                </a:solidFill>
                <a:latin typeface="Comic Sans MS"/>
              </a:rPr>
              <a:t> (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2/2</a:t>
            </a:r>
            <a:r>
              <a:rPr b="1" lang="el-GR" sz="3200" spc="-1" strike="noStrike">
                <a:solidFill>
                  <a:srgbClr val="ff0000"/>
                </a:solidFill>
                <a:latin typeface="Comic Sans MS"/>
              </a:rPr>
              <a:t>)</a:t>
            </a: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600" y="838080"/>
            <a:ext cx="87631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You can also initialize more than one variable </a:t>
            </a:r>
            <a:r>
              <a:rPr b="1" lang="en-US" sz="2000" spc="-1" strike="noStrike" u="sng">
                <a:solidFill>
                  <a:srgbClr val="40458c"/>
                </a:solidFill>
                <a:uFillTx/>
                <a:latin typeface="Comic Sans MS"/>
              </a:rPr>
              <a:t>of the same type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 together with its declaration</a:t>
            </a: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, 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e.g.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1" lang="el-GR" sz="18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1" lang="el-GR" sz="20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1" lang="el-GR" sz="2000" spc="-1" strike="noStrike">
                <a:solidFill>
                  <a:srgbClr val="0000ff"/>
                </a:solidFill>
                <a:latin typeface="Courier New"/>
              </a:rPr>
              <a:t>int </a:t>
            </a:r>
            <a:r>
              <a:rPr b="1" lang="el-GR" sz="2000" spc="-1" strike="noStrike">
                <a:solidFill>
                  <a:srgbClr val="000000"/>
                </a:solidFill>
                <a:latin typeface="Courier New"/>
              </a:rPr>
              <a:t>a = 100, b = 200, c = 300;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To assign a floating point value to a </a:t>
            </a:r>
            <a:r>
              <a:rPr b="1" lang="el-GR" sz="1800" spc="-1" strike="noStrike">
                <a:solidFill>
                  <a:srgbClr val="0000ff"/>
                </a:solidFill>
                <a:latin typeface="Courier New"/>
              </a:rPr>
              <a:t>float 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variable we use </a:t>
            </a:r>
            <a:r>
              <a:rPr b="1" lang="en-US" sz="2000" spc="-1" strike="noStrike" u="sng">
                <a:solidFill>
                  <a:srgbClr val="40458c"/>
                </a:solidFill>
                <a:uFillTx/>
                <a:latin typeface="Comic Sans MS"/>
              </a:rPr>
              <a:t>the dot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 </a:t>
            </a: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(</a:t>
            </a:r>
            <a:r>
              <a:rPr b="1" lang="el-GR" sz="18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)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 for the fractional part and </a:t>
            </a:r>
            <a:r>
              <a:rPr b="1" lang="en-US" sz="2000" spc="-1" strike="noStrike" u="sng">
                <a:solidFill>
                  <a:srgbClr val="40458c"/>
                </a:solidFill>
                <a:uFillTx/>
                <a:latin typeface="Comic Sans MS"/>
              </a:rPr>
              <a:t>not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 the comma </a:t>
            </a: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(</a:t>
            </a:r>
            <a:r>
              <a:rPr b="1" lang="el-GR" sz="1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)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 e</a:t>
            </a: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.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g.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l-GR" sz="2000" spc="-1" strike="noStrike">
                <a:solidFill>
                  <a:srgbClr val="0000ff"/>
                </a:solidFill>
                <a:latin typeface="Courier New"/>
              </a:rPr>
              <a:t>float</a:t>
            </a:r>
            <a:r>
              <a:rPr b="1" lang="el-GR" sz="2000" spc="-1" strike="noStrike">
                <a:solidFill>
                  <a:srgbClr val="000000"/>
                </a:solidFill>
                <a:latin typeface="Courier New"/>
              </a:rPr>
              <a:t> a = 1.24;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If an integer value begins with the digit </a:t>
            </a:r>
            <a:r>
              <a:rPr b="1" lang="el-GR" sz="24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, this value will be interpreted as an octal (base-8) number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E.g. the following statement assigns the decimal value </a:t>
            </a:r>
            <a:r>
              <a:rPr b="1" lang="el-GR" sz="2000" spc="-1" strike="noStrike">
                <a:solidFill>
                  <a:srgbClr val="000000"/>
                </a:solidFill>
                <a:latin typeface="Courier New"/>
              </a:rPr>
              <a:t>64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 and not the value </a:t>
            </a:r>
            <a:r>
              <a:rPr b="1" lang="el-GR" sz="2000" spc="-1" strike="noStrike">
                <a:solidFill>
                  <a:srgbClr val="000000"/>
                </a:solidFill>
                <a:latin typeface="Courier New"/>
              </a:rPr>
              <a:t>100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 to the variable </a:t>
            </a:r>
            <a:r>
              <a:rPr b="1" lang="el-GR" sz="2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0000ff"/>
                </a:solidFill>
                <a:latin typeface="Courier New"/>
              </a:rPr>
              <a:t>	</a:t>
            </a:r>
            <a:endParaRPr b="1" lang="en-US" sz="9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1" lang="el-GR" sz="18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1" lang="el-GR" sz="2000" spc="-1" strike="noStrike">
                <a:solidFill>
                  <a:srgbClr val="0000ff"/>
                </a:solidFill>
                <a:latin typeface="Courier New"/>
              </a:rPr>
              <a:t>int </a:t>
            </a:r>
            <a:r>
              <a:rPr b="1" lang="el-GR" sz="2000" spc="-1" strike="noStrike">
                <a:solidFill>
                  <a:srgbClr val="000000"/>
                </a:solidFill>
                <a:latin typeface="Courier New"/>
              </a:rPr>
              <a:t>a = 0100;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Similarly, a value that begins with </a:t>
            </a:r>
            <a:r>
              <a:rPr b="1" lang="el-GR" sz="2400" spc="-1" strike="noStrike">
                <a:solidFill>
                  <a:srgbClr val="000000"/>
                </a:solidFill>
                <a:latin typeface="Courier New"/>
              </a:rPr>
              <a:t>0x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 or </a:t>
            </a:r>
            <a:r>
              <a:rPr b="1" lang="el-GR" sz="24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 is interpreted as hexadecimal (base-16) number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E.g., the following statement assigns the decimal value </a:t>
            </a:r>
            <a:r>
              <a:rPr b="1" lang="el-GR" sz="2000" spc="-1" strike="noStrike">
                <a:solidFill>
                  <a:srgbClr val="000000"/>
                </a:solidFill>
                <a:latin typeface="Courier New"/>
              </a:rPr>
              <a:t>16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 to variable </a:t>
            </a:r>
            <a:r>
              <a:rPr b="1" lang="el-GR" sz="2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l-GR" sz="6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l-GR" sz="100" spc="-1" strike="noStrike">
                <a:solidFill>
                  <a:srgbClr val="40458c"/>
                </a:solidFill>
                <a:latin typeface="Comic Sans MS"/>
              </a:rPr>
              <a:t>	</a:t>
            </a:r>
            <a:endParaRPr b="1" lang="en-US" sz="1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l-GR" sz="2000" spc="-1" strike="noStrike">
                <a:solidFill>
                  <a:srgbClr val="0000ff"/>
                </a:solidFill>
                <a:latin typeface="Courier New"/>
              </a:rPr>
              <a:t>int </a:t>
            </a:r>
            <a:r>
              <a:rPr b="1" lang="el-GR" sz="2000" spc="-1" strike="noStrike">
                <a:solidFill>
                  <a:srgbClr val="000000"/>
                </a:solidFill>
                <a:latin typeface="Courier New"/>
              </a:rPr>
              <a:t>a = 0x10;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0738C-A513-4F33-B203-A252C75322C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Remarks (1/2)</a:t>
            </a: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600" y="838080"/>
            <a:ext cx="88185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The value assigned to a variable should be within the range of its type 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E.g., the statement:</a:t>
            </a: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l-GR" sz="18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l-GR" sz="18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l-G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l-GR" sz="1800" spc="-1" strike="noStrike">
                <a:solidFill>
                  <a:srgbClr val="0000ff"/>
                </a:solidFill>
                <a:latin typeface="Courier New"/>
              </a:rPr>
              <a:t>char</a:t>
            </a:r>
            <a:r>
              <a:rPr b="1" lang="el-GR" sz="1800" spc="-1" strike="noStrike">
                <a:solidFill>
                  <a:srgbClr val="000000"/>
                </a:solidFill>
                <a:latin typeface="Courier New"/>
              </a:rPr>
              <a:t> ch = 130;</a:t>
            </a: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does not make the value of </a:t>
            </a:r>
            <a:r>
              <a:rPr b="1" lang="el-GR" sz="1800" spc="-1" strike="noStrike">
                <a:solidFill>
                  <a:srgbClr val="000000"/>
                </a:solidFill>
                <a:latin typeface="Courier New"/>
              </a:rPr>
              <a:t>ch</a:t>
            </a:r>
            <a:r>
              <a:rPr b="1" lang="el-GR" sz="1800" spc="-1" strike="noStrike">
                <a:solidFill>
                  <a:srgbClr val="40458c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equal to </a:t>
            </a:r>
            <a:r>
              <a:rPr b="1" lang="el-GR" sz="1800" spc="-1" strike="noStrike">
                <a:solidFill>
                  <a:srgbClr val="000000"/>
                </a:solidFill>
                <a:latin typeface="Courier New"/>
              </a:rPr>
              <a:t>130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, since the range of the values of the signed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char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 type is from </a:t>
            </a:r>
            <a:r>
              <a:rPr b="1" lang="el-GR" sz="1800" spc="-1" strike="noStrike">
                <a:solidFill>
                  <a:srgbClr val="000000"/>
                </a:solidFill>
                <a:latin typeface="Courier New"/>
              </a:rPr>
              <a:t>-128</a:t>
            </a:r>
            <a:r>
              <a:rPr b="1" lang="el-GR" sz="1800" spc="-1" strike="noStrike">
                <a:solidFill>
                  <a:srgbClr val="40458c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to </a:t>
            </a:r>
            <a:r>
              <a:rPr b="1" lang="el-GR" sz="1800" spc="-1" strike="noStrike">
                <a:solidFill>
                  <a:srgbClr val="000000"/>
                </a:solidFill>
                <a:latin typeface="Courier New"/>
              </a:rPr>
              <a:t>127</a:t>
            </a: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30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 is out of the allowed range, so the value is wrapped around 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126</a:t>
            </a: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A floating point value can be written in scientific notation using the lett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 (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), which represents the power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E.g., instead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= 0.085;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 </a:t>
            </a: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we can writ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= 85E-3;</a:t>
            </a: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which is equivalent 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5*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ourier New"/>
              </a:rPr>
              <a:t>-3</a:t>
            </a: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E.g.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= 1.56e6;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 </a:t>
            </a: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is equivalent 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= 1560000;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 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.56*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ourier New"/>
              </a:rPr>
              <a:t>6</a:t>
            </a: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A238B-736A-47D9-8EAB-20C55C7CAE6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Remarks (2/2)</a:t>
            </a: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600" y="838080"/>
            <a:ext cx="88185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mic Sans MS"/>
              </a:rPr>
              <a:t>The value assigned to a variable </a:t>
            </a:r>
            <a:r>
              <a:rPr b="1" lang="en-US" sz="2400" spc="-1" strike="noStrike" u="sng">
                <a:solidFill>
                  <a:srgbClr val="40458c"/>
                </a:solidFill>
                <a:uFillTx/>
                <a:latin typeface="Comic Sans MS"/>
              </a:rPr>
              <a:t>should match the variable type</a:t>
            </a:r>
            <a:endParaRPr b="1" lang="en-US" sz="24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E.g., the statement</a:t>
            </a: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: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      </a:t>
            </a:r>
            <a:r>
              <a:rPr b="1" lang="el-GR" sz="2000" spc="-1" strike="noStrike">
                <a:solidFill>
                  <a:srgbClr val="0000ff"/>
                </a:solidFill>
                <a:latin typeface="Courier New"/>
              </a:rPr>
              <a:t>int</a:t>
            </a:r>
            <a:r>
              <a:rPr b="1" lang="el-GR" sz="2000" spc="-1" strike="noStrike">
                <a:solidFill>
                  <a:srgbClr val="000000"/>
                </a:solidFill>
                <a:latin typeface="Courier New"/>
              </a:rPr>
              <a:t> a = 10.9;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actually sets the value of </a:t>
            </a:r>
            <a:r>
              <a:rPr b="1" lang="el-GR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 to </a:t>
            </a:r>
            <a:r>
              <a:rPr b="1" lang="el-GR" sz="20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, since </a:t>
            </a:r>
            <a:r>
              <a:rPr b="1" lang="el-GR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 has been declared as </a:t>
            </a:r>
            <a:r>
              <a:rPr b="1" lang="el-GR" sz="2000" spc="-1" strike="noStrike">
                <a:solidFill>
                  <a:srgbClr val="0000ff"/>
                </a:solidFill>
                <a:latin typeface="Courier New"/>
              </a:rPr>
              <a:t>int</a:t>
            </a:r>
            <a:r>
              <a:rPr b="1" lang="el-G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and not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float 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0">
              <a:spcBef>
                <a:spcPts val="1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The decimal part </a:t>
            </a:r>
            <a:r>
              <a:rPr b="1" lang="en-US" sz="2000" spc="-1" strike="noStrike" u="sng">
                <a:solidFill>
                  <a:srgbClr val="40458c"/>
                </a:solidFill>
                <a:uFillTx/>
                <a:latin typeface="Comic Sans MS"/>
              </a:rPr>
              <a:t>is completely ignored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 and the assigned value </a:t>
            </a:r>
            <a:r>
              <a:rPr b="1" lang="en-US" sz="2000" spc="-1" strike="noStrike" u="sng">
                <a:solidFill>
                  <a:srgbClr val="40458c"/>
                </a:solidFill>
                <a:uFillTx/>
                <a:latin typeface="Comic Sans MS"/>
              </a:rPr>
              <a:t>is not rounded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1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mic Sans MS"/>
              </a:rPr>
              <a:t>However, the value of a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float</a:t>
            </a:r>
            <a:r>
              <a:rPr b="1" lang="en-US" sz="2400" spc="-1" strike="noStrike">
                <a:solidFill>
                  <a:srgbClr val="40458c"/>
                </a:solidFill>
                <a:latin typeface="Comic Sans MS"/>
              </a:rPr>
              <a:t> variable can be an integer</a:t>
            </a:r>
            <a:endParaRPr b="1" lang="en-US" sz="24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E.g., you could write: 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float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= 50;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 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since that’s equivalent to: 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 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flo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= 50.0;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444600" y="3052800"/>
            <a:ext cx="558720" cy="45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B3A36-C07B-43CF-A330-6C4D9E36594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onstants</a:t>
            </a: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600" y="838080"/>
            <a:ext cx="87631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mic Sans MS"/>
              </a:rPr>
              <a:t>A </a:t>
            </a:r>
            <a:r>
              <a:rPr b="1" lang="en-US" sz="2400" spc="-1" strike="noStrike" u="sng">
                <a:solidFill>
                  <a:srgbClr val="40458c"/>
                </a:solidFill>
                <a:uFillTx/>
                <a:latin typeface="Comic Sans MS"/>
              </a:rPr>
              <a:t>variable whose value can not change during the execution of the program</a:t>
            </a:r>
            <a:r>
              <a:rPr b="1" lang="en-US" sz="2400" spc="-1" strike="noStrike">
                <a:solidFill>
                  <a:srgbClr val="40458c"/>
                </a:solidFill>
                <a:latin typeface="Comic Sans MS"/>
              </a:rPr>
              <a:t> is called a constant</a:t>
            </a:r>
            <a:endParaRPr b="1" lang="en-US" sz="24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mic Sans MS"/>
              </a:rPr>
              <a:t>To declare a constant, precede the type of the variable with the </a:t>
            </a:r>
            <a:r>
              <a:rPr b="1" lang="el-GR" sz="2400" spc="-1" strike="noStrike">
                <a:solidFill>
                  <a:srgbClr val="0000ff"/>
                </a:solidFill>
                <a:latin typeface="Courier New"/>
              </a:rPr>
              <a:t>const</a:t>
            </a:r>
            <a:r>
              <a:rPr b="1" lang="en-US" sz="2400" spc="-1" strike="noStrike">
                <a:solidFill>
                  <a:srgbClr val="40458c"/>
                </a:solidFill>
                <a:latin typeface="Comic Sans MS"/>
              </a:rPr>
              <a:t> keyword</a:t>
            </a:r>
            <a:endParaRPr b="1" lang="en-US" sz="24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mic Sans MS"/>
              </a:rPr>
              <a:t>A constant must be initialized when it is declared and you can not assign it another value within the program</a:t>
            </a:r>
            <a:endParaRPr b="1" lang="en-US" sz="24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E.g., the following statement declares the integer variable </a:t>
            </a:r>
            <a:r>
              <a:rPr b="1" lang="el-GR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 as constant and sets it equal to </a:t>
            </a:r>
            <a:r>
              <a:rPr b="1" lang="el-GR" sz="20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l-GR" sz="2000" spc="-1" strike="noStrike">
                <a:solidFill>
                  <a:srgbClr val="0000ff"/>
                </a:solidFill>
                <a:latin typeface="Courier New"/>
              </a:rPr>
              <a:t>const int</a:t>
            </a:r>
            <a:r>
              <a:rPr b="1" lang="el-GR" sz="2000" spc="-1" strike="noStrike">
                <a:solidFill>
                  <a:srgbClr val="000000"/>
                </a:solidFill>
                <a:latin typeface="Courier New"/>
              </a:rPr>
              <a:t> a = 10;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If we attempt to change the value of a constant later in a program, e.g., by writing</a:t>
            </a: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: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       </a:t>
            </a:r>
            <a:r>
              <a:rPr b="1" lang="el-GR" sz="2000" spc="-1" strike="noStrike">
                <a:solidFill>
                  <a:srgbClr val="000000"/>
                </a:solidFill>
                <a:latin typeface="Courier New"/>
              </a:rPr>
              <a:t>a = 100;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the compiler will raise an error message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8DA7D-02DA-44EA-97B7-B1DC38D6736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0000"/>
                </a:solidFill>
                <a:latin typeface="Comic Sans MS"/>
              </a:rPr>
              <a:t>The </a:t>
            </a:r>
            <a:r>
              <a:rPr b="1" lang="el-GR" sz="3200" spc="-1" strike="noStrike">
                <a:solidFill>
                  <a:srgbClr val="0000ff"/>
                </a:solidFill>
                <a:latin typeface="Courier New"/>
              </a:rPr>
              <a:t>#define</a:t>
            </a:r>
            <a:r>
              <a:rPr b="1" lang="el-GR" sz="3200" spc="-1" strike="noStrike">
                <a:solidFill>
                  <a:srgbClr val="ff0000"/>
                </a:solidFill>
                <a:latin typeface="Comic Sans MS"/>
              </a:rPr>
              <a:t> Directive</a:t>
            </a: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2600" y="838080"/>
            <a:ext cx="87631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An alternative to declare a constant in a program is to use the </a:t>
            </a:r>
            <a:r>
              <a:rPr b="1" lang="el-GR" sz="2000" spc="-1" strike="noStrike">
                <a:solidFill>
                  <a:srgbClr val="0000ff"/>
                </a:solidFill>
                <a:latin typeface="Courier New"/>
              </a:rPr>
              <a:t>#define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 directive, which is used to define a macro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A macro is a name, which – in most cases - represents a numerical value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To define a simple macro we write</a:t>
            </a: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: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        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     </a:t>
            </a:r>
            <a:r>
              <a:rPr b="1" lang="el-GR" sz="2000" spc="-1" strike="noStrike">
                <a:solidFill>
                  <a:srgbClr val="0000ff"/>
                </a:solidFill>
                <a:latin typeface="Courier New"/>
              </a:rPr>
              <a:t>#defin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_of_macro</a:t>
            </a:r>
            <a:r>
              <a:rPr b="1" lang="el-GR" sz="20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lue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When a program is compiled each macro is replaced by its defined value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E.g.</a:t>
            </a: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: 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l-GR" sz="24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l-GR" sz="2000" spc="-1" strike="noStrike">
                <a:solidFill>
                  <a:srgbClr val="0000ff"/>
                </a:solidFill>
                <a:latin typeface="Courier New"/>
              </a:rPr>
              <a:t>#define </a:t>
            </a:r>
            <a:r>
              <a:rPr b="1" lang="el-GR" sz="2000" spc="-1" strike="noStrike">
                <a:solidFill>
                  <a:srgbClr val="000000"/>
                </a:solidFill>
                <a:latin typeface="Courier New"/>
              </a:rPr>
              <a:t>NUM 100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40458c"/>
                </a:solidFill>
                <a:latin typeface="Comic Sans MS"/>
              </a:rPr>
              <a:t>	</a:t>
            </a:r>
            <a:endParaRPr b="1" lang="en-US" sz="12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a macro called </a:t>
            </a:r>
            <a:r>
              <a:rPr b="1" lang="el-GR" sz="2000" spc="-1" strike="noStrike">
                <a:solidFill>
                  <a:srgbClr val="000000"/>
                </a:solidFill>
                <a:latin typeface="Courier New"/>
              </a:rPr>
              <a:t>NUM</a:t>
            </a: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with value </a:t>
            </a:r>
            <a:r>
              <a:rPr b="1" lang="el-GR" sz="2000" spc="-1" strike="noStrike">
                <a:solidFill>
                  <a:srgbClr val="000000"/>
                </a:solidFill>
                <a:latin typeface="Courier New"/>
              </a:rPr>
              <a:t>100</a:t>
            </a: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is defined 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When the program is compiled </a:t>
            </a:r>
            <a:r>
              <a:rPr b="1" lang="el-GR" sz="2000" spc="-1" strike="noStrike">
                <a:solidFill>
                  <a:srgbClr val="000000"/>
                </a:solidFill>
                <a:latin typeface="Courier New"/>
              </a:rPr>
              <a:t>NUM</a:t>
            </a: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is replaced by </a:t>
            </a:r>
            <a:r>
              <a:rPr b="1" lang="el-GR" sz="2000" spc="-1" strike="noStrike">
                <a:solidFill>
                  <a:srgbClr val="000000"/>
                </a:solidFill>
                <a:latin typeface="Courier New"/>
              </a:rPr>
              <a:t>100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</p:txBody>
      </p:sp>
      <p:sp>
        <p:nvSpPr>
          <p:cNvPr id="238" name=""/>
          <p:cNvSpPr/>
          <p:nvPr/>
        </p:nvSpPr>
        <p:spPr>
          <a:xfrm>
            <a:off x="1974960" y="3009960"/>
            <a:ext cx="5065560" cy="5205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597BF-DE99-4830-809A-D5C92D54CBB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Remarks</a:t>
            </a: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0" y="6732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Macros are typically defined before the </a:t>
            </a:r>
            <a:r>
              <a:rPr b="1" lang="el-GR" sz="2000" spc="-1" strike="noStrike">
                <a:solidFill>
                  <a:srgbClr val="000000"/>
                </a:solidFill>
                <a:latin typeface="Courier New"/>
              </a:rPr>
              <a:t>main()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 function, and are usually named using all capital letters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Note that there is no semicolon at the end of a </a:t>
            </a:r>
            <a:r>
              <a:rPr b="1" lang="el-GR" sz="2000" spc="-1" strike="noStrike">
                <a:solidFill>
                  <a:srgbClr val="0000ff"/>
                </a:solidFill>
                <a:latin typeface="Courier New"/>
              </a:rPr>
              <a:t>#define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 directive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In general, macros are most helpful when they’re used to represent a numeric value that appears many times within your program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979640" y="2814480"/>
            <a:ext cx="2484360" cy="2821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223920" y="1295280"/>
            <a:ext cx="558720" cy="4543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295960" y="2817720"/>
            <a:ext cx="2373120" cy="209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4" name=""/>
          <p:cNvSpPr/>
          <p:nvPr/>
        </p:nvSpPr>
        <p:spPr>
          <a:xfrm>
            <a:off x="4157640" y="3460680"/>
            <a:ext cx="110664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vs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0" y="5097600"/>
            <a:ext cx="9144000" cy="1760400"/>
            <a:chOff x="0" y="5097600"/>
            <a:chExt cx="9144000" cy="1760400"/>
          </a:xfrm>
        </p:grpSpPr>
        <p:sp>
          <p:nvSpPr>
            <p:cNvPr id="246" name=""/>
            <p:cNvSpPr/>
            <p:nvPr/>
          </p:nvSpPr>
          <p:spPr>
            <a:xfrm>
              <a:off x="0" y="5815080"/>
              <a:ext cx="9144000" cy="10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Comic Sans MS"/>
                </a:rPr>
                <a:t>	</a:t>
              </a:r>
              <a:r>
                <a:rPr b="1" lang="en-US" sz="1800" spc="-1" strike="noStrike">
                  <a:solidFill>
                    <a:srgbClr val="40458c"/>
                  </a:solidFill>
                  <a:latin typeface="Comic Sans MS"/>
                </a:rPr>
                <a:t>It’s safer and faster (especially in programs with thousand of lines...)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aphicFrame>
          <p:nvGraphicFramePr>
            <p:cNvPr id="247" name=""/>
            <p:cNvGraphicFramePr/>
            <p:nvPr/>
          </p:nvGraphicFramePr>
          <p:xfrm>
            <a:off x="2878200" y="5097600"/>
            <a:ext cx="873000" cy="8064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4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878200" y="5097600"/>
                      <a:ext cx="873000" cy="80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51B8B-691F-48C3-A529-134C77A9E17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f()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function</a:t>
            </a: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-152280" y="838080"/>
            <a:ext cx="91310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58c"/>
                </a:solidFill>
                <a:latin typeface="Comic Sans MS"/>
              </a:rPr>
              <a:t>The</a:t>
            </a:r>
            <a:r>
              <a:rPr b="1" lang="el-GR" sz="2200" spc="-1" strike="noStrike">
                <a:solidFill>
                  <a:srgbClr val="40458c"/>
                </a:solidFill>
                <a:latin typeface="Comic Sans MS"/>
              </a:rPr>
              <a:t> </a:t>
            </a:r>
            <a:r>
              <a:rPr b="1" lang="el-GR" sz="2200" spc="-1" strike="noStrike">
                <a:solidFill>
                  <a:srgbClr val="000000"/>
                </a:solidFill>
                <a:latin typeface="Courier New"/>
              </a:rPr>
              <a:t>printf()</a:t>
            </a:r>
            <a:r>
              <a:rPr b="1" lang="el-GR" sz="2200" spc="-1" strike="noStrike">
                <a:solidFill>
                  <a:srgbClr val="40458c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40458c"/>
                </a:solidFill>
                <a:latin typeface="Comic Sans MS"/>
              </a:rPr>
              <a:t>function is used to print a variable number of data items to the </a:t>
            </a:r>
            <a:r>
              <a:rPr b="1" lang="en-US" sz="2200" spc="-1" strike="noStrike" u="sng">
                <a:solidFill>
                  <a:srgbClr val="40458c"/>
                </a:solidFill>
                <a:uFillTx/>
                <a:latin typeface="Comic Sans MS"/>
              </a:rPr>
              <a:t>st</a:t>
            </a:r>
            <a:r>
              <a:rPr b="1" lang="en-US" sz="2200" spc="-1" strike="noStrike">
                <a:solidFill>
                  <a:srgbClr val="40458c"/>
                </a:solidFill>
                <a:latin typeface="Comic Sans MS"/>
              </a:rPr>
              <a:t>andar</a:t>
            </a:r>
            <a:r>
              <a:rPr b="1" lang="en-US" sz="2200" spc="-1" strike="noStrike" u="sng">
                <a:solidFill>
                  <a:srgbClr val="40458c"/>
                </a:solidFill>
                <a:uFillTx/>
                <a:latin typeface="Comic Sans MS"/>
              </a:rPr>
              <a:t>d</a:t>
            </a:r>
            <a:r>
              <a:rPr b="1" lang="en-US" sz="2200" spc="-1" strike="noStrike">
                <a:solidFill>
                  <a:srgbClr val="40458c"/>
                </a:solidFill>
                <a:latin typeface="Comic Sans MS"/>
              </a:rPr>
              <a:t> </a:t>
            </a:r>
            <a:r>
              <a:rPr b="1" lang="en-US" sz="2200" spc="-1" strike="noStrike" u="sng">
                <a:solidFill>
                  <a:srgbClr val="40458c"/>
                </a:solidFill>
                <a:uFillTx/>
                <a:latin typeface="Comic Sans MS"/>
              </a:rPr>
              <a:t>out</a:t>
            </a:r>
            <a:r>
              <a:rPr b="1" lang="en-US" sz="2200" spc="-1" strike="noStrike">
                <a:solidFill>
                  <a:srgbClr val="40458c"/>
                </a:solidFill>
                <a:latin typeface="Comic Sans MS"/>
              </a:rPr>
              <a:t>put stream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dout</a:t>
            </a:r>
            <a:r>
              <a:rPr b="1" lang="en-US" sz="2200" spc="-1" strike="noStrike">
                <a:solidFill>
                  <a:srgbClr val="40458c"/>
                </a:solidFill>
                <a:latin typeface="Comic Sans MS"/>
              </a:rPr>
              <a:t>), which, by default, is associated with the screen</a:t>
            </a:r>
            <a:endParaRPr b="1" lang="en-US" sz="22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200" spc="-1" strike="noStrike">
                <a:solidFill>
                  <a:srgbClr val="000000"/>
                </a:solidFill>
                <a:latin typeface="Courier New"/>
              </a:rPr>
              <a:t>printf()</a:t>
            </a:r>
            <a:r>
              <a:rPr b="1" lang="el-GR" sz="2200" spc="-1" strike="noStrike">
                <a:solidFill>
                  <a:srgbClr val="40458c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40458c"/>
                </a:solidFill>
                <a:latin typeface="Comic Sans MS"/>
              </a:rPr>
              <a:t>accepts several parameters</a:t>
            </a:r>
            <a:endParaRPr b="1" lang="en-US" sz="22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The first (mandatory) parameter is a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format string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, that is a sequence of characters in double quotes </a:t>
            </a: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(</a:t>
            </a:r>
            <a:r>
              <a:rPr b="1" lang="el-GR" sz="2000" spc="-1" strike="noStrike">
                <a:solidFill>
                  <a:srgbClr val="000000"/>
                </a:solidFill>
                <a:latin typeface="Courier New"/>
              </a:rPr>
              <a:t>" "</a:t>
            </a: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)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, which determines the output format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The next parameters are optional and, if any, </a:t>
            </a:r>
            <a:r>
              <a:rPr b="1" lang="el-GR" sz="2000" spc="-1" strike="noStrike">
                <a:solidFill>
                  <a:srgbClr val="000000"/>
                </a:solidFill>
                <a:latin typeface="Courier New"/>
              </a:rPr>
              <a:t>printf()</a:t>
            </a: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displays their values to the screen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58c"/>
                </a:solidFill>
                <a:latin typeface="Comic Sans MS"/>
              </a:rPr>
              <a:t>The </a:t>
            </a:r>
            <a:r>
              <a:rPr b="1" lang="en-US" sz="2200" spc="-1" strike="noStrike" u="sng">
                <a:solidFill>
                  <a:srgbClr val="40458c"/>
                </a:solidFill>
                <a:uFillTx/>
                <a:latin typeface="Comic Sans MS"/>
              </a:rPr>
              <a:t>format string</a:t>
            </a:r>
            <a:r>
              <a:rPr b="1" lang="el-GR" sz="2200" spc="-1" strike="noStrike">
                <a:solidFill>
                  <a:srgbClr val="40458c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40458c"/>
                </a:solidFill>
                <a:latin typeface="Comic Sans MS"/>
              </a:rPr>
              <a:t>may contain</a:t>
            </a:r>
            <a:r>
              <a:rPr b="1" lang="el-GR" sz="2200" spc="-1" strike="noStrike">
                <a:solidFill>
                  <a:srgbClr val="40458c"/>
                </a:solidFill>
                <a:latin typeface="Comic Sans MS"/>
              </a:rPr>
              <a:t>:</a:t>
            </a:r>
            <a:endParaRPr b="1" lang="en-US" sz="22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Escape Sequences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Conversion Specifications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Ordinary characters</a:t>
            </a: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 (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which are printed as is to the screen</a:t>
            </a: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)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A1AD1-CD77-4D8C-900C-F7C2FD59128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Escape Sequences</a:t>
            </a: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520" y="838080"/>
            <a:ext cx="804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Escape sequences tell the compiler to perform a specific action, such as move the cursor</a:t>
            </a: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An escape sequence consists of a backslash </a:t>
            </a:r>
            <a:r>
              <a:rPr b="1" lang="el-GR" sz="1800" spc="-1" strike="noStrike">
                <a:solidFill>
                  <a:srgbClr val="40458c"/>
                </a:solidFill>
                <a:latin typeface="Comic Sans MS"/>
              </a:rPr>
              <a:t>(</a:t>
            </a:r>
            <a:r>
              <a:rPr b="1" lang="el-GR" sz="1800" spc="-1" strike="noStrike">
                <a:solidFill>
                  <a:srgbClr val="000000"/>
                </a:solidFill>
                <a:latin typeface="Courier New"/>
              </a:rPr>
              <a:t>\</a:t>
            </a:r>
            <a:r>
              <a:rPr b="1" lang="el-GR" sz="1800" spc="-1" strike="noStrike">
                <a:solidFill>
                  <a:srgbClr val="40458c"/>
                </a:solidFill>
                <a:latin typeface="Comic Sans MS"/>
              </a:rPr>
              <a:t>)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 followed by a character </a:t>
            </a: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219240" y="2338560"/>
          <a:ext cx="8823240" cy="3890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240" y="2338560"/>
                    <a:ext cx="8823240" cy="38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28B97-BD4F-4454-BD80-7054D889A73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onversion Specification</a:t>
            </a: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-177840" y="838080"/>
            <a:ext cx="306864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Conversion specifications always begin with the percent (</a:t>
            </a:r>
            <a:r>
              <a:rPr b="1" lang="el-GR" sz="18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) character and it is followed by one or more characters with special significance</a:t>
            </a: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It its simplest form, a conversion specification is followed by one special character, called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conversion specifier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, listed in the table</a:t>
            </a: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2876400" y="630360"/>
          <a:ext cx="6440760" cy="6162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6400" y="630360"/>
                    <a:ext cx="6440760" cy="61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CB7E5-73E0-4B55-8B46-BAC835E384C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Examples</a:t>
            </a:r>
            <a:r>
              <a:rPr b="1" lang="el-GR" sz="3200" spc="-1" strike="noStrike">
                <a:solidFill>
                  <a:srgbClr val="ff0000"/>
                </a:solidFill>
                <a:latin typeface="Comic Sans MS"/>
              </a:rPr>
              <a:t> (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I</a:t>
            </a:r>
            <a:r>
              <a:rPr b="1" lang="el-GR" sz="3200" spc="-1" strike="noStrike">
                <a:solidFill>
                  <a:srgbClr val="ff0000"/>
                </a:solidFill>
                <a:latin typeface="Comic Sans MS"/>
              </a:rPr>
              <a:t>)</a:t>
            </a: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2600" y="838080"/>
            <a:ext cx="87631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638360" y="652320"/>
            <a:ext cx="5251320" cy="3019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1638360" y="3852720"/>
            <a:ext cx="5344920" cy="244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0C8C2-7D85-43A6-B0B2-049608CE235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Variables</a:t>
            </a: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6400" y="622440"/>
            <a:ext cx="8674200" cy="62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RAM and Variables</a:t>
            </a:r>
            <a:endParaRPr b="1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The computer’s RAM (Random Access Memory) consists of millions of successive storage cells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The size of each cell is one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byte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For example, an old PC with 16 MB (megabytes) of RAM consists of: 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16×1024 kB (kilobytes) =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16.777.216 memory cells 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A newer PC with 8 GB (gigabytes) of RAM would have: 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8×1024 MB = 8192×1024 kB = 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8.388.608×1.024 = 8.589.934.592 memory cells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variable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 in C is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a storage location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 with a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given name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value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 of a variable is the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content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 of its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memory location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, while a program may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use the name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 of a variable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to access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 its value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C0B76-8D4B-438D-82F0-A42FCDEF2C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Examples</a:t>
            </a:r>
            <a:r>
              <a:rPr b="1" lang="el-GR" sz="3200" spc="-1" strike="noStrike">
                <a:solidFill>
                  <a:srgbClr val="ff0000"/>
                </a:solidFill>
                <a:latin typeface="Comic Sans MS"/>
              </a:rPr>
              <a:t> (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II</a:t>
            </a:r>
            <a:r>
              <a:rPr b="1" lang="el-GR" sz="3200" spc="-1" strike="noStrike">
                <a:solidFill>
                  <a:srgbClr val="ff0000"/>
                </a:solidFill>
                <a:latin typeface="Comic Sans MS"/>
              </a:rPr>
              <a:t>)</a:t>
            </a: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600" y="838080"/>
            <a:ext cx="87631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2211480" y="662040"/>
            <a:ext cx="4429080" cy="3016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266" name=""/>
          <p:cNvGrpSpPr/>
          <p:nvPr/>
        </p:nvGrpSpPr>
        <p:grpSpPr>
          <a:xfrm>
            <a:off x="2236680" y="3852720"/>
            <a:ext cx="4670640" cy="2498760"/>
            <a:chOff x="2236680" y="3852720"/>
            <a:chExt cx="4670640" cy="2498760"/>
          </a:xfrm>
        </p:grpSpPr>
        <p:pic>
          <p:nvPicPr>
            <p:cNvPr id="267" name="" descr=""/>
            <p:cNvPicPr/>
            <p:nvPr/>
          </p:nvPicPr>
          <p:blipFill>
            <a:blip r:embed="rId2"/>
            <a:stretch/>
          </p:blipFill>
          <p:spPr>
            <a:xfrm>
              <a:off x="2236680" y="3852720"/>
              <a:ext cx="4670640" cy="249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" descr=""/>
            <p:cNvPicPr/>
            <p:nvPr/>
          </p:nvPicPr>
          <p:blipFill>
            <a:blip r:embed="rId3"/>
            <a:stretch/>
          </p:blipFill>
          <p:spPr>
            <a:xfrm>
              <a:off x="2367000" y="5362560"/>
              <a:ext cx="3076560" cy="25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" descr=""/>
            <p:cNvPicPr/>
            <p:nvPr/>
          </p:nvPicPr>
          <p:blipFill>
            <a:blip r:embed="rId4"/>
            <a:stretch/>
          </p:blipFill>
          <p:spPr>
            <a:xfrm>
              <a:off x="3268800" y="5351400"/>
              <a:ext cx="3076560" cy="257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82BD0-408F-4279-A952-0A64E0C690F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-1526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Printing Variables</a:t>
            </a: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2600" y="838080"/>
            <a:ext cx="87631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In</a:t>
            </a: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Courier New"/>
              </a:rPr>
              <a:t>printf()</a:t>
            </a: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variable names follow the last double quote </a:t>
            </a: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(</a:t>
            </a:r>
            <a:r>
              <a:rPr b="1" lang="el-GR" sz="2000" spc="-1" strike="noStrike">
                <a:solidFill>
                  <a:srgbClr val="000000"/>
                </a:solidFill>
                <a:latin typeface="Courier New"/>
              </a:rPr>
              <a:t>" "</a:t>
            </a: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)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 of the format string 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When printing more than one variable, separate each with a comma </a:t>
            </a: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(</a:t>
            </a:r>
            <a:r>
              <a:rPr b="1" lang="el-GR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)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The compiler will associate the conversion specifications with the names of each of the variables from left to right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Each conversion specification should match the type of the respective variable, or the output will be meaningless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22FB9-747F-4BBC-BFE3-68F32F3AA7B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Example</a:t>
            </a: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600" y="838080"/>
            <a:ext cx="87631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573200" y="677880"/>
            <a:ext cx="5937120" cy="298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275" name=""/>
          <p:cNvGrpSpPr/>
          <p:nvPr/>
        </p:nvGrpSpPr>
        <p:grpSpPr>
          <a:xfrm>
            <a:off x="2046240" y="3960720"/>
            <a:ext cx="5213520" cy="2264040"/>
            <a:chOff x="2046240" y="3960720"/>
            <a:chExt cx="5213520" cy="2264040"/>
          </a:xfrm>
        </p:grpSpPr>
        <p:pic>
          <p:nvPicPr>
            <p:cNvPr id="276" name="" descr=""/>
            <p:cNvPicPr/>
            <p:nvPr/>
          </p:nvPicPr>
          <p:blipFill>
            <a:blip r:embed="rId2"/>
            <a:stretch/>
          </p:blipFill>
          <p:spPr>
            <a:xfrm>
              <a:off x="2046240" y="3960720"/>
              <a:ext cx="5213520" cy="226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" descr=""/>
            <p:cNvPicPr/>
            <p:nvPr/>
          </p:nvPicPr>
          <p:blipFill>
            <a:blip r:embed="rId3"/>
            <a:stretch/>
          </p:blipFill>
          <p:spPr>
            <a:xfrm>
              <a:off x="2198520" y="5311800"/>
              <a:ext cx="3076920" cy="25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4"/>
            <a:stretch/>
          </p:blipFill>
          <p:spPr>
            <a:xfrm>
              <a:off x="3726000" y="5299200"/>
              <a:ext cx="3076560" cy="25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CB7BA-28A2-4925-A54E-1E68D7B21B6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-1526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Optional Fields</a:t>
            </a: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2600" y="761760"/>
            <a:ext cx="876312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mic Sans MS"/>
              </a:rPr>
              <a:t>The simplest form of the conversion specification begins with the </a:t>
            </a:r>
            <a:r>
              <a:rPr b="1" lang="el-GR" sz="24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1" lang="en-US" sz="2400" spc="-1" strike="noStrike">
                <a:solidFill>
                  <a:srgbClr val="40458c"/>
                </a:solidFill>
                <a:latin typeface="Comic Sans MS"/>
              </a:rPr>
              <a:t> character followed by the conversion specifier</a:t>
            </a:r>
            <a:endParaRPr b="1" lang="en-US" sz="24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mic Sans MS"/>
              </a:rPr>
              <a:t>However, a conversion specification may include another four fields as shown in the figure</a:t>
            </a:r>
            <a:endParaRPr b="1" lang="en-US" sz="2400" spc="-1" strike="noStrike">
              <a:solidFill>
                <a:srgbClr val="40458c"/>
              </a:solidFill>
              <a:latin typeface="Comic Sans MS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25765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1941480" y="3219480"/>
            <a:ext cx="5370480" cy="3119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64C8A-7A34-4CC3-B1E9-C1E5FD4394C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-1526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Precision</a:t>
            </a: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2240" y="761760"/>
            <a:ext cx="894564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When displaying the value of a </a:t>
            </a:r>
            <a:r>
              <a:rPr b="1" lang="en-US" sz="2000" spc="-1" strike="noStrike" u="sng">
                <a:solidFill>
                  <a:srgbClr val="40458c"/>
                </a:solidFill>
                <a:uFillTx/>
                <a:latin typeface="Comic Sans MS"/>
              </a:rPr>
              <a:t>floating-point type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 </a:t>
            </a: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(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i.e.,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float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 or</a:t>
            </a: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), we can specify the number of significant digits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The default precision is </a:t>
            </a:r>
            <a:r>
              <a:rPr b="1" lang="en-US" sz="2000" spc="-1" strike="noStrike" u="sng">
                <a:solidFill>
                  <a:srgbClr val="40458c"/>
                </a:solidFill>
                <a:uFillTx/>
                <a:latin typeface="Comic Sans MS"/>
              </a:rPr>
              <a:t>six digits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To specify another precision add a period </a:t>
            </a: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(</a:t>
            </a:r>
            <a:r>
              <a:rPr b="1" lang="el-GR" sz="20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)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 followed by 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either an integer (to specify a precise number)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or an asterisk (</a:t>
            </a:r>
            <a:r>
              <a:rPr b="1" lang="el-GR" sz="2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) and in this case the precise number of significant digits is defined by the next argument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If the precision digits are less than the decimal digits, the displayed value is rounded up or down, according to the value of the cut-off digit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If it is less than 5 the displayed value is rounded down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otherwise it is rounded up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To display </a:t>
            </a:r>
            <a:r>
              <a:rPr b="1" lang="en-US" sz="2000" spc="-1" strike="noStrike" u="sng">
                <a:solidFill>
                  <a:srgbClr val="40458c"/>
                </a:solidFill>
                <a:uFillTx/>
                <a:latin typeface="Comic Sans MS"/>
              </a:rPr>
              <a:t>no significant digits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, add </a:t>
            </a:r>
            <a:r>
              <a:rPr b="1" lang="en-US" sz="2000" spc="-1" strike="noStrike" u="sng">
                <a:solidFill>
                  <a:srgbClr val="40458c"/>
                </a:solidFill>
                <a:uFillTx/>
                <a:latin typeface="Comic Sans MS"/>
              </a:rPr>
              <a:t>only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 a period (</a:t>
            </a:r>
            <a:r>
              <a:rPr b="1" lang="el-GR" sz="20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)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B9540-AEF2-44EE-9F9D-EAD989FD56B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Example</a:t>
            </a: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00" y="838080"/>
            <a:ext cx="87631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1844640" y="733320"/>
            <a:ext cx="5137200" cy="2957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288" name=""/>
          <p:cNvGrpSpPr/>
          <p:nvPr/>
        </p:nvGrpSpPr>
        <p:grpSpPr>
          <a:xfrm>
            <a:off x="1601640" y="3922560"/>
            <a:ext cx="5776920" cy="2302200"/>
            <a:chOff x="1601640" y="3922560"/>
            <a:chExt cx="5776920" cy="2302200"/>
          </a:xfrm>
        </p:grpSpPr>
        <p:pic>
          <p:nvPicPr>
            <p:cNvPr id="289" name="" descr=""/>
            <p:cNvPicPr/>
            <p:nvPr/>
          </p:nvPicPr>
          <p:blipFill>
            <a:blip r:embed="rId2"/>
            <a:stretch/>
          </p:blipFill>
          <p:spPr>
            <a:xfrm>
              <a:off x="1601640" y="3922560"/>
              <a:ext cx="5776920" cy="230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" descr=""/>
            <p:cNvPicPr/>
            <p:nvPr/>
          </p:nvPicPr>
          <p:blipFill>
            <a:blip r:embed="rId3"/>
            <a:stretch/>
          </p:blipFill>
          <p:spPr>
            <a:xfrm>
              <a:off x="1755720" y="5103720"/>
              <a:ext cx="3076560" cy="25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" descr=""/>
            <p:cNvPicPr/>
            <p:nvPr/>
          </p:nvPicPr>
          <p:blipFill>
            <a:blip r:embed="rId4"/>
            <a:stretch/>
          </p:blipFill>
          <p:spPr>
            <a:xfrm>
              <a:off x="3517920" y="5116680"/>
              <a:ext cx="3076560" cy="25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D527F-A200-48E5-A6E8-843B160B795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120" y="-1526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Display characters in strings</a:t>
            </a: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2600" y="761760"/>
            <a:ext cx="876312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When displaying a string we can define how many of its characters will be displayed as with floating-point numbers</a:t>
            </a: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If the defined precision exceeds the number of the string’s characters, the string is displayed as is</a:t>
            </a: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163440" y="2421000"/>
            <a:ext cx="5421240" cy="2143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295" name=""/>
          <p:cNvGrpSpPr/>
          <p:nvPr/>
        </p:nvGrpSpPr>
        <p:grpSpPr>
          <a:xfrm>
            <a:off x="3444840" y="4308480"/>
            <a:ext cx="5289480" cy="1941480"/>
            <a:chOff x="3444840" y="4308480"/>
            <a:chExt cx="5289480" cy="1941480"/>
          </a:xfrm>
        </p:grpSpPr>
        <p:pic>
          <p:nvPicPr>
            <p:cNvPr id="296" name="" descr=""/>
            <p:cNvPicPr/>
            <p:nvPr/>
          </p:nvPicPr>
          <p:blipFill>
            <a:blip r:embed="rId2"/>
            <a:stretch/>
          </p:blipFill>
          <p:spPr>
            <a:xfrm>
              <a:off x="3444840" y="4308480"/>
              <a:ext cx="5289480" cy="19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" descr=""/>
            <p:cNvPicPr/>
            <p:nvPr/>
          </p:nvPicPr>
          <p:blipFill>
            <a:blip r:embed="rId3"/>
            <a:stretch/>
          </p:blipFill>
          <p:spPr>
            <a:xfrm>
              <a:off x="3595680" y="5326200"/>
              <a:ext cx="3076560" cy="25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" descr=""/>
            <p:cNvPicPr/>
            <p:nvPr/>
          </p:nvPicPr>
          <p:blipFill>
            <a:blip r:embed="rId4"/>
            <a:stretch/>
          </p:blipFill>
          <p:spPr>
            <a:xfrm>
              <a:off x="5059440" y="5324400"/>
              <a:ext cx="3076560" cy="257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AFD31-5915-4E87-BB2E-1A4204116F9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-1526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ield Width</a:t>
            </a: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2600" y="761760"/>
            <a:ext cx="876312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When displaying the value of an integer or floating-point variable we can define the total number of characters to be displayed by adding 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an integer (to specify the width of the output field) 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or an asterisk (</a:t>
            </a:r>
            <a:r>
              <a:rPr b="1" lang="el-GR" sz="2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) (in which case the width is defined by the next argument)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If the displayed variable will need </a:t>
            </a:r>
            <a:r>
              <a:rPr b="1" lang="en-US" sz="2000" spc="-1" strike="noStrike" u="sng">
                <a:solidFill>
                  <a:srgbClr val="40458c"/>
                </a:solidFill>
                <a:uFillTx/>
                <a:latin typeface="Comic Sans MS"/>
              </a:rPr>
              <a:t>fewer characters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 than the defined width, </a:t>
            </a:r>
            <a:r>
              <a:rPr b="1" lang="en-US" sz="2000" spc="-1" strike="noStrike" u="sng">
                <a:solidFill>
                  <a:srgbClr val="40458c"/>
                </a:solidFill>
                <a:uFillTx/>
                <a:latin typeface="Comic Sans MS"/>
              </a:rPr>
              <a:t>space characters are added from left to right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, and the value is right-justified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If the displayed value needs </a:t>
            </a:r>
            <a:r>
              <a:rPr b="1" lang="en-US" sz="2000" spc="-1" strike="noStrike" u="sng">
                <a:solidFill>
                  <a:srgbClr val="40458c"/>
                </a:solidFill>
                <a:uFillTx/>
                <a:latin typeface="Comic Sans MS"/>
              </a:rPr>
              <a:t>more characters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, the field width will automatically expand as needed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In the case of floating-point numbers, the defined width should take into account the </a:t>
            </a:r>
            <a:r>
              <a:rPr b="1" lang="en-US" sz="2000" spc="-1" strike="noStrike" u="sng">
                <a:solidFill>
                  <a:srgbClr val="40458c"/>
                </a:solidFill>
                <a:uFillTx/>
                <a:latin typeface="Comic Sans MS"/>
              </a:rPr>
              <a:t>precision digits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 and the decimal point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184320" y="5381640"/>
            <a:ext cx="471240" cy="4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EC62F-F48E-478C-BBEF-2F8021C6B57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Example</a:t>
            </a: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2600" y="838080"/>
            <a:ext cx="87631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2529000" y="655560"/>
            <a:ext cx="4010040" cy="3316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305" name=""/>
          <p:cNvGrpSpPr/>
          <p:nvPr/>
        </p:nvGrpSpPr>
        <p:grpSpPr>
          <a:xfrm>
            <a:off x="1881360" y="4043520"/>
            <a:ext cx="5155920" cy="2358720"/>
            <a:chOff x="1881360" y="4043520"/>
            <a:chExt cx="5155920" cy="2358720"/>
          </a:xfrm>
        </p:grpSpPr>
        <p:pic>
          <p:nvPicPr>
            <p:cNvPr id="306" name="" descr=""/>
            <p:cNvPicPr/>
            <p:nvPr/>
          </p:nvPicPr>
          <p:blipFill>
            <a:blip r:embed="rId2"/>
            <a:stretch/>
          </p:blipFill>
          <p:spPr>
            <a:xfrm>
              <a:off x="1881360" y="4043520"/>
              <a:ext cx="5155920" cy="235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" descr=""/>
            <p:cNvPicPr/>
            <p:nvPr/>
          </p:nvPicPr>
          <p:blipFill>
            <a:blip r:embed="rId3"/>
            <a:stretch/>
          </p:blipFill>
          <p:spPr>
            <a:xfrm>
              <a:off x="2028960" y="5508720"/>
              <a:ext cx="3076560" cy="25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" descr=""/>
            <p:cNvPicPr/>
            <p:nvPr/>
          </p:nvPicPr>
          <p:blipFill>
            <a:blip r:embed="rId4"/>
            <a:stretch/>
          </p:blipFill>
          <p:spPr>
            <a:xfrm>
              <a:off x="3400560" y="5454720"/>
              <a:ext cx="3076560" cy="25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0DD79-1B25-46B3-BCAF-65B4BE1D3A5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-1526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Prefix</a:t>
            </a: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-360" y="723960"/>
            <a:ext cx="88930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To indicate that the displayed value is a </a:t>
            </a:r>
            <a:r>
              <a:rPr b="1" lang="el-GR" sz="2000" spc="-1" strike="noStrike">
                <a:solidFill>
                  <a:srgbClr val="0000ff"/>
                </a:solidFill>
                <a:latin typeface="Courier New"/>
              </a:rPr>
              <a:t>short</a:t>
            </a: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integer we can use the letter </a:t>
            </a:r>
            <a:r>
              <a:rPr b="1" lang="el-GR" sz="20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Similarly, to indicate that the displayed value is a </a:t>
            </a:r>
            <a:r>
              <a:rPr b="1" lang="el-GR" sz="2000" spc="-1" strike="noStrike">
                <a:solidFill>
                  <a:srgbClr val="0000ff"/>
                </a:solidFill>
                <a:latin typeface="Courier New"/>
              </a:rPr>
              <a:t>long</a:t>
            </a: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integer we can use the letter </a:t>
            </a:r>
            <a:r>
              <a:rPr b="1" lang="el-GR" sz="2000" spc="-1" strike="noStrike">
                <a:solidFill>
                  <a:srgbClr val="000000"/>
                </a:solidFill>
                <a:latin typeface="Courier New"/>
              </a:rPr>
              <a:t>l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2219400" y="2165400"/>
            <a:ext cx="4649760" cy="251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312" name=""/>
          <p:cNvGrpSpPr/>
          <p:nvPr/>
        </p:nvGrpSpPr>
        <p:grpSpPr>
          <a:xfrm>
            <a:off x="1995480" y="4741920"/>
            <a:ext cx="5145120" cy="1641240"/>
            <a:chOff x="1995480" y="4741920"/>
            <a:chExt cx="5145120" cy="1641240"/>
          </a:xfrm>
        </p:grpSpPr>
        <p:pic>
          <p:nvPicPr>
            <p:cNvPr id="313" name="" descr=""/>
            <p:cNvPicPr/>
            <p:nvPr/>
          </p:nvPicPr>
          <p:blipFill>
            <a:blip r:embed="rId2"/>
            <a:stretch/>
          </p:blipFill>
          <p:spPr>
            <a:xfrm>
              <a:off x="1995480" y="4741920"/>
              <a:ext cx="5145120" cy="164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" descr=""/>
            <p:cNvPicPr/>
            <p:nvPr/>
          </p:nvPicPr>
          <p:blipFill>
            <a:blip r:embed="rId3"/>
            <a:stretch/>
          </p:blipFill>
          <p:spPr>
            <a:xfrm>
              <a:off x="2131920" y="5338800"/>
              <a:ext cx="3076560" cy="25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" descr=""/>
            <p:cNvPicPr/>
            <p:nvPr/>
          </p:nvPicPr>
          <p:blipFill>
            <a:blip r:embed="rId4"/>
            <a:stretch/>
          </p:blipFill>
          <p:spPr>
            <a:xfrm>
              <a:off x="3568680" y="5311800"/>
              <a:ext cx="3076560" cy="25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7E6ED-E5E4-42AC-B924-0766F900958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Rules for Naming Variables</a:t>
            </a: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520" y="812520"/>
            <a:ext cx="845820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Be sure to apply the basic rules for naming variables or your code won’t compile</a:t>
            </a:r>
            <a:endParaRPr b="1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The name of a variable can contain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uppercase letters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,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lowercase letters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,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digits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 and the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underscore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 charact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'_'</a:t>
            </a: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The name must begin with either a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letter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 or the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underscore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 charact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'_'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 </a:t>
            </a: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The C programming language is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case sensitive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, meaning that it distinguishes between uppercase and lowercase letters</a:t>
            </a: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For example, the variab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mp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 is different from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mp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 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mP</a:t>
            </a: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keywords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 of C language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can not be used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 as variable names because they have special significance to the C compiler</a:t>
            </a: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61786-A3A4-4BCD-9ED1-E45FAC5B5D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lags</a:t>
            </a: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880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Flags can be used to control the output of numeric values as listed in the following table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281160" y="1671480"/>
          <a:ext cx="8862840" cy="3841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160" y="1671480"/>
                    <a:ext cx="8862840" cy="38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9A5B9-C668-40A7-97F0-7D929E50A9D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Example</a:t>
            </a: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2600" y="838080"/>
            <a:ext cx="87631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2660760" y="698400"/>
            <a:ext cx="3581280" cy="3206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323" name=""/>
          <p:cNvGrpSpPr/>
          <p:nvPr/>
        </p:nvGrpSpPr>
        <p:grpSpPr>
          <a:xfrm>
            <a:off x="1500120" y="3998880"/>
            <a:ext cx="5872320" cy="2340000"/>
            <a:chOff x="1500120" y="3998880"/>
            <a:chExt cx="5872320" cy="2340000"/>
          </a:xfrm>
        </p:grpSpPr>
        <p:pic>
          <p:nvPicPr>
            <p:cNvPr id="324" name="" descr=""/>
            <p:cNvPicPr/>
            <p:nvPr/>
          </p:nvPicPr>
          <p:blipFill>
            <a:blip r:embed="rId2"/>
            <a:stretch/>
          </p:blipFill>
          <p:spPr>
            <a:xfrm>
              <a:off x="1500120" y="3998880"/>
              <a:ext cx="5872320" cy="23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" descr=""/>
            <p:cNvPicPr/>
            <p:nvPr/>
          </p:nvPicPr>
          <p:blipFill>
            <a:blip r:embed="rId3"/>
            <a:stretch/>
          </p:blipFill>
          <p:spPr>
            <a:xfrm>
              <a:off x="1652760" y="5572080"/>
              <a:ext cx="3076560" cy="25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" descr=""/>
            <p:cNvPicPr/>
            <p:nvPr/>
          </p:nvPicPr>
          <p:blipFill>
            <a:blip r:embed="rId4"/>
            <a:stretch/>
          </p:blipFill>
          <p:spPr>
            <a:xfrm>
              <a:off x="3465360" y="5521320"/>
              <a:ext cx="3076560" cy="25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AB987-09B7-41D0-ABF8-C73BAD76312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-1526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Remarks</a:t>
            </a:r>
            <a:r>
              <a:rPr b="1" lang="el-GR" sz="3200" spc="-1" strike="noStrike">
                <a:solidFill>
                  <a:srgbClr val="ff0000"/>
                </a:solidFill>
                <a:latin typeface="Comic Sans MS"/>
              </a:rPr>
              <a:t> (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1/2</a:t>
            </a:r>
            <a:r>
              <a:rPr b="1" lang="el-GR" sz="3200" spc="-1" strike="noStrike">
                <a:solidFill>
                  <a:srgbClr val="ff0000"/>
                </a:solidFill>
                <a:latin typeface="Comic Sans MS"/>
              </a:rPr>
              <a:t>)</a:t>
            </a: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2240" y="761760"/>
            <a:ext cx="889020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If you use a floating-point number variable in several statements (e.g. in comparisons, arithmetical operations, etc) prefer the </a:t>
            </a:r>
            <a:r>
              <a:rPr b="1" lang="el-GR" sz="1800" spc="-1" strike="noStrike">
                <a:solidFill>
                  <a:srgbClr val="0000ff"/>
                </a:solidFill>
                <a:latin typeface="Courier New"/>
              </a:rPr>
              <a:t>double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 type rather than the </a:t>
            </a:r>
            <a:r>
              <a:rPr b="1" lang="el-GR" sz="1800" spc="-1" strike="noStrike">
                <a:solidFill>
                  <a:srgbClr val="0000ff"/>
                </a:solidFill>
                <a:latin typeface="Courier New"/>
              </a:rPr>
              <a:t>float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 one, because of the unexpected manner that </a:t>
            </a:r>
            <a:r>
              <a:rPr b="1" lang="el-GR" sz="1800" spc="-1" strike="noStrike">
                <a:solidFill>
                  <a:srgbClr val="0000ff"/>
                </a:solidFill>
                <a:latin typeface="Courier New"/>
              </a:rPr>
              <a:t>float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 type manages the decimal digits</a:t>
            </a: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E.g. in the next program the output might not be the expected value (i.e., </a:t>
            </a:r>
            <a:r>
              <a:rPr b="1" lang="el-GR" sz="1800" spc="-1" strike="noStrike">
                <a:solidFill>
                  <a:srgbClr val="000000"/>
                </a:solidFill>
                <a:latin typeface="Courier New"/>
              </a:rPr>
              <a:t>12345.65432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)</a:t>
            </a:r>
            <a:r>
              <a:rPr b="1" lang="el-GR" sz="1800" spc="-1" strike="noStrike">
                <a:solidFill>
                  <a:srgbClr val="40458c"/>
                </a:solidFill>
                <a:latin typeface="Comic Sans MS"/>
              </a:rPr>
              <a:t>, 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but a similar one</a:t>
            </a: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2593800" y="2906640"/>
            <a:ext cx="4023000" cy="2086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330" name=""/>
          <p:cNvGrpSpPr/>
          <p:nvPr/>
        </p:nvGrpSpPr>
        <p:grpSpPr>
          <a:xfrm>
            <a:off x="2093760" y="5018040"/>
            <a:ext cx="5181840" cy="1378080"/>
            <a:chOff x="2093760" y="5018040"/>
            <a:chExt cx="5181840" cy="1378080"/>
          </a:xfrm>
        </p:grpSpPr>
        <p:pic>
          <p:nvPicPr>
            <p:cNvPr id="331" name="" descr=""/>
            <p:cNvPicPr/>
            <p:nvPr/>
          </p:nvPicPr>
          <p:blipFill>
            <a:blip r:embed="rId2"/>
            <a:stretch/>
          </p:blipFill>
          <p:spPr>
            <a:xfrm>
              <a:off x="2093760" y="5018040"/>
              <a:ext cx="5181840" cy="137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" descr=""/>
            <p:cNvPicPr/>
            <p:nvPr/>
          </p:nvPicPr>
          <p:blipFill>
            <a:blip r:embed="rId3"/>
            <a:stretch/>
          </p:blipFill>
          <p:spPr>
            <a:xfrm>
              <a:off x="2238480" y="5651640"/>
              <a:ext cx="3076560" cy="25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" descr=""/>
            <p:cNvPicPr/>
            <p:nvPr/>
          </p:nvPicPr>
          <p:blipFill>
            <a:blip r:embed="rId4"/>
            <a:stretch/>
          </p:blipFill>
          <p:spPr>
            <a:xfrm>
              <a:off x="3660840" y="5651640"/>
              <a:ext cx="3076560" cy="25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B4F33-EDBD-4F15-B2A9-0434DD75CD9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-1526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Remarks</a:t>
            </a:r>
            <a:r>
              <a:rPr b="1" lang="el-GR" sz="3200" spc="-1" strike="noStrike">
                <a:solidFill>
                  <a:srgbClr val="ff0000"/>
                </a:solidFill>
                <a:latin typeface="Comic Sans MS"/>
              </a:rPr>
              <a:t> (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2/2</a:t>
            </a:r>
            <a:r>
              <a:rPr b="1" lang="el-GR" sz="3200" spc="-1" strike="noStrike">
                <a:solidFill>
                  <a:srgbClr val="ff0000"/>
                </a:solidFill>
                <a:latin typeface="Comic Sans MS"/>
              </a:rPr>
              <a:t>)</a:t>
            </a: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600" y="761760"/>
            <a:ext cx="876312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To expand the format string of </a:t>
            </a:r>
            <a:r>
              <a:rPr b="1" lang="el-GR" sz="2000" spc="-1" strike="noStrike">
                <a:solidFill>
                  <a:srgbClr val="000000"/>
                </a:solidFill>
                <a:latin typeface="Courier New"/>
              </a:rPr>
              <a:t>printf()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 to several lines (typically for purposes of readability) use a backslash (</a:t>
            </a:r>
            <a:r>
              <a:rPr b="1" lang="el-GR" sz="2000" spc="-1" strike="noStrike">
                <a:solidFill>
                  <a:srgbClr val="000000"/>
                </a:solidFill>
                <a:latin typeface="Courier New"/>
              </a:rPr>
              <a:t>\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)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E.g., the following </a:t>
            </a:r>
            <a:r>
              <a:rPr b="1" lang="el-GR" sz="2000" spc="-1" strike="noStrike">
                <a:solidFill>
                  <a:srgbClr val="000000"/>
                </a:solidFill>
                <a:latin typeface="Courier New"/>
              </a:rPr>
              <a:t>printf()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 is written over three lines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f("This printf uses three lines, but the \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ssage will appear \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n one line ");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but the output will appear on one line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</p:txBody>
      </p:sp>
      <p:sp>
        <p:nvSpPr>
          <p:cNvPr id="336" name=""/>
          <p:cNvSpPr/>
          <p:nvPr/>
        </p:nvSpPr>
        <p:spPr>
          <a:xfrm>
            <a:off x="496800" y="2495520"/>
            <a:ext cx="8059680" cy="1306440"/>
          </a:xfrm>
          <a:prstGeom prst="rect">
            <a:avLst/>
          </a:prstGeom>
          <a:noFill/>
          <a:ln w="15840">
            <a:solidFill>
              <a:srgbClr val="40458c"/>
            </a:solidFill>
            <a:miter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1027F-E7AD-4D52-9423-4ED90030FB3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-1526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ype casting</a:t>
            </a: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-127080" y="761760"/>
            <a:ext cx="936648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C allows the programmer to convert (temporary) the type of an </a:t>
            </a: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expression to another type</a:t>
            </a: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This kind of conversion is known as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type casting</a:t>
            </a: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Cast expressions have the following form:</a:t>
            </a: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l-GR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l-GR" sz="1800" spc="-1" strike="noStrike">
                <a:solidFill>
                  <a:srgbClr val="0000ff"/>
                </a:solidFill>
                <a:latin typeface="Courier New"/>
              </a:rPr>
              <a:t>data_type</a:t>
            </a:r>
            <a:r>
              <a:rPr b="1" lang="el-GR" sz="1800" spc="-1" strike="noStrike">
                <a:solidFill>
                  <a:srgbClr val="000000"/>
                </a:solidFill>
                <a:latin typeface="Courier New"/>
              </a:rPr>
              <a:t>) expression</a:t>
            </a: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data_type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 specifies the type to which the expression should be converted</a:t>
            </a: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E.g. after the following declaration</a:t>
            </a:r>
            <a:r>
              <a:rPr b="1" lang="el-GR" sz="1800" spc="-1" strike="noStrike">
                <a:solidFill>
                  <a:srgbClr val="40458c"/>
                </a:solidFill>
                <a:latin typeface="Comic Sans MS"/>
              </a:rPr>
              <a:t>:</a:t>
            </a: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l-GR" sz="18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l-GR" sz="18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l-GR" sz="18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float</a:t>
            </a:r>
            <a:r>
              <a:rPr b="1" lang="el-GR" sz="18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b = 2.34</a:t>
            </a:r>
            <a:r>
              <a:rPr b="1" lang="el-GR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the cast expression</a:t>
            </a:r>
            <a:r>
              <a:rPr b="1" lang="el-GR" sz="1800" spc="-1" strike="noStrike">
                <a:solidFill>
                  <a:srgbClr val="40458c"/>
                </a:solidFill>
                <a:latin typeface="Comic Sans MS"/>
              </a:rPr>
              <a:t>:</a:t>
            </a: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l-GR" sz="18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l-GR" sz="18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l-GR" sz="18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l-GR" sz="18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= (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int</a:t>
            </a:r>
            <a:r>
              <a:rPr b="1" lang="el-GR" sz="18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l-GR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converts the value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 from </a:t>
            </a:r>
            <a:r>
              <a:rPr b="1" lang="el-GR" sz="1800" spc="-1" strike="noStrike">
                <a:solidFill>
                  <a:srgbClr val="0000ff"/>
                </a:solidFill>
                <a:latin typeface="Courier New"/>
              </a:rPr>
              <a:t>float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 to </a:t>
            </a:r>
            <a:r>
              <a:rPr b="1" lang="el-GR" sz="1800" spc="-1" strike="noStrike">
                <a:solidFill>
                  <a:srgbClr val="0000ff"/>
                </a:solidFill>
                <a:latin typeface="Courier New"/>
              </a:rPr>
              <a:t>int</a:t>
            </a:r>
            <a:r>
              <a:rPr b="1" lang="el-GR" sz="1800" spc="-1" strike="noStrike">
                <a:solidFill>
                  <a:srgbClr val="40458c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and make </a:t>
            </a:r>
            <a:r>
              <a:rPr b="1" lang="el-GR" sz="1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 equal 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After being used in the cast expression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 will be treated again as </a:t>
            </a:r>
            <a:r>
              <a:rPr b="1" lang="el-GR" sz="1800" spc="-1" strike="noStrike">
                <a:solidFill>
                  <a:srgbClr val="0000ff"/>
                </a:solidFill>
                <a:latin typeface="Courier New"/>
              </a:rPr>
              <a:t>float</a:t>
            </a: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2236680" y="2819520"/>
            <a:ext cx="4233960" cy="4953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60082-5DF9-4BA6-A6E4-22D7D164C93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4330440" y="785520"/>
            <a:ext cx="4575240" cy="56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The cast expres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floa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i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 converts the value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 from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 to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float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 and the result of the division is a decimal number</a:t>
            </a: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If we had written </a:t>
            </a:r>
            <a:r>
              <a:rPr b="1" lang="el-GR" sz="1800" spc="-1" strike="noStrike">
                <a:solidFill>
                  <a:srgbClr val="000000"/>
                </a:solidFill>
                <a:latin typeface="Courier New"/>
              </a:rPr>
              <a:t>k = i/j</a:t>
            </a:r>
            <a:r>
              <a:rPr b="1" lang="el-GR" sz="1800" spc="-1" strike="noStrike">
                <a:solidFill>
                  <a:srgbClr val="40458c"/>
                </a:solidFill>
                <a:latin typeface="Comic Sans MS"/>
              </a:rPr>
              <a:t>, 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then </a:t>
            </a:r>
            <a:r>
              <a:rPr b="1" lang="el-GR" sz="18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el-GR" sz="1800" spc="-1" strike="noStrike">
                <a:solidFill>
                  <a:srgbClr val="40458c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would have been equal 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 (i.e., the result of the integer division </a:t>
            </a:r>
            <a:r>
              <a:rPr b="1" lang="el-GR" sz="1800" spc="-1" strike="noStrike">
                <a:solidFill>
                  <a:srgbClr val="000000"/>
                </a:solidFill>
                <a:latin typeface="Courier New"/>
              </a:rPr>
              <a:t>20/30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)</a:t>
            </a: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As already noted, the conver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 from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 to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float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 is temporary, s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 remains an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 for the rest of the program</a:t>
            </a: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This is why we us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 (no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f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) to display its value in the seco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)</a:t>
            </a: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Example</a:t>
            </a: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566640" y="693720"/>
            <a:ext cx="3540240" cy="3070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343" name=""/>
          <p:cNvGrpSpPr/>
          <p:nvPr/>
        </p:nvGrpSpPr>
        <p:grpSpPr>
          <a:xfrm>
            <a:off x="128520" y="4145040"/>
            <a:ext cx="5146920" cy="1641240"/>
            <a:chOff x="128520" y="4145040"/>
            <a:chExt cx="5146920" cy="1641240"/>
          </a:xfrm>
        </p:grpSpPr>
        <p:pic>
          <p:nvPicPr>
            <p:cNvPr id="344" name="" descr=""/>
            <p:cNvPicPr/>
            <p:nvPr/>
          </p:nvPicPr>
          <p:blipFill>
            <a:blip r:embed="rId2"/>
            <a:stretch/>
          </p:blipFill>
          <p:spPr>
            <a:xfrm>
              <a:off x="128520" y="4145040"/>
              <a:ext cx="5146920" cy="164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" descr=""/>
            <p:cNvPicPr/>
            <p:nvPr/>
          </p:nvPicPr>
          <p:blipFill>
            <a:blip r:embed="rId3"/>
            <a:stretch/>
          </p:blipFill>
          <p:spPr>
            <a:xfrm>
              <a:off x="266760" y="4906800"/>
              <a:ext cx="3076560" cy="25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" descr=""/>
            <p:cNvPicPr/>
            <p:nvPr/>
          </p:nvPicPr>
          <p:blipFill>
            <a:blip r:embed="rId4"/>
            <a:stretch/>
          </p:blipFill>
          <p:spPr>
            <a:xfrm>
              <a:off x="1714680" y="4933800"/>
              <a:ext cx="3076560" cy="257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3F9E4-6EF4-4395-B29B-A489D64C553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 keywords</a:t>
            </a: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845820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l-GR" sz="1400" spc="-1" strike="noStrike">
              <a:solidFill>
                <a:srgbClr val="0000ff"/>
              </a:solidFill>
              <a:latin typeface="Lucida Console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49280" y="1224000"/>
            <a:ext cx="8350200" cy="2200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E8411-9B60-4FAA-8AE3-33494529B4C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Remarks</a:t>
            </a: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883908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Use descriptive names for variables, since it’s much easier to read a program when the names of the variables indicate their intended use 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E.g. if you plan to use a variable to hold the sum of some even numbers, name that variable something lik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m_even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 rather than an arbitrary name lik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 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When necessary, don’t be afraid to use long names to describe the role of a variable and if a variable name is several words long, separate each word with the underscore charac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) for readability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E.g. you might call a variable that holds the number of books in a calculatio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ks_number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 (instead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ksnumber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, or something less readable)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By convention (this is not a requirement) C programmers use lower-case letters when naming variables and upper-case letters when defining macros and constants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3314B-A2EB-46F1-BEB2-B5719E4EE3A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Declaring Variables</a:t>
            </a: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845820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Variables must be declared before being used in a program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Declare a variable as follows: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4" marL="2057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4" marL="2057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   </a:t>
            </a:r>
            <a:r>
              <a:rPr b="1" lang="el-GR" sz="1800" spc="-1" strike="noStrike">
                <a:solidFill>
                  <a:srgbClr val="0000ff"/>
                </a:solidFill>
                <a:latin typeface="Courier New"/>
              </a:rPr>
              <a:t>data_type </a:t>
            </a:r>
            <a:r>
              <a:rPr b="1" lang="el-GR" sz="1800" spc="-1" strike="noStrike">
                <a:solidFill>
                  <a:srgbClr val="000000"/>
                </a:solidFill>
                <a:latin typeface="Courier New"/>
              </a:rPr>
              <a:t>name_of_variable;</a:t>
            </a: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_of_variable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 is the variable name, while the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data_type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 should be one of the C supported data types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E.g., the </a:t>
            </a:r>
            <a:r>
              <a:rPr b="1" lang="en-US" sz="1900" spc="-1" strike="noStrike">
                <a:solidFill>
                  <a:srgbClr val="0000ff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 keyword is used to declare integer variables, and the </a:t>
            </a:r>
            <a:r>
              <a:rPr b="1" lang="en-US" sz="1900" spc="-1" strike="noStrike">
                <a:solidFill>
                  <a:srgbClr val="0000ff"/>
                </a:solidFill>
                <a:latin typeface="Courier New"/>
              </a:rPr>
              <a:t>float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 keyword is used to declare floating point variables, i.e. variables that can store values with a fractional part 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</p:txBody>
      </p:sp>
      <p:sp>
        <p:nvSpPr>
          <p:cNvPr id="219" name=""/>
          <p:cNvSpPr/>
          <p:nvPr/>
        </p:nvSpPr>
        <p:spPr>
          <a:xfrm>
            <a:off x="2019240" y="2171880"/>
            <a:ext cx="5257800" cy="5205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C4DF0-2CD1-4720-94ED-00D530E75C9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 Data Types</a:t>
            </a: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160640" y="739800"/>
          <a:ext cx="6894360" cy="609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2" name="" descr="Rectangle: Click to edit Master text styles&#13;&#10;Second level&#13;&#10;Third level&#13;&#10;Fourth level&#13;&#10;Fifth leve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0640" y="739800"/>
                    <a:ext cx="689436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5CAE1-24FB-4986-8A57-2AE756E4319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Examples and Remarks</a:t>
            </a: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80520" y="799920"/>
            <a:ext cx="8458200" cy="58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40458c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;</a:t>
            </a:r>
            <a:r>
              <a:rPr b="1" lang="en-US" sz="1600" spc="-1" strike="noStrike">
                <a:solidFill>
                  <a:srgbClr val="40458c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818181"/>
                </a:solidFill>
                <a:latin typeface="Courier New"/>
              </a:rPr>
              <a:t>/* Declare an integer variable with name a. */</a:t>
            </a:r>
            <a:endParaRPr b="1" lang="en-US" sz="14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Courier New"/>
              </a:rPr>
              <a:t>float</a:t>
            </a:r>
            <a:r>
              <a:rPr b="1" lang="en-US" sz="1600" spc="-1" strike="noStrike">
                <a:solidFill>
                  <a:srgbClr val="40458c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;</a:t>
            </a:r>
            <a:r>
              <a:rPr b="1" lang="en-US" sz="1600" spc="-1" strike="noStrike">
                <a:solidFill>
                  <a:srgbClr val="40458c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818181"/>
                </a:solidFill>
                <a:latin typeface="Courier New"/>
              </a:rPr>
              <a:t>/* Declare a float variable with name b. */</a:t>
            </a:r>
            <a:endParaRPr b="1" lang="en-US" sz="14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mic Sans MS"/>
              </a:rPr>
              <a:t>Variables of the same type can be declared in the same line, separated with a comma </a:t>
            </a:r>
            <a:r>
              <a:rPr b="1" lang="el-GR" sz="1600" spc="-1" strike="noStrike">
                <a:solidFill>
                  <a:srgbClr val="40458c"/>
                </a:solidFill>
                <a:latin typeface="Comic Sans MS"/>
              </a:rPr>
              <a:t>(</a:t>
            </a:r>
            <a:r>
              <a:rPr b="1" lang="el-GR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l-GR" sz="1600" spc="-1" strike="noStrike">
                <a:solidFill>
                  <a:srgbClr val="40458c"/>
                </a:solidFill>
                <a:latin typeface="Comic Sans MS"/>
              </a:rPr>
              <a:t>) </a:t>
            </a:r>
            <a:endParaRPr b="1" lang="en-US" sz="16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0458c"/>
                </a:solidFill>
                <a:latin typeface="Comic Sans MS"/>
              </a:rPr>
              <a:t>So, instead of declaring the variables </a:t>
            </a:r>
            <a:r>
              <a:rPr b="1" lang="el-GR" sz="1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l-GR" sz="1600" spc="-1" strike="noStrike">
                <a:solidFill>
                  <a:srgbClr val="40458c"/>
                </a:solidFill>
                <a:latin typeface="Comic Sans MS"/>
              </a:rPr>
              <a:t>, </a:t>
            </a:r>
            <a:r>
              <a:rPr b="1" lang="el-GR" sz="1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l-GR" sz="1600" spc="-1" strike="noStrike">
                <a:solidFill>
                  <a:srgbClr val="40458c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40458c"/>
                </a:solidFill>
                <a:latin typeface="Comic Sans MS"/>
              </a:rPr>
              <a:t>and</a:t>
            </a:r>
            <a:r>
              <a:rPr b="1" lang="el-GR" sz="1600" spc="-1" strike="noStrike">
                <a:solidFill>
                  <a:srgbClr val="40458c"/>
                </a:solidFill>
                <a:latin typeface="Comic Sans MS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l-GR" sz="1600" spc="-1" strike="noStrike">
                <a:solidFill>
                  <a:srgbClr val="40458c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40458c"/>
                </a:solidFill>
                <a:latin typeface="Comic Sans MS"/>
              </a:rPr>
              <a:t>in three different lines</a:t>
            </a:r>
            <a:r>
              <a:rPr b="1" lang="el-GR" sz="1600" spc="-1" strike="noStrike">
                <a:solidFill>
                  <a:srgbClr val="40458c"/>
                </a:solidFill>
                <a:latin typeface="Comic Sans MS"/>
              </a:rPr>
              <a:t>:</a:t>
            </a:r>
            <a:endParaRPr b="1" lang="en-US" sz="1600" spc="-1" strike="noStrike">
              <a:solidFill>
                <a:srgbClr val="40458c"/>
              </a:solidFill>
              <a:latin typeface="Comic Sans MS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n-GB" sz="1400" spc="-1" strike="noStrike">
                <a:solidFill>
                  <a:srgbClr val="0000ff"/>
                </a:solidFill>
                <a:latin typeface="Courier New"/>
              </a:rPr>
              <a:t>int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a;</a:t>
            </a:r>
            <a:endParaRPr b="1" lang="en-US" sz="1400" spc="-1" strike="noStrike">
              <a:solidFill>
                <a:srgbClr val="40458c"/>
              </a:solidFill>
              <a:latin typeface="Comic Sans MS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ff"/>
                </a:solidFill>
                <a:latin typeface="Courier New"/>
              </a:rPr>
              <a:t>int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b;</a:t>
            </a:r>
            <a:endParaRPr b="1" lang="en-US" sz="1400" spc="-1" strike="noStrike">
              <a:solidFill>
                <a:srgbClr val="40458c"/>
              </a:solidFill>
              <a:latin typeface="Comic Sans MS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ff"/>
                </a:solidFill>
                <a:latin typeface="Courier New"/>
              </a:rPr>
              <a:t>int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c;</a:t>
            </a:r>
            <a:endParaRPr b="1" lang="en-US" sz="14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n-US" sz="1500" spc="-1" strike="noStrike">
                <a:solidFill>
                  <a:srgbClr val="40458c"/>
                </a:solidFill>
                <a:latin typeface="Comic Sans MS"/>
              </a:rPr>
              <a:t>you can declare them in a single line, as</a:t>
            </a:r>
            <a:r>
              <a:rPr b="1" lang="el-GR" sz="1500" spc="-1" strike="noStrike">
                <a:solidFill>
                  <a:srgbClr val="40458c"/>
                </a:solidFill>
                <a:latin typeface="Comic Sans MS"/>
              </a:rPr>
              <a:t>:</a:t>
            </a:r>
            <a:r>
              <a:rPr b="1" lang="el-GR" sz="1700" spc="-1" strike="noStrike">
                <a:solidFill>
                  <a:srgbClr val="40458c"/>
                </a:solidFill>
                <a:latin typeface="Comic Sans MS"/>
              </a:rPr>
              <a:t> </a:t>
            </a:r>
            <a:endParaRPr b="1" lang="en-US" sz="1700" spc="-1" strike="noStrike">
              <a:solidFill>
                <a:srgbClr val="40458c"/>
              </a:solidFill>
              <a:latin typeface="Comic Sans MS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l-GR" sz="1400" spc="-1" strike="noStrike">
                <a:solidFill>
                  <a:srgbClr val="0000ff"/>
                </a:solidFill>
                <a:latin typeface="Courier New"/>
              </a:rPr>
              <a:t>int</a:t>
            </a:r>
            <a:r>
              <a:rPr b="1" lang="el-GR" sz="1400" spc="-1" strike="noStrike">
                <a:solidFill>
                  <a:srgbClr val="000000"/>
                </a:solidFill>
                <a:latin typeface="Courier New"/>
              </a:rPr>
              <a:t> a, b, c;</a:t>
            </a:r>
            <a:endParaRPr b="1" lang="en-US" sz="14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mic Sans MS"/>
              </a:rPr>
              <a:t>The memory space that a data type requires may vary from one system to another</a:t>
            </a:r>
            <a:endParaRPr b="1" lang="en-US" sz="16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0458c"/>
                </a:solidFill>
                <a:latin typeface="Comic Sans MS"/>
              </a:rPr>
              <a:t>For example, the </a:t>
            </a:r>
            <a:r>
              <a:rPr b="1" lang="el-GR" sz="1400" spc="-1" strike="noStrike">
                <a:solidFill>
                  <a:srgbClr val="0000ff"/>
                </a:solidFill>
                <a:latin typeface="Courier New"/>
              </a:rPr>
              <a:t>int </a:t>
            </a:r>
            <a:r>
              <a:rPr b="1" lang="en-US" sz="1500" spc="-1" strike="noStrike">
                <a:solidFill>
                  <a:srgbClr val="40458c"/>
                </a:solidFill>
                <a:latin typeface="Comic Sans MS"/>
              </a:rPr>
              <a:t>type may reserve 2 bytes in one system and 4 bytes in another</a:t>
            </a:r>
            <a:endParaRPr b="1" lang="en-US" sz="15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0458c"/>
                </a:solidFill>
                <a:latin typeface="Comic Sans MS"/>
              </a:rPr>
              <a:t>To determine the number of bytes a data type uses on a particular system, use the </a:t>
            </a:r>
            <a:r>
              <a:rPr b="1" lang="el-GR" sz="1400" spc="-1" strike="noStrike">
                <a:solidFill>
                  <a:srgbClr val="0000ff"/>
                </a:solidFill>
                <a:latin typeface="Courier New"/>
              </a:rPr>
              <a:t>sizeof</a:t>
            </a:r>
            <a:r>
              <a:rPr b="1" lang="en-US" sz="1500" spc="-1" strike="noStrike">
                <a:solidFill>
                  <a:srgbClr val="40458c"/>
                </a:solidFill>
                <a:latin typeface="Comic Sans MS"/>
              </a:rPr>
              <a:t> operator (discussed in Chapter 4)</a:t>
            </a:r>
            <a:endParaRPr b="1" lang="en-US" sz="15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mic Sans MS"/>
              </a:rPr>
              <a:t>If the precision of your data </a:t>
            </a:r>
            <a:r>
              <a:rPr b="1" lang="en-US" sz="1600" spc="-1" strike="noStrike" u="sng">
                <a:solidFill>
                  <a:srgbClr val="40458c"/>
                </a:solidFill>
                <a:uFillTx/>
                <a:latin typeface="Comic Sans MS"/>
              </a:rPr>
              <a:t>is not critical</a:t>
            </a:r>
            <a:r>
              <a:rPr b="1" lang="en-US" sz="1600" spc="-1" strike="noStrike">
                <a:solidFill>
                  <a:srgbClr val="40458c"/>
                </a:solidFill>
                <a:latin typeface="Comic Sans MS"/>
              </a:rPr>
              <a:t> use the </a:t>
            </a:r>
            <a:r>
              <a:rPr b="1" lang="el-GR" sz="1400" spc="-1" strike="noStrike">
                <a:solidFill>
                  <a:srgbClr val="0000ff"/>
                </a:solidFill>
                <a:latin typeface="Courier New"/>
              </a:rPr>
              <a:t>float</a:t>
            </a:r>
            <a:r>
              <a:rPr b="1" lang="en-US" sz="1600" spc="-1" strike="noStrike">
                <a:solidFill>
                  <a:srgbClr val="40458c"/>
                </a:solidFill>
                <a:latin typeface="Comic Sans MS"/>
              </a:rPr>
              <a:t> type, because </a:t>
            </a:r>
            <a:r>
              <a:rPr b="1" lang="el-GR" sz="1400" spc="-1" strike="noStrike">
                <a:solidFill>
                  <a:srgbClr val="0000ff"/>
                </a:solidFill>
                <a:latin typeface="Courier New"/>
              </a:rPr>
              <a:t>float</a:t>
            </a:r>
            <a:r>
              <a:rPr b="1" lang="en-US" sz="1600" spc="-1" strike="noStrike">
                <a:solidFill>
                  <a:srgbClr val="40458c"/>
                </a:solidFill>
                <a:latin typeface="Comic Sans MS"/>
              </a:rPr>
              <a:t> usually reserves fewer bytes than </a:t>
            </a:r>
            <a:r>
              <a:rPr b="1" lang="el-GR" sz="1400" spc="-1" strike="noStrike">
                <a:solidFill>
                  <a:srgbClr val="0000ff"/>
                </a:solidFill>
                <a:latin typeface="Courier New"/>
              </a:rPr>
              <a:t>double</a:t>
            </a:r>
            <a:r>
              <a:rPr b="1" lang="en-US" sz="1600" spc="-1" strike="noStrike">
                <a:solidFill>
                  <a:srgbClr val="40458c"/>
                </a:solidFill>
                <a:latin typeface="Comic Sans MS"/>
              </a:rPr>
              <a:t>, and calculations with </a:t>
            </a:r>
            <a:r>
              <a:rPr b="1" lang="el-GR" sz="1400" spc="-1" strike="noStrike">
                <a:solidFill>
                  <a:srgbClr val="0000ff"/>
                </a:solidFill>
                <a:latin typeface="Courier New"/>
              </a:rPr>
              <a:t>float</a:t>
            </a:r>
            <a:r>
              <a:rPr b="1" lang="en-US" sz="1600" spc="-1" strike="noStrike">
                <a:solidFill>
                  <a:srgbClr val="40458c"/>
                </a:solidFill>
                <a:latin typeface="Comic Sans MS"/>
              </a:rPr>
              <a:t> numbers tend to be executed faster than with </a:t>
            </a:r>
            <a:r>
              <a:rPr b="1" lang="el-GR" sz="1400" spc="-1" strike="noStrike">
                <a:solidFill>
                  <a:srgbClr val="0000ff"/>
                </a:solidFill>
                <a:latin typeface="Courier New"/>
              </a:rPr>
              <a:t>double</a:t>
            </a:r>
            <a:r>
              <a:rPr b="1" lang="en-US" sz="1600" spc="-1" strike="noStrike">
                <a:solidFill>
                  <a:srgbClr val="40458c"/>
                </a:solidFill>
                <a:latin typeface="Comic Sans MS"/>
              </a:rPr>
              <a:t> numbers</a:t>
            </a:r>
            <a:endParaRPr b="1" lang="en-US" sz="16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mic Sans MS"/>
              </a:rPr>
              <a:t>If the precision </a:t>
            </a:r>
            <a:r>
              <a:rPr b="1" lang="en-US" sz="1600" spc="-1" strike="noStrike" u="sng">
                <a:solidFill>
                  <a:srgbClr val="40458c"/>
                </a:solidFill>
                <a:uFillTx/>
                <a:latin typeface="Comic Sans MS"/>
              </a:rPr>
              <a:t>is critical</a:t>
            </a:r>
            <a:r>
              <a:rPr b="1" lang="en-US" sz="1600" spc="-1" strike="noStrike">
                <a:solidFill>
                  <a:srgbClr val="40458c"/>
                </a:solidFill>
                <a:latin typeface="Comic Sans MS"/>
              </a:rPr>
              <a:t>, use the </a:t>
            </a:r>
            <a:r>
              <a:rPr b="1" lang="el-GR" sz="1400" spc="-1" strike="noStrike">
                <a:solidFill>
                  <a:srgbClr val="0000ff"/>
                </a:solidFill>
                <a:latin typeface="Courier New"/>
              </a:rPr>
              <a:t>double</a:t>
            </a:r>
            <a:r>
              <a:rPr b="1" lang="en-US" sz="1600" spc="-1" strike="noStrike">
                <a:solidFill>
                  <a:srgbClr val="40458c"/>
                </a:solidFill>
                <a:latin typeface="Comic Sans MS"/>
              </a:rPr>
              <a:t> type</a:t>
            </a:r>
            <a:endParaRPr b="1" lang="en-US" sz="1600" spc="-1" strike="noStrike">
              <a:solidFill>
                <a:srgbClr val="40458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1E472-0D88-4565-B8A6-147E571D933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ssigning Values to Variables</a:t>
            </a:r>
            <a:r>
              <a:rPr b="1" lang="el-GR" sz="3200" spc="-1" strike="noStrike">
                <a:solidFill>
                  <a:srgbClr val="ff0000"/>
                </a:solidFill>
                <a:latin typeface="Comic Sans MS"/>
              </a:rPr>
              <a:t> (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1/2</a:t>
            </a:r>
            <a:r>
              <a:rPr b="1" lang="el-GR" sz="3200" spc="-1" strike="noStrike">
                <a:solidFill>
                  <a:srgbClr val="ff0000"/>
                </a:solidFill>
                <a:latin typeface="Comic Sans MS"/>
              </a:rPr>
              <a:t>)</a:t>
            </a: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845820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mic Sans MS"/>
              </a:rPr>
              <a:t>A variable can be given a value by using the assignment operator (</a:t>
            </a:r>
            <a:r>
              <a:rPr b="1" lang="el-GR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40458c"/>
                </a:solidFill>
                <a:latin typeface="Comic Sans MS"/>
              </a:rPr>
              <a:t>)</a:t>
            </a:r>
            <a:endParaRPr b="1" lang="en-US" sz="24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E.g. the following statement assigns the valu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0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 to the </a:t>
            </a:r>
            <a:r>
              <a:rPr b="1" lang="el-GR" sz="1800" spc="-1" strike="noStrike">
                <a:solidFill>
                  <a:srgbClr val="0000ff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 variable </a:t>
            </a:r>
            <a:r>
              <a:rPr b="1" lang="el-GR" sz="18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1" lang="el-GR" sz="1800" spc="-1" strike="noStrike">
                <a:solidFill>
                  <a:srgbClr val="0000ff"/>
                </a:solidFill>
                <a:latin typeface="Courier New"/>
              </a:rPr>
              <a:t>int </a:t>
            </a:r>
            <a:r>
              <a:rPr b="1" lang="el-GR" sz="1800" spc="-1" strike="noStrike">
                <a:solidFill>
                  <a:srgbClr val="000000"/>
                </a:solidFill>
                <a:latin typeface="Courier New"/>
              </a:rPr>
              <a:t>a;</a:t>
            </a: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l-GR" sz="1800" spc="-1" strike="noStrike">
                <a:solidFill>
                  <a:srgbClr val="000000"/>
                </a:solidFill>
                <a:latin typeface="Courier New"/>
              </a:rPr>
              <a:t>a = 100;</a:t>
            </a:r>
            <a:r>
              <a:rPr b="1" lang="el-GR" sz="2200" spc="-1" strike="noStrike">
                <a:solidFill>
                  <a:srgbClr val="0000ff"/>
                </a:solidFill>
                <a:latin typeface="Courier New"/>
              </a:rPr>
              <a:t> </a:t>
            </a:r>
            <a:endParaRPr b="1" lang="en-US" sz="22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mic Sans MS"/>
              </a:rPr>
              <a:t>Alternatively, a variable can be initialized together with its declaration. </a:t>
            </a:r>
            <a:endParaRPr b="1" lang="en-US" sz="24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E.g. the above statements could be replaced in one line, as: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l-GR" sz="2000" spc="-1" strike="noStrike">
                <a:solidFill>
                  <a:srgbClr val="0000ff"/>
                </a:solidFill>
                <a:latin typeface="Courier New"/>
              </a:rPr>
              <a:t>int</a:t>
            </a:r>
            <a:r>
              <a:rPr b="1" lang="el-GR" sz="2000" spc="-1" strike="noStrike">
                <a:solidFill>
                  <a:srgbClr val="000000"/>
                </a:solidFill>
                <a:latin typeface="Courier New"/>
              </a:rPr>
              <a:t> a = 100;</a:t>
            </a:r>
            <a:r>
              <a:rPr b="1" lang="el-GR" sz="3100" spc="-1" strike="noStrike">
                <a:solidFill>
                  <a:srgbClr val="40458c"/>
                </a:solidFill>
                <a:latin typeface="Comic Sans MS"/>
              </a:rPr>
              <a:t> </a:t>
            </a:r>
            <a:endParaRPr b="1" lang="en-US" sz="3100" spc="-1" strike="noStrike">
              <a:solidFill>
                <a:srgbClr val="40458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A3E49-762B-41D1-B746-1ECED7BE5BE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7T06:32:39Z</dcterms:created>
  <dc:creator>Nikos Tselikas</dc:creator>
  <dc:description/>
  <dc:language>en-US</dc:language>
  <cp:lastModifiedBy>NiTse</cp:lastModifiedBy>
  <dcterms:modified xsi:type="dcterms:W3CDTF">2013-09-18T15:32:55Z</dcterms:modified>
  <cp:revision>247</cp:revision>
  <dc:subject>C: From Theory to Practice (G. S. Tselikis and N. D. Tselikas)</dc:subject>
  <dc:title>Chapter 2</dc:title>
</cp:coreProperties>
</file>