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DC7-60BF-48D8-8CDF-A2196A7D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C00-C39C-40FE-A69F-758FB3C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D7C-EEB8-4A1D-9195-4F6D83E6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8F6-92EF-4535-9B70-56FF08BD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9DE-1C82-4475-909A-957ECD1B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083-7966-45E5-B3CD-0666054F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A27-25CA-4394-BAAE-65CD2A89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F2A-16E9-426B-9099-578C6918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194-CD18-492C-8CDC-9E0DEE2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9E9-A2E2-41F2-ABDF-CB1959E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140-E109-4ADA-8E36-81FA7DD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420-EBEA-45F5-BFE1-6408F042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0A44-3008-4440-B98E-421E19E9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and Stat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 systems and their individual components ‘respond’ to inputs by producing an output for a given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put can differ from the input by having a different frequency and amplitude, and also a phase lag (time de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inear systems, the frequency is not altered. However,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 amplitude that is different than the input, and the out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g the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response can be subdivided int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invariant in time;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nt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atic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600200"/>
            <a:ext cx="5410440" cy="4572000"/>
            <a:chOff x="380880" y="1600200"/>
            <a:chExt cx="5410440" cy="4572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80880" y="1600200"/>
              <a:ext cx="54104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248840" y="2122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gure 5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172200" y="1828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of the static calibration curve i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si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0481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(x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many different values of K for a given cur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ic sensitivity is desired (this leads to a lower  x-from-y uncertai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160" y="1523880"/>
            <a:ext cx="66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bration is the comparison of a measured value to a kn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more accurate value, known a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u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3800" y="2475000"/>
            <a:ext cx="79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solut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ifference between the measured and true val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000" y="3084480"/>
            <a:ext cx="73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v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io of the absolute error over the tru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7840" y="380988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alibration equals 1 - relative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8200" y="445608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calibration consists of a number of comparisons, th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lative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ten is used to characterize the ca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Clas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193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82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057400" y="4267080"/>
            <a:ext cx="5019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77960" y="2590920"/>
            <a:ext cx="7146720" cy="348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503280"/>
            <a:ext cx="4038840" cy="18590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838080" y="1600200"/>
            <a:ext cx="7010640" cy="2438280"/>
            <a:chOff x="838080" y="1600200"/>
            <a:chExt cx="7010640" cy="2438280"/>
          </a:xfrm>
        </p:grpSpPr>
        <p:sp>
          <p:nvSpPr>
            <p:cNvPr id="63" name=""/>
            <p:cNvSpPr/>
            <p:nvPr/>
          </p:nvSpPr>
          <p:spPr>
            <a:xfrm>
              <a:off x="4419720" y="3657600"/>
              <a:ext cx="3429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4038480"/>
              <a:ext cx="2438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3080" y="16002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838080" y="4495680"/>
            <a:ext cx="7010640" cy="1143000"/>
            <a:chOff x="838080" y="4495680"/>
            <a:chExt cx="7010640" cy="1143000"/>
          </a:xfrm>
        </p:grpSpPr>
        <p:sp>
          <p:nvSpPr>
            <p:cNvPr id="67" name=""/>
            <p:cNvSpPr/>
            <p:nvPr/>
          </p:nvSpPr>
          <p:spPr>
            <a:xfrm>
              <a:off x="5334120" y="4495680"/>
              <a:ext cx="1752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4876920"/>
              <a:ext cx="2819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0120" y="5257800"/>
              <a:ext cx="2286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5638680"/>
              <a:ext cx="1676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38080" y="5638680"/>
            <a:ext cx="7010640" cy="457200"/>
            <a:chOff x="838080" y="5638680"/>
            <a:chExt cx="7010640" cy="457200"/>
          </a:xfrm>
        </p:grpSpPr>
        <p:sp>
          <p:nvSpPr>
            <p:cNvPr id="72" name=""/>
            <p:cNvSpPr/>
            <p:nvPr/>
          </p:nvSpPr>
          <p:spPr>
            <a:xfrm>
              <a:off x="5029200" y="5638680"/>
              <a:ext cx="281952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6095880"/>
              <a:ext cx="3581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15:57Z</dcterms:created>
  <dc:creator>Patrick Dunn</dc:creator>
  <dc:description/>
  <dc:language>en-US</dc:language>
  <cp:lastModifiedBy>Patrick Dunn</cp:lastModifiedBy>
  <dcterms:modified xsi:type="dcterms:W3CDTF">2008-02-18T20:36:26Z</dcterms:modified>
  <cp:revision>43</cp:revision>
  <dc:subject/>
  <dc:title>Intrinsically Linear Variables</dc:title>
</cp:coreProperties>
</file>