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CCE6-612F-41D6-B527-3ACB8707C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C5EC-0AAF-423C-BDE2-009B970EE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7540-9555-4FF6-BF82-325EB97E4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6CE1-3634-489A-BBBE-BDA4317CC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6990-DC87-4547-A2EE-103BEF0B8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5555-3860-40DE-83E8-2C4A8337F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2D36-BC47-4F60-B39C-CABD19BAE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C00B-0F37-42F9-BD99-93AD30925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9773-8B03-4525-AE16-AC296D7FA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BF23-4AB7-42C2-B914-9FEF6CB2B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8090-1D79-44F8-A4CF-9E404C680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0C56-5AC8-4939-9A15-AAA47619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36422-3F2A-44F0-903D-2BD0ACC608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604880" y="461880"/>
            <a:ext cx="4416480" cy="594360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676600" y="4967280"/>
            <a:ext cx="1066680" cy="2286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776760" y="5576760"/>
            <a:ext cx="1066680" cy="457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730320" y="1668600"/>
            <a:ext cx="3846600" cy="3338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673320" y="10954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760800" y="3708360"/>
            <a:ext cx="180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918840" y="4753080"/>
            <a:ext cx="14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94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4846320" y="4282920"/>
            <a:ext cx="2685960" cy="1305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12800" y="901800"/>
            <a:ext cx="148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333600" y="2403360"/>
            <a:ext cx="217800" cy="711360"/>
            <a:chOff x="3333600" y="2403360"/>
            <a:chExt cx="217800" cy="711360"/>
          </a:xfrm>
        </p:grpSpPr>
        <p:sp>
          <p:nvSpPr>
            <p:cNvPr id="51" name=""/>
            <p:cNvSpPr/>
            <p:nvPr/>
          </p:nvSpPr>
          <p:spPr>
            <a:xfrm>
              <a:off x="3397320" y="2795760"/>
              <a:ext cx="154080" cy="318960"/>
            </a:xfrm>
            <a:custGeom>
              <a:avLst/>
              <a:gdLst/>
              <a:ahLst/>
              <a:rect l="l" t="t" r="r" b="b"/>
              <a:pathLst>
                <a:path w="55" h="156">
                  <a:moveTo>
                    <a:pt x="4" y="0"/>
                  </a:moveTo>
                  <a:cubicBezTo>
                    <a:pt x="6" y="13"/>
                    <a:pt x="8" y="26"/>
                    <a:pt x="12" y="36"/>
                  </a:cubicBezTo>
                  <a:cubicBezTo>
                    <a:pt x="16" y="46"/>
                    <a:pt x="21" y="54"/>
                    <a:pt x="28" y="60"/>
                  </a:cubicBezTo>
                  <a:cubicBezTo>
                    <a:pt x="35" y="66"/>
                    <a:pt x="49" y="65"/>
                    <a:pt x="52" y="72"/>
                  </a:cubicBezTo>
                  <a:cubicBezTo>
                    <a:pt x="55" y="79"/>
                    <a:pt x="54" y="94"/>
                    <a:pt x="48" y="100"/>
                  </a:cubicBezTo>
                  <a:cubicBezTo>
                    <a:pt x="42" y="106"/>
                    <a:pt x="24" y="99"/>
                    <a:pt x="16" y="108"/>
                  </a:cubicBezTo>
                  <a:cubicBezTo>
                    <a:pt x="8" y="117"/>
                    <a:pt x="1" y="148"/>
                    <a:pt x="0" y="156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333600" y="2403360"/>
              <a:ext cx="87480" cy="856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actical Uses of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4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1585440"/>
            <a:ext cx="822960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inf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15840" y="2808360"/>
            <a:ext cx="731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ompare a sample to an assumed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15840" y="2198520"/>
            <a:ext cx="509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stablish a rejection criter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9000" y="3994200"/>
            <a:ext cx="765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5120" indent="-465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f(N) &gt;&gt; f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Thus, there are an infinite nu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ions (like for Student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22320" y="5002200"/>
            <a:ext cx="731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5120" indent="-465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fractional difference between measur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ed frequencies of occurren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9800" y="2998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4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ari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29560" y="1482840"/>
            <a:ext cx="561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andom variable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s defined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68800" y="5022720"/>
            <a:ext cx="5301720" cy="519120"/>
            <a:chOff x="568800" y="5022720"/>
            <a:chExt cx="5301720" cy="519120"/>
          </a:xfrm>
        </p:grpSpPr>
        <p:sp>
          <p:nvSpPr>
            <p:cNvPr id="62" name=""/>
            <p:cNvSpPr/>
            <p:nvPr/>
          </p:nvSpPr>
          <p:spPr>
            <a:xfrm>
              <a:off x="568800" y="5043600"/>
              <a:ext cx="255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0520" indent="-29052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us, as 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→∞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" name=""/>
                <p:cNvSpPr txBox="1"/>
                <p:nvPr/>
              </p:nvSpPr>
              <p:spPr>
                <a:xfrm>
                  <a:off x="3105000" y="5022720"/>
                  <a:ext cx="2765520" cy="51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→</m:t>
                      </m:r>
                      <m:sSup>
                        <m:e>
                          <m:r>
                            <m:t xml:space="preserve">σ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⇒</m:t>
                      </m:r>
                      <m:sSup>
                        <m:e>
                          <m:r>
                            <m:t xml:space="preserve">χ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→</m:t>
                      </m:r>
                      <m:r>
                        <m:t xml:space="preserve">ν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26880" y="1506600"/>
            <a:ext cx="4286520" cy="3403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322880" y="1528920"/>
            <a:ext cx="4255920" cy="33732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047000" y="4062240"/>
            <a:ext cx="1785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8.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28480" y="201600"/>
            <a:ext cx="822960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4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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50760" y="1494000"/>
            <a:ext cx="21193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8.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27520" y="1123920"/>
            <a:ext cx="11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22440" y="1182600"/>
            <a:ext cx="136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26040" y="2208240"/>
            <a:ext cx="245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f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975640" y="3406680"/>
            <a:ext cx="244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f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75400" y="4995720"/>
            <a:ext cx="50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Pr[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≤10] for N = 1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81520" y="5554800"/>
            <a:ext cx="485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Pr[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≤10] for N = 5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5160" y="6093000"/>
            <a:ext cx="58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P = 50 % and N = 5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32400" y="5800680"/>
            <a:ext cx="1054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8.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49440" y="1252440"/>
            <a:ext cx="5822640" cy="46119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243080" y="239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274680"/>
            <a:ext cx="822960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4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bability Density Fun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3976200" y="1349280"/>
            <a:ext cx="4978800" cy="4739040"/>
            <a:chOff x="3976200" y="1349280"/>
            <a:chExt cx="4978800" cy="4739040"/>
          </a:xfrm>
        </p:grpSpPr>
        <p:sp>
          <p:nvSpPr>
            <p:cNvPr id="81" name=""/>
            <p:cNvSpPr/>
            <p:nvPr/>
          </p:nvSpPr>
          <p:spPr>
            <a:xfrm>
              <a:off x="6259680" y="1349280"/>
              <a:ext cx="2695320" cy="47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290520"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90520" indent="-29052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evel of signific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90520" indent="-29052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robability that differences causing the value of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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result solely from random effec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90520" indent="-2905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3976200" y="4295880"/>
              <a:ext cx="4092840" cy="7254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4529160" y="2728800"/>
            <a:ext cx="5792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56040" y="6140520"/>
            <a:ext cx="12920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le 8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567480" y="976320"/>
            <a:ext cx="1981080" cy="15876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57200" y="1133640"/>
            <a:ext cx="5491080" cy="51498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852560" y="24912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68200" y="260280"/>
            <a:ext cx="822960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916600" y="2935440"/>
            <a:ext cx="314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 = 13, fi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1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930280" y="4521240"/>
            <a:ext cx="304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P = 5 %, f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 N =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-Clas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57680" y="1401840"/>
            <a:ext cx="86270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roperty sales group claims that they are 95 % confident that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 deviation in the horizontal displacement of a floor in the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‘safe’ apartment during an earthquake will be less than 6 inch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ata that they use to support their claim consists of a sampl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21 and a measured standard deviation of 5 inches. Does their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their clai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-Clas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95160" y="1380960"/>
            <a:ext cx="5491440" cy="515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1T18:46:47Z</dcterms:created>
  <dc:creator>pdunn</dc:creator>
  <dc:description/>
  <dc:language>en-US</dc:language>
  <cp:lastModifiedBy>Patrick Dunn</cp:lastModifiedBy>
  <dcterms:modified xsi:type="dcterms:W3CDTF">2008-03-26T18:48:10Z</dcterms:modified>
  <cp:revision>50</cp:revision>
  <dc:subject/>
  <dc:title>Slide 1</dc:title>
</cp:coreProperties>
</file>