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C6A2-EE79-4908-8BFC-E4A5ED4C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8DBC-993F-4A1F-8E2B-E5EC4320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2BBD-1178-45D1-B840-A0CA1B81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860E-43A6-409D-A3A6-8D631BDA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D66A-5EE8-4B4A-85DE-3F025E62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7D64-D9A5-47C3-945B-308A5A6C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B6A9-1376-4CFA-B269-1A2C0CB0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DB5C-89CD-4EC9-92CF-9BE3180D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AD00-0868-4BBA-BF80-5300C837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CC1F-2CB2-420C-B858-16FA135A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5BA7-6517-48AC-9231-3FFAFE1B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338D-2B4C-44EC-B22A-DBB30C9D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C43A-19F7-4CC8-AE5E-74E306D32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81360" y="1044720"/>
            <a:ext cx="3505320" cy="5244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6280" y="2077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ld English Text MT"/>
              </a:rPr>
              <a:t>1700’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, p, RH</a:t>
            </a:r>
            <a:r>
              <a:rPr b="0" lang="en-US" sz="3600" spc="-1" strike="noStrike">
                <a:solidFill>
                  <a:srgbClr val="000000"/>
                </a:solidFill>
                <a:latin typeface="Old English Text MT"/>
              </a:rPr>
              <a:t> Measur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172120" y="2619360"/>
            <a:ext cx="1419120" cy="34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314440" y="3514680"/>
            <a:ext cx="1590840" cy="209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314440" y="2057040"/>
            <a:ext cx="2190960" cy="237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87400" y="2373480"/>
            <a:ext cx="19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960" y="3497400"/>
            <a:ext cx="24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9880" y="1906560"/>
            <a:ext cx="189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69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usoidal-Input For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6600" y="1727280"/>
            <a:ext cx="4114800" cy="3289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86400" y="1708200"/>
            <a:ext cx="4152960" cy="328932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8693280" y="6270480"/>
            <a:ext cx="450720" cy="587520"/>
          </a:xfrm>
          <a:custGeom>
            <a:avLst/>
            <a:gdLst>
              <a:gd name="textAreaLeft" fmla="*/ 29160 w 450720"/>
              <a:gd name="textAreaRight" fmla="*/ 421560 w 450720"/>
              <a:gd name="textAreaTop" fmla="*/ 29160 h 587520"/>
              <a:gd name="textAreaBottom" fmla="*/ 558360 h 587520"/>
            </a:gdLst>
            <a:ahLst/>
            <a:rect l="textAreaLeft" t="textAreaTop" r="textAreaRight" b="textAreaBottom"/>
            <a:pathLst>
              <a:path w="21600" h="28151">
                <a:moveTo>
                  <a:pt x="0" y="0"/>
                </a:moveTo>
                <a:lnTo>
                  <a:pt x="21600" y="0"/>
                </a:lnTo>
                <a:lnTo>
                  <a:pt x="21600" y="28151"/>
                </a:lnTo>
                <a:lnTo>
                  <a:pt x="0" y="28151"/>
                </a:lnTo>
                <a:close/>
              </a:path>
              <a:path fill="lightenLess" w="21600" h="281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151">
                <a:moveTo>
                  <a:pt x="21600" y="0"/>
                </a:moveTo>
                <a:lnTo>
                  <a:pt x="21600" y="28151"/>
                </a:lnTo>
                <a:lnTo>
                  <a:pt x="20200" y="26751"/>
                </a:lnTo>
                <a:lnTo>
                  <a:pt x="20200" y="1400"/>
                </a:lnTo>
                <a:close/>
              </a:path>
              <a:path fill="darkenLess" w="21600" h="28151">
                <a:moveTo>
                  <a:pt x="21600" y="28151"/>
                </a:moveTo>
                <a:lnTo>
                  <a:pt x="0" y="28151"/>
                </a:lnTo>
                <a:lnTo>
                  <a:pt x="1400" y="26751"/>
                </a:lnTo>
                <a:lnTo>
                  <a:pt x="20200" y="26751"/>
                </a:lnTo>
                <a:close/>
              </a:path>
              <a:path fill="lighten" w="21600" h="28151">
                <a:moveTo>
                  <a:pt x="0" y="281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751"/>
                </a:lnTo>
                <a:close/>
              </a:path>
              <a:path fill="darken" w="21600" h="28151">
                <a:moveTo>
                  <a:pt x="3794" y="14075"/>
                </a:moveTo>
                <a:lnTo>
                  <a:pt x="17806" y="7069"/>
                </a:lnTo>
                <a:lnTo>
                  <a:pt x="17806" y="21082"/>
                </a:lnTo>
                <a:close/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401840" y="5172120"/>
                <a:ext cx="2306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403960" y="5203800"/>
                <a:ext cx="2790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sSup>
                      <m:e>
                        <m:r>
                          <m:t xml:space="preserve">(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</m:e>
                    </m:d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37880" y="6195960"/>
            <a:ext cx="208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s 5.3 and 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3720" y="185544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RC circuit (R =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C = 0.5 F) with sine inp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ing of 3sin(2t) from 0 V to 1 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1440" y="2963880"/>
            <a:ext cx="52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its phase lag in degre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3160" y="3567240"/>
            <a:ext cx="43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its phase lag in s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1080" y="414180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its magnitude ratio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8607600" y="6327720"/>
            <a:ext cx="536400" cy="530280"/>
          </a:xfrm>
          <a:custGeom>
            <a:avLst/>
            <a:gdLst>
              <a:gd name="textAreaLeft" fmla="*/ 34200 w 536400"/>
              <a:gd name="textAreaRight" fmla="*/ 502200 w 536400"/>
              <a:gd name="textAreaTop" fmla="*/ 34200 h 530280"/>
              <a:gd name="textAreaBottom" fmla="*/ 496080 h 530280"/>
            </a:gdLst>
            <a:ahLst/>
            <a:rect l="textAreaLeft" t="textAreaTop" r="textAreaRight" b="textAreaBottom"/>
            <a:pathLst>
              <a:path w="21849" h="21600">
                <a:moveTo>
                  <a:pt x="0" y="0"/>
                </a:moveTo>
                <a:lnTo>
                  <a:pt x="21849" y="0"/>
                </a:lnTo>
                <a:lnTo>
                  <a:pt x="21849" y="21600"/>
                </a:lnTo>
                <a:lnTo>
                  <a:pt x="0" y="21600"/>
                </a:lnTo>
                <a:close/>
              </a:path>
              <a:path fill="lightenLess" w="21849" h="21600">
                <a:moveTo>
                  <a:pt x="0" y="0"/>
                </a:moveTo>
                <a:lnTo>
                  <a:pt x="21849" y="0"/>
                </a:lnTo>
                <a:lnTo>
                  <a:pt x="20449" y="1400"/>
                </a:lnTo>
                <a:lnTo>
                  <a:pt x="1400" y="1400"/>
                </a:lnTo>
                <a:close/>
              </a:path>
              <a:path fill="darken" w="21849" h="21600">
                <a:moveTo>
                  <a:pt x="21849" y="0"/>
                </a:moveTo>
                <a:lnTo>
                  <a:pt x="21849" y="21600"/>
                </a:lnTo>
                <a:lnTo>
                  <a:pt x="20449" y="20200"/>
                </a:lnTo>
                <a:lnTo>
                  <a:pt x="20449" y="1400"/>
                </a:lnTo>
                <a:close/>
              </a:path>
              <a:path fill="darkenLess" w="21849" h="21600">
                <a:moveTo>
                  <a:pt x="21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49" y="20200"/>
                </a:lnTo>
                <a:close/>
              </a:path>
              <a:path fill="lighten" w="21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49" h="21600">
                <a:moveTo>
                  <a:pt x="3918" y="3794"/>
                </a:moveTo>
                <a:lnTo>
                  <a:pt x="17931" y="10800"/>
                </a:lnTo>
                <a:lnTo>
                  <a:pt x="3918" y="17806"/>
                </a:lnTo>
                <a:close/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0520" y="5081760"/>
            <a:ext cx="782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The minus sign in the phase lag simply me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the outp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nput i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69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usoidal-Input For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36600" y="1727280"/>
            <a:ext cx="4114800" cy="3289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86400" y="1708200"/>
            <a:ext cx="4152960" cy="328932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8693280" y="6270480"/>
            <a:ext cx="450720" cy="587520"/>
          </a:xfrm>
          <a:custGeom>
            <a:avLst/>
            <a:gdLst>
              <a:gd name="textAreaLeft" fmla="*/ 29160 w 450720"/>
              <a:gd name="textAreaRight" fmla="*/ 421560 w 450720"/>
              <a:gd name="textAreaTop" fmla="*/ 29160 h 587520"/>
              <a:gd name="textAreaBottom" fmla="*/ 558360 h 587520"/>
            </a:gdLst>
            <a:ahLst/>
            <a:rect l="textAreaLeft" t="textAreaTop" r="textAreaRight" b="textAreaBottom"/>
            <a:pathLst>
              <a:path w="21600" h="28151">
                <a:moveTo>
                  <a:pt x="0" y="0"/>
                </a:moveTo>
                <a:lnTo>
                  <a:pt x="21600" y="0"/>
                </a:lnTo>
                <a:lnTo>
                  <a:pt x="21600" y="28151"/>
                </a:lnTo>
                <a:lnTo>
                  <a:pt x="0" y="28151"/>
                </a:lnTo>
                <a:close/>
              </a:path>
              <a:path fill="lightenLess" w="21600" h="281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151">
                <a:moveTo>
                  <a:pt x="21600" y="0"/>
                </a:moveTo>
                <a:lnTo>
                  <a:pt x="21600" y="28151"/>
                </a:lnTo>
                <a:lnTo>
                  <a:pt x="20200" y="26751"/>
                </a:lnTo>
                <a:lnTo>
                  <a:pt x="20200" y="1400"/>
                </a:lnTo>
                <a:close/>
              </a:path>
              <a:path fill="darkenLess" w="21600" h="28151">
                <a:moveTo>
                  <a:pt x="21600" y="28151"/>
                </a:moveTo>
                <a:lnTo>
                  <a:pt x="0" y="28151"/>
                </a:lnTo>
                <a:lnTo>
                  <a:pt x="1400" y="26751"/>
                </a:lnTo>
                <a:lnTo>
                  <a:pt x="20200" y="26751"/>
                </a:lnTo>
                <a:close/>
              </a:path>
              <a:path fill="lighten" w="21600" h="28151">
                <a:moveTo>
                  <a:pt x="0" y="281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751"/>
                </a:lnTo>
                <a:close/>
              </a:path>
              <a:path fill="darken" w="21600" h="28151">
                <a:moveTo>
                  <a:pt x="3794" y="14075"/>
                </a:moveTo>
                <a:lnTo>
                  <a:pt x="17806" y="7069"/>
                </a:lnTo>
                <a:lnTo>
                  <a:pt x="17806" y="21082"/>
                </a:lnTo>
                <a:close/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st-Order System Dynamic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1080" y="120960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eral expression for a first-order system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181080" y="2324160"/>
            <a:ext cx="86868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linear first-order ODE, which can be rearrang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1080" y="3476520"/>
            <a:ext cx="82296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me constant of the system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quals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K (=1/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a constant that converts F(t) into units of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1080" y="4467240"/>
            <a:ext cx="82296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eral expression is a physical law for the system, such as conservation of energy (Kirchhoff’s voltage law) for a simple RC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Response to F(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29120" y="1278000"/>
            <a:ext cx="7684200" cy="825480"/>
            <a:chOff x="429120" y="1278000"/>
            <a:chExt cx="7684200" cy="825480"/>
          </a:xfrm>
        </p:grpSpPr>
        <p:sp>
          <p:nvSpPr>
            <p:cNvPr id="57" name=""/>
            <p:cNvSpPr/>
            <p:nvPr/>
          </p:nvSpPr>
          <p:spPr>
            <a:xfrm>
              <a:off x="429120" y="1278000"/>
              <a:ext cx="7684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exact solution of                      depends upon th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pecific type of forcing function, F(t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3697200" y="1298520"/>
                  <a:ext cx="176688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y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K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" name=""/>
          <p:cNvSpPr/>
          <p:nvPr/>
        </p:nvSpPr>
        <p:spPr>
          <a:xfrm>
            <a:off x="438120" y="2247840"/>
            <a:ext cx="78390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study the responses to two different forcing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8120" y="3257640"/>
            <a:ext cx="78390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: F(t) = 0 for 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 0 and F(t) = A for t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8120" y="4915080"/>
            <a:ext cx="78390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usoidal: F(t) = A si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/>
          <p:nvPr/>
        </p:nvCxnSpPr>
        <p:spPr>
          <a:xfrm>
            <a:off x="2905200" y="5019840"/>
            <a:ext cx="667440" cy="10080"/>
          </a:xfrm>
          <a:prstGeom prst="bentConnector3">
            <a:avLst>
              <a:gd name="adj1" fmla="val 49973"/>
            </a:avLst>
          </a:prstGeom>
          <a:ln w="0">
            <a:noFill/>
          </a:ln>
        </p:spPr>
      </p:cxnSp>
      <p:grpSp>
        <p:nvGrpSpPr>
          <p:cNvPr id="63" name=""/>
          <p:cNvGrpSpPr/>
          <p:nvPr/>
        </p:nvGrpSpPr>
        <p:grpSpPr>
          <a:xfrm>
            <a:off x="4639680" y="4924440"/>
            <a:ext cx="4383000" cy="1628640"/>
            <a:chOff x="4639680" y="4924440"/>
            <a:chExt cx="4383000" cy="1628640"/>
          </a:xfrm>
        </p:grpSpPr>
        <p:grpSp>
          <p:nvGrpSpPr>
            <p:cNvPr id="64" name=""/>
            <p:cNvGrpSpPr/>
            <p:nvPr/>
          </p:nvGrpSpPr>
          <p:grpSpPr>
            <a:xfrm>
              <a:off x="4639680" y="4924440"/>
              <a:ext cx="3748680" cy="1628640"/>
              <a:chOff x="4639680" y="4924440"/>
              <a:chExt cx="3748680" cy="1628640"/>
            </a:xfrm>
          </p:grpSpPr>
          <p:pic>
            <p:nvPicPr>
              <p:cNvPr id="6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896000" y="4924440"/>
                <a:ext cx="3492360" cy="162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>
                <a:off x="4639680" y="4964040"/>
                <a:ext cx="91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90520" indent="-2905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</a:rPr>
                  <a:t>+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667760" y="6230880"/>
                <a:ext cx="888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90520" indent="-2905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</a:rPr>
                  <a:t>-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05560" y="5592600"/>
                <a:ext cx="83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90520" indent="-2905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353200" y="5705640"/>
                <a:ext cx="2695320" cy="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7840080" y="5529240"/>
              <a:ext cx="118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→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-Input For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5760" y="149544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eral solution for step-input forcing is of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538520" y="32353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167040" y="2811600"/>
            <a:ext cx="87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itution of this equation into the governing equation g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185760" y="4010040"/>
            <a:ext cx="86868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ition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(t = 0) =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5120" y="5276880"/>
            <a:ext cx="82296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the specific solu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-Input For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2080" y="226692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(t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38520" y="32353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755800" y="1441440"/>
                <a:ext cx="37782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A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A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262080" y="2924280"/>
            <a:ext cx="82296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above expressions and defin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gnitude rat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, resul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8960" y="4924440"/>
            <a:ext cx="82296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ynamic er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, relates to the magnitude ratio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90520" y="1200240"/>
            <a:ext cx="6458040" cy="4798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26600" y="6186600"/>
            <a:ext cx="145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74960" y="2509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74680"/>
            <a:ext cx="8229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-Input For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23720" y="14936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RC circuit (R =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C = 0.5 F) with step input forcing from 0 V to 1 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8840" y="2481120"/>
            <a:ext cx="53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V of the circuit at 1 s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4960" y="3098880"/>
            <a:ext cx="53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V of the circuit at 5 s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8200" y="3724200"/>
            <a:ext cx="56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% dynamic error at 1 s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8607600" y="6327720"/>
            <a:ext cx="536400" cy="530280"/>
          </a:xfrm>
          <a:custGeom>
            <a:avLst/>
            <a:gdLst>
              <a:gd name="textAreaLeft" fmla="*/ 34200 w 536400"/>
              <a:gd name="textAreaRight" fmla="*/ 502200 w 536400"/>
              <a:gd name="textAreaTop" fmla="*/ 34200 h 530280"/>
              <a:gd name="textAreaBottom" fmla="*/ 496080 h 530280"/>
            </a:gdLst>
            <a:ahLst/>
            <a:rect l="textAreaLeft" t="textAreaTop" r="textAreaRight" b="textAreaBottom"/>
            <a:pathLst>
              <a:path w="21849" h="21600">
                <a:moveTo>
                  <a:pt x="0" y="0"/>
                </a:moveTo>
                <a:lnTo>
                  <a:pt x="21849" y="0"/>
                </a:lnTo>
                <a:lnTo>
                  <a:pt x="21849" y="21600"/>
                </a:lnTo>
                <a:lnTo>
                  <a:pt x="0" y="21600"/>
                </a:lnTo>
                <a:close/>
              </a:path>
              <a:path fill="lightenLess" w="21849" h="21600">
                <a:moveTo>
                  <a:pt x="0" y="0"/>
                </a:moveTo>
                <a:lnTo>
                  <a:pt x="21849" y="0"/>
                </a:lnTo>
                <a:lnTo>
                  <a:pt x="20449" y="1400"/>
                </a:lnTo>
                <a:lnTo>
                  <a:pt x="1400" y="1400"/>
                </a:lnTo>
                <a:close/>
              </a:path>
              <a:path fill="darken" w="21849" h="21600">
                <a:moveTo>
                  <a:pt x="21849" y="0"/>
                </a:moveTo>
                <a:lnTo>
                  <a:pt x="21849" y="21600"/>
                </a:lnTo>
                <a:lnTo>
                  <a:pt x="20449" y="20200"/>
                </a:lnTo>
                <a:lnTo>
                  <a:pt x="20449" y="1400"/>
                </a:lnTo>
                <a:close/>
              </a:path>
              <a:path fill="darkenLess" w="21849" h="21600">
                <a:moveTo>
                  <a:pt x="21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49" y="20200"/>
                </a:lnTo>
                <a:close/>
              </a:path>
              <a:path fill="lighten" w="21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49" h="21600">
                <a:moveTo>
                  <a:pt x="3918" y="3794"/>
                </a:moveTo>
                <a:lnTo>
                  <a:pt x="17931" y="10800"/>
                </a:lnTo>
                <a:lnTo>
                  <a:pt x="3918" y="17806"/>
                </a:lnTo>
                <a:close/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usoidal-Input For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0440" y="1292400"/>
            <a:ext cx="84837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eral solution for sinusoidal-input forcing is of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538520" y="32353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419120" y="2095560"/>
                <a:ext cx="59864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03" name=""/>
          <p:cNvGrpSpPr/>
          <p:nvPr/>
        </p:nvGrpSpPr>
        <p:grpSpPr>
          <a:xfrm>
            <a:off x="203040" y="2806560"/>
            <a:ext cx="8174160" cy="2125800"/>
            <a:chOff x="203040" y="2806560"/>
            <a:chExt cx="8174160" cy="2125800"/>
          </a:xfrm>
        </p:grpSpPr>
        <p:sp>
          <p:nvSpPr>
            <p:cNvPr id="104" name=""/>
            <p:cNvSpPr/>
            <p:nvPr/>
          </p:nvSpPr>
          <p:spPr>
            <a:xfrm>
              <a:off x="203040" y="2806560"/>
              <a:ext cx="817416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290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bstitution into the governing equation, comparing like terms (see Exmpl. 5.4), and using the initial condition y(0) = 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with input forcing F(t)=Asin(</a:t>
              </a:r>
              <a:r>
                <a:rPr b="0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ω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)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1230480" y="4002120"/>
                  <a:ext cx="6432480" cy="93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+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A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τ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d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KA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τ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(</m:t>
                      </m:r>
                      <m:r>
                        <m:t xml:space="preserve">ωt</m:t>
                      </m:r>
                      <m:r>
                        <m:t xml:space="preserve">+</m:t>
                      </m:r>
                      <m:r>
                        <m:t xml:space="preserve">φ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6" name=""/>
          <p:cNvSpPr/>
          <p:nvPr/>
        </p:nvSpPr>
        <p:spPr>
          <a:xfrm>
            <a:off x="204840" y="5848200"/>
            <a:ext cx="82296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ase l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radians), shifts the output in time from the input,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ta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26760" y="6043680"/>
            <a:ext cx="145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33640" y="1593720"/>
            <a:ext cx="5190840" cy="4187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usoidal-Input For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8:46:47Z</dcterms:created>
  <dc:creator>pdunn</dc:creator>
  <dc:description/>
  <dc:language>en-US</dc:language>
  <cp:lastModifiedBy>Patrick Dunn</cp:lastModifiedBy>
  <dcterms:modified xsi:type="dcterms:W3CDTF">2008-02-27T13:47:01Z</dcterms:modified>
  <cp:revision>161</cp:revision>
  <dc:subject/>
  <dc:title>Slide 1</dc:title>
</cp:coreProperties>
</file>