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2F6-4E81-4D66-9CA2-7A312355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24B-2AF4-46B5-A967-EE16100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B26-B57F-480C-AEFF-215BB330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F6E-3CBC-4784-8D2C-1587D387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7FD-7070-4414-86C1-DB796FF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B11-3FB6-4084-B306-DD475C8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0CD-AA2B-47C4-8BE0-0BFA2FD0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73D-0DBA-48D1-A78B-B336E25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1F2-3BC1-47D9-A542-AE988625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398-D818-48BF-9761-28772E1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B4B-42A2-402B-AC44-3A4F02B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F40-ECC3-4F07-8BFD-99033924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86DF-06ED-4476-B330-468202B7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58720" y="1066680"/>
            <a:ext cx="4292640" cy="5207040"/>
            <a:chOff x="558720" y="1066680"/>
            <a:chExt cx="4292640" cy="5207040"/>
          </a:xfrm>
        </p:grpSpPr>
        <p:sp>
          <p:nvSpPr>
            <p:cNvPr id="42" name=""/>
            <p:cNvSpPr/>
            <p:nvPr/>
          </p:nvSpPr>
          <p:spPr>
            <a:xfrm>
              <a:off x="558720" y="1066680"/>
              <a:ext cx="4292640" cy="5207040"/>
            </a:xfrm>
            <a:prstGeom prst="bevel">
              <a:avLst>
                <a:gd name="adj" fmla="val 3259"/>
              </a:avLst>
            </a:prstGeom>
            <a:solidFill>
              <a:srgbClr val="638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723960" y="1269720"/>
              <a:ext cx="39402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2880" y="1598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443" t="2378" r="17348" b="13162"/>
          <a:stretch/>
        </p:blipFill>
        <p:spPr>
          <a:xfrm rot="21477000">
            <a:off x="5749560" y="1042560"/>
            <a:ext cx="2778120" cy="489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53760" y="5929200"/>
            <a:ext cx="36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lton’s Heights of Hypothetical Men (18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 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7160" y="1052640"/>
            <a:ext cx="83102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s statistics toolbox contains distributions such as the norma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Student’s 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7160" y="2025720"/>
            <a:ext cx="84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useful command prefixes are the probability density  func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probability distribution func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and the inverse of the distribution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7160" y="3330720"/>
            <a:ext cx="82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pdf(x,x'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the value of p(x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pdf(0,0,1) = 0.3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46240" y="4068720"/>
            <a:ext cx="8480160" cy="1662480"/>
            <a:chOff x="246240" y="4068720"/>
            <a:chExt cx="8480160" cy="166248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5543640" y="4068720"/>
                  <a:ext cx="239544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∗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246240" y="4222800"/>
              <a:ext cx="8480160" cy="15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m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cdf(x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',</a:t>
              </a:r>
              <a:r>
                <a:rPr b="0" i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cdf(1,0,1) = 0.8413 (= 0.3413 + 0.50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 error function, p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normcdf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,1) – 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7160" y="5668920"/>
            <a:ext cx="85676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inv(P,x',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s x* from the c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minv(0.8413,0,1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 Using MATLA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the value of z for a given %P,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73240" y="2448000"/>
                <a:ext cx="6145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rminv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inv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55040" y="41148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(95,0,1) = 1.96  and z(95.45,0,1) = 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7960" y="1093680"/>
            <a:ext cx="6192720" cy="3560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23616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al I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10360" y="5803920"/>
            <a:ext cx="71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854840" y="4997520"/>
                <a:ext cx="349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44520" y="4915080"/>
                <a:ext cx="47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263600" y="570852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816680" y="5670720"/>
                <a:ext cx="470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816200" y="4692600"/>
            <a:ext cx="5816520" cy="1042920"/>
            <a:chOff x="1816200" y="4692600"/>
            <a:chExt cx="5816520" cy="1042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457360" y="4692600"/>
                  <a:ext cx="451656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≤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≤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7162920" y="507996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6200" y="506736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41400" y="5672160"/>
            <a:ext cx="5791320" cy="635040"/>
            <a:chOff x="1841400" y="5672160"/>
            <a:chExt cx="5791320" cy="635040"/>
          </a:xfrm>
        </p:grpSpPr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901960" y="5672160"/>
                  <a:ext cx="37800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sSubSup>
                            <m:e>
                              <m:r>
                                <m:t xml:space="preserve">νS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Sup>
                            <m:e>
                              <m:r>
                                <m:t xml:space="preserve">χ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ν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χ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α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>
              <a:off x="7162920" y="5918040"/>
              <a:ext cx="469800" cy="304920"/>
            </a:xfrm>
            <a:prstGeom prst="leftArrow">
              <a:avLst>
                <a:gd name="adj1" fmla="val 50000"/>
                <a:gd name="adj2" fmla="val 385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41400" y="5854680"/>
              <a:ext cx="470160" cy="304920"/>
            </a:xfrm>
            <a:prstGeom prst="leftArrow">
              <a:avLst>
                <a:gd name="adj1" fmla="val 50000"/>
                <a:gd name="adj2" fmla="val 3854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Probability Density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4888" t="0" r="16663" b="0"/>
          <a:stretch/>
        </p:blipFill>
        <p:spPr>
          <a:xfrm>
            <a:off x="1133640" y="1249200"/>
            <a:ext cx="2754000" cy="497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60920" y="131292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very large number of very sma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-50 chance’ effects (Ex: human he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0920" y="2314440"/>
            <a:ext cx="50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very large number of very small, ‘constrained’ effects (Ex: rain dr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3322800"/>
            <a:ext cx="490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rarely occurring events in a very large population (Ex: micrometeoroid diameters in L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60920" y="4484520"/>
            <a:ext cx="50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b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‘failure’ event in a very large population (Ex: component life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60920" y="555948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utcome influenced by a finite number of ’50-50 chance’ effects (Ex: coin t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7440" y="5425920"/>
            <a:ext cx="12193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1515960"/>
            <a:ext cx="59184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42720" y="3668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rmal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8880" y="992160"/>
            <a:ext cx="3862440" cy="556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8840" y="19368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 of the Normal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3760" y="1055520"/>
            <a:ext cx="334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, with true mean and true variance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920" y="853560"/>
            <a:ext cx="165384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87800" y="2060640"/>
            <a:ext cx="3747960" cy="1652040"/>
            <a:chOff x="4987800" y="2060640"/>
            <a:chExt cx="3747960" cy="1652040"/>
          </a:xfrm>
        </p:grpSpPr>
        <p:sp>
          <p:nvSpPr>
            <p:cNvPr id="77" name=""/>
            <p:cNvSpPr/>
            <p:nvPr/>
          </p:nvSpPr>
          <p:spPr>
            <a:xfrm>
              <a:off x="4987800" y="3070080"/>
              <a:ext cx="374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riment with many, small, uncontrolled extraneous 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75240" y="2060640"/>
              <a:ext cx="420480" cy="682560"/>
            </a:xfrm>
            <a:prstGeom prst="downArrow">
              <a:avLst>
                <a:gd name="adj1" fmla="val 50000"/>
                <a:gd name="adj2" fmla="val 405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896000" y="4303800"/>
            <a:ext cx="3663720" cy="1617480"/>
            <a:chOff x="4896000" y="4303800"/>
            <a:chExt cx="3663720" cy="1617480"/>
          </a:xfrm>
        </p:grpSpPr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896000" y="5076720"/>
                  <a:ext cx="366372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'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1" name=""/>
            <p:cNvSpPr/>
            <p:nvPr/>
          </p:nvSpPr>
          <p:spPr>
            <a:xfrm>
              <a:off x="6383160" y="4303800"/>
              <a:ext cx="420840" cy="682560"/>
            </a:xfrm>
            <a:prstGeom prst="downArrow">
              <a:avLst>
                <a:gd name="adj1" fmla="val 50000"/>
                <a:gd name="adj2" fmla="val 4054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malized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2416320"/>
            <a:ext cx="6421680" cy="459720"/>
            <a:chOff x="762120" y="2416320"/>
            <a:chExt cx="6421680" cy="459720"/>
          </a:xfrm>
        </p:grpSpPr>
        <p:sp>
          <p:nvSpPr>
            <p:cNvPr id="84" name=""/>
            <p:cNvSpPr/>
            <p:nvPr/>
          </p:nvSpPr>
          <p:spPr>
            <a:xfrm>
              <a:off x="762120" y="24163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(x-x') /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92400" y="2416320"/>
              <a:ext cx="409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normal 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77600" y="3011400"/>
            <a:ext cx="8059680" cy="875880"/>
            <a:chOff x="777600" y="3011400"/>
            <a:chExt cx="8059680" cy="875880"/>
          </a:xfrm>
        </p:grpSpPr>
        <p:sp>
          <p:nvSpPr>
            <p:cNvPr id="87" name=""/>
            <p:cNvSpPr/>
            <p:nvPr/>
          </p:nvSpPr>
          <p:spPr>
            <a:xfrm>
              <a:off x="777600" y="3011400"/>
              <a:ext cx="199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x') /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90600" y="3011400"/>
              <a:ext cx="5746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ize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variable (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lue of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; subscript 1 usually drop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30440" y="1185840"/>
                <a:ext cx="42148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379520" y="4659480"/>
            <a:ext cx="782640" cy="564840"/>
          </a:xfrm>
          <a:prstGeom prst="rightArrow">
            <a:avLst>
              <a:gd name="adj1" fmla="val 50000"/>
              <a:gd name="adj2" fmla="val 346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70120" y="4162320"/>
            <a:ext cx="7005600" cy="1880640"/>
            <a:chOff x="870120" y="4162320"/>
            <a:chExt cx="7005600" cy="188064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892160" y="4162320"/>
                  <a:ext cx="59835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β</m:t>
                          </m:r>
                          <m:r>
                            <m:t xml:space="preserve">≤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</m:nary>
                      <m:r>
                        <m:t xml:space="preserve">dβ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870120" y="4440240"/>
              <a:ext cx="826920" cy="507960"/>
            </a:xfrm>
            <a:custGeom>
              <a:avLst/>
              <a:gdLst>
                <a:gd name="textAreaLeft" fmla="*/ 103320 w 826920"/>
                <a:gd name="textAreaRight" fmla="*/ 723600 w 826920"/>
                <a:gd name="textAreaTop" fmla="*/ 127080 h 507960"/>
                <a:gd name="textAreaBottom" fmla="*/ 38124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30600" y="5637240"/>
              <a:ext cx="4458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p(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mal error func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0280" y="6383160"/>
            <a:ext cx="109044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13720" y="1255680"/>
            <a:ext cx="19555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9760" y="1389240"/>
            <a:ext cx="6680160" cy="4998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6200" y="409680"/>
            <a:ext cx="59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rmal Error Function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54680" y="296856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0≤z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54680" y="35784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1≤z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54680" y="4195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2≤z≤2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4680" y="477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3≤z≤3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4800" y="3564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0.6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61520" y="53071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[-0.44≤z≤4.06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57320" y="2970360"/>
            <a:ext cx="7858440" cy="439560"/>
            <a:chOff x="1057320" y="2970360"/>
            <a:chExt cx="7858440" cy="439560"/>
          </a:xfrm>
        </p:grpSpPr>
        <p:sp>
          <p:nvSpPr>
            <p:cNvPr id="106" name=""/>
            <p:cNvSpPr/>
            <p:nvPr/>
          </p:nvSpPr>
          <p:spPr>
            <a:xfrm>
              <a:off x="8038440" y="29703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.34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7320" y="3276720"/>
              <a:ext cx="361800" cy="133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047600" y="4189320"/>
            <a:ext cx="7896600" cy="478080"/>
            <a:chOff x="1047600" y="4189320"/>
            <a:chExt cx="7896600" cy="478080"/>
          </a:xfrm>
        </p:grpSpPr>
        <p:sp>
          <p:nvSpPr>
            <p:cNvPr id="109" name=""/>
            <p:cNvSpPr/>
            <p:nvPr/>
          </p:nvSpPr>
          <p:spPr>
            <a:xfrm>
              <a:off x="8066880" y="41893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.95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7600" y="4543560"/>
              <a:ext cx="390600" cy="123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47600" y="4782960"/>
            <a:ext cx="7895160" cy="1160640"/>
            <a:chOff x="1047600" y="4782960"/>
            <a:chExt cx="7895160" cy="1160640"/>
          </a:xfrm>
        </p:grpSpPr>
        <p:sp>
          <p:nvSpPr>
            <p:cNvPr id="112" name=""/>
            <p:cNvSpPr/>
            <p:nvPr/>
          </p:nvSpPr>
          <p:spPr>
            <a:xfrm>
              <a:off x="8065440" y="47829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.99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7600" y="5810400"/>
              <a:ext cx="381240" cy="133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38360" y="2514600"/>
            <a:ext cx="5445720" cy="3766680"/>
            <a:chOff x="3438360" y="2514600"/>
            <a:chExt cx="5445720" cy="3766680"/>
          </a:xfrm>
        </p:grpSpPr>
        <p:sp>
          <p:nvSpPr>
            <p:cNvPr id="115" name=""/>
            <p:cNvSpPr/>
            <p:nvPr/>
          </p:nvSpPr>
          <p:spPr>
            <a:xfrm>
              <a:off x="7022520" y="5638680"/>
              <a:ext cx="186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Arial"/>
                </a:rPr>
                <a:t>0.1700+0.5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Arial"/>
                </a:rPr>
                <a:t>=0.6700 or 67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8360" y="2514600"/>
              <a:ext cx="381240" cy="133200"/>
            </a:xfrm>
            <a:prstGeom prst="rect">
              <a:avLst/>
            </a:pr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3840" y="6076800"/>
              <a:ext cx="438120" cy="142920"/>
            </a:xfrm>
            <a:prstGeom prst="rect">
              <a:avLst/>
            </a:prstGeom>
            <a:noFill/>
            <a:ln w="284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2800" y="1469880"/>
            <a:ext cx="8229600" cy="18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a student will score between 75 and 90 on an exam, assuming that the scores are distributed normally with a mean of 60 and a standard deviation of 15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00" y="3686040"/>
            <a:ext cx="77796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(75-60)/15 = 1 and z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(90-60)/15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-sided z-table &gt;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3413 and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47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&gt;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75 to 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0.4772 – 0.3413 = 0.1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1080" y="1122120"/>
            <a:ext cx="87883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l the number of data poi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inus the number of independent restrictions (constraints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d for the required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5360" y="232416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1080" y="3009960"/>
            <a:ext cx="61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mputing the sample mea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800" y="3862440"/>
            <a:ext cx="83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mputing the sample standard deviation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7480" y="4660920"/>
            <a:ext cx="76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constructing a histogra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3,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1080" y="5430960"/>
            <a:ext cx="78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performing a regression analysi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(m+1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m is the order of the fit (linear, m = 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0:08:15Z</dcterms:created>
  <dc:creator> </dc:creator>
  <dc:description/>
  <dc:language>en-US</dc:language>
  <cp:lastModifiedBy>Patrick Dunn</cp:lastModifiedBy>
  <dcterms:modified xsi:type="dcterms:W3CDTF">2008-03-25T17:29:35Z</dcterms:modified>
  <cp:revision>55</cp:revision>
  <dc:subject/>
  <dc:title>Slide 1</dc:title>
</cp:coreProperties>
</file>