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440B7-991A-491C-AE51-5889D11CE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88BB6-53BE-44EB-B6E8-A3CF85222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8BA69-E2A2-4AAC-9B9D-C8985549C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CF17D-786F-4DFE-86C3-653E7F3B4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1C183-453C-4B04-9DDB-FDC640A4A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05AA6-9444-4D25-A13E-DF44FFCE4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819BC-BE96-46B1-988F-D36635D23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06336-F604-474D-B9F6-51F4A7CD0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359BC-0857-4AED-B87E-03EACBEAB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9A2CA-000E-4856-B98A-CC378C997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69909-A1E6-45A6-9EA1-A1FE59995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362F5-74E5-4B96-A815-5B39F7B98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3A2B4-454F-404A-BBAA-18E017749E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nd.edu/~pdunn/www.ame250/mometernr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ponse Character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480" y="1487520"/>
            <a:ext cx="90014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90520" indent="-2905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output, y(t), of 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inea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ystem can be determined 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solving the linear 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which the a’s are constant coefficients, n the order of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, and F(t) the forcing func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1673280" y="2387520"/>
            <a:ext cx="6280200" cy="9018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16440" y="4510080"/>
            <a:ext cx="801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90520" indent="-2905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(t) can represent a physical variable that varies in tim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ch as pressure, temperature, velocity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13920" y="5638680"/>
            <a:ext cx="8182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90520" indent="-2905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xact ODE that describes the system is derived fr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onservation la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First-Order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>
            <a:hlinkClick r:id="rId1"/>
          </p:cNvPr>
          <p:cNvPicPr/>
          <p:nvPr/>
        </p:nvPicPr>
        <p:blipFill>
          <a:blip r:embed="rId2"/>
          <a:srcRect l="0" t="0" r="18189" b="65379"/>
          <a:stretch/>
        </p:blipFill>
        <p:spPr>
          <a:xfrm>
            <a:off x="5943600" y="1523880"/>
            <a:ext cx="2057400" cy="1281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8" name=""/>
          <p:cNvSpPr/>
          <p:nvPr/>
        </p:nvSpPr>
        <p:spPr>
          <a:xfrm>
            <a:off x="385200" y="1523880"/>
            <a:ext cx="491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ider the response of a bulb thermo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is immersed from room air into hot wat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83760" y="2286000"/>
            <a:ext cx="52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at is transferred from the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hot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water throug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ss wall into the </a:t>
            </a:r>
            <a:r>
              <a:rPr b="0" lang="en-US" sz="1800" spc="-1" strike="noStrike">
                <a:solidFill>
                  <a:srgbClr val="0099ff"/>
                </a:solidFill>
                <a:latin typeface="Arial"/>
              </a:rPr>
              <a:t>cool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liquid inside the bulb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" name=""/>
              <p:cNvSpPr txBox="1"/>
              <p:nvPr/>
            </p:nvSpPr>
            <p:spPr>
              <a:xfrm>
                <a:off x="1066680" y="3581280"/>
                <a:ext cx="114300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E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1" name=""/>
          <p:cNvSpPr/>
          <p:nvPr/>
        </p:nvSpPr>
        <p:spPr>
          <a:xfrm>
            <a:off x="2513160" y="3733920"/>
            <a:ext cx="551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 = total energy (J); Q = heat transfer (J); t = time (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5560" y="3160800"/>
            <a:ext cx="800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thermal energy transfer is governed by the first law of thermodynamic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84120" y="4343400"/>
            <a:ext cx="694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at is transferred convectively to the glass from the hot water 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1066680" y="4800600"/>
                <a:ext cx="1981440" cy="75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hA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w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5" name=""/>
          <p:cNvSpPr/>
          <p:nvPr/>
        </p:nvSpPr>
        <p:spPr>
          <a:xfrm>
            <a:off x="3342240" y="4913280"/>
            <a:ext cx="41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 = heat transfer coefficient (W / [m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]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= surface area of heat trans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994320" y="5410080"/>
            <a:ext cx="3288240" cy="901800"/>
            <a:chOff x="994320" y="5410080"/>
            <a:chExt cx="3288240" cy="901800"/>
          </a:xfrm>
        </p:grpSpPr>
        <p:sp>
          <p:nvSpPr>
            <p:cNvPr id="57" name=""/>
            <p:cNvSpPr/>
            <p:nvPr/>
          </p:nvSpPr>
          <p:spPr>
            <a:xfrm>
              <a:off x="994320" y="5943600"/>
              <a:ext cx="3288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his is known as Fourier’s law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5410080"/>
              <a:ext cx="1295640" cy="5335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536760" y="722160"/>
            <a:ext cx="7914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ume that all of the heat transferred from the hot water through the g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ches the liquid inside the bulb, thereby increasing the temperature of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quid. Conservation of energy requires th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1295280" y="1905120"/>
                <a:ext cx="1752840" cy="76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E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C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1" name=""/>
          <p:cNvSpPr/>
          <p:nvPr/>
        </p:nvSpPr>
        <p:spPr>
          <a:xfrm>
            <a:off x="3435120" y="1949400"/>
            <a:ext cx="501012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 = mass of the liquid (kg); 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specific heat 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tant volume of the liquid (J / [kg K]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9280" y="2932200"/>
            <a:ext cx="436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bining the previous equations g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1295280" y="3505320"/>
                <a:ext cx="2286000" cy="79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C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hA</m:t>
                        </m:r>
                      </m:den>
                    </m:f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r>
                      <m:t xml:space="preserve">T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w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4" name=""/>
          <p:cNvSpPr/>
          <p:nvPr/>
        </p:nvSpPr>
        <p:spPr>
          <a:xfrm>
            <a:off x="538920" y="4572000"/>
            <a:ext cx="793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s a linear, first-order ordinary differential equation, which is of the 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1295280" y="5181480"/>
                <a:ext cx="205740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τ</m:t>
                    </m:r>
                    <m:acc>
                      <m:accPr>
                        <m:chr m:val="˙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+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K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6" name=""/>
          <p:cNvSpPr/>
          <p:nvPr/>
        </p:nvSpPr>
        <p:spPr>
          <a:xfrm>
            <a:off x="3553920" y="5181480"/>
            <a:ext cx="4830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re, y = T, K = 1, 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hw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F(t), and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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m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h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wer-Order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504000" y="1263600"/>
            <a:ext cx="6788880" cy="1267920"/>
            <a:chOff x="504000" y="1263600"/>
            <a:chExt cx="6788880" cy="1267920"/>
          </a:xfrm>
        </p:grpSpPr>
        <p:grpSp>
          <p:nvGrpSpPr>
            <p:cNvPr id="69" name=""/>
            <p:cNvGrpSpPr/>
            <p:nvPr/>
          </p:nvGrpSpPr>
          <p:grpSpPr>
            <a:xfrm>
              <a:off x="504000" y="1263600"/>
              <a:ext cx="6788880" cy="749520"/>
              <a:chOff x="504000" y="1263600"/>
              <a:chExt cx="6788880" cy="749520"/>
            </a:xfrm>
          </p:grpSpPr>
          <p:sp>
            <p:nvSpPr>
              <p:cNvPr id="70" name=""/>
              <p:cNvSpPr/>
              <p:nvPr/>
            </p:nvSpPr>
            <p:spPr>
              <a:xfrm>
                <a:off x="504000" y="1436760"/>
                <a:ext cx="4618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90520" indent="-290520"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For a zero-order system (n=0),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71" name="" descr=""/>
              <p:cNvPicPr/>
              <p:nvPr/>
            </p:nvPicPr>
            <p:blipFill>
              <a:blip r:embed="rId1">
                <a:lum contrast="6000"/>
              </a:blip>
              <a:stretch/>
            </p:blipFill>
            <p:spPr>
              <a:xfrm>
                <a:off x="5065560" y="1263600"/>
                <a:ext cx="2227320" cy="7495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72" name=""/>
            <p:cNvSpPr/>
            <p:nvPr/>
          </p:nvSpPr>
          <p:spPr>
            <a:xfrm>
              <a:off x="889200" y="2071800"/>
              <a:ext cx="6014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90520" indent="-29052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xamples: strain gage, pitot-static tub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"/>
          <p:cNvGrpSpPr/>
          <p:nvPr/>
        </p:nvGrpSpPr>
        <p:grpSpPr>
          <a:xfrm>
            <a:off x="578520" y="2925720"/>
            <a:ext cx="7894080" cy="1370880"/>
            <a:chOff x="578520" y="2925720"/>
            <a:chExt cx="7894080" cy="1370880"/>
          </a:xfrm>
        </p:grpSpPr>
        <p:sp>
          <p:nvSpPr>
            <p:cNvPr id="74" name=""/>
            <p:cNvSpPr/>
            <p:nvPr/>
          </p:nvSpPr>
          <p:spPr>
            <a:xfrm>
              <a:off x="578520" y="3125880"/>
              <a:ext cx="460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90520" indent="-290520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For a first-order system (n=1),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5" name="" descr=""/>
            <p:cNvPicPr/>
            <p:nvPr/>
          </p:nvPicPr>
          <p:blipFill>
            <a:blip r:embed="rId2"/>
            <a:stretch/>
          </p:blipFill>
          <p:spPr>
            <a:xfrm>
              <a:off x="4998960" y="2925720"/>
              <a:ext cx="347364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"/>
            <p:cNvSpPr/>
            <p:nvPr/>
          </p:nvSpPr>
          <p:spPr>
            <a:xfrm>
              <a:off x="889200" y="3836880"/>
              <a:ext cx="5489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90520" indent="-29052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xamples: thermometer, RC circui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" name=""/>
          <p:cNvGrpSpPr/>
          <p:nvPr/>
        </p:nvGrpSpPr>
        <p:grpSpPr>
          <a:xfrm>
            <a:off x="568440" y="4788000"/>
            <a:ext cx="8575560" cy="1627200"/>
            <a:chOff x="568440" y="4788000"/>
            <a:chExt cx="8575560" cy="1627200"/>
          </a:xfrm>
        </p:grpSpPr>
        <p:sp>
          <p:nvSpPr>
            <p:cNvPr id="78" name=""/>
            <p:cNvSpPr/>
            <p:nvPr/>
          </p:nvSpPr>
          <p:spPr>
            <a:xfrm>
              <a:off x="568440" y="4903920"/>
              <a:ext cx="5006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90520" indent="-290520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For a second-order system (n=2)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9" name="" descr=""/>
            <p:cNvPicPr/>
            <p:nvPr/>
          </p:nvPicPr>
          <p:blipFill>
            <a:blip r:embed="rId3">
              <a:lum contrast="6000"/>
            </a:blip>
            <a:stretch/>
          </p:blipFill>
          <p:spPr>
            <a:xfrm>
              <a:off x="5530680" y="4788000"/>
              <a:ext cx="3613320" cy="70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"/>
            <p:cNvSpPr/>
            <p:nvPr/>
          </p:nvSpPr>
          <p:spPr>
            <a:xfrm>
              <a:off x="902160" y="5589720"/>
              <a:ext cx="72525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90520" indent="-29052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xamples: pressure transducer, accelerometer,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90520" indent="-29052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      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LC circui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8T15:15:57Z</dcterms:created>
  <dc:creator>Patrick Dunn</dc:creator>
  <dc:description/>
  <dc:language>en-US</dc:language>
  <cp:lastModifiedBy>Patrick Dunn</cp:lastModifiedBy>
  <dcterms:modified xsi:type="dcterms:W3CDTF">2008-02-18T20:40:48Z</dcterms:modified>
  <cp:revision>43</cp:revision>
  <dc:subject/>
  <dc:title>Intrinsically Linear Variables</dc:title>
</cp:coreProperties>
</file>