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C655-6B11-4E6E-9392-5AFF0446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FAC-B1E9-49EC-BD15-F1132ADD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48E-60A3-46EC-99CD-30019838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5FEF-23A8-47F6-BFE6-3D942776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C695-5CED-4123-AB88-159B29CB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501-1858-436E-9D50-59585D05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CE9-D7C8-4F8C-90C9-E8E0EC1F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381-AEFE-4804-9F24-A0EB37F8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83D3-DA1E-45E6-8643-9502D46A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45F3-A1F3-4C7F-A5A2-2A54997A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BA31-ACC8-4A99-973F-B3E9362D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D6A5-2BD8-43C6-8DE8-B9DD9FDE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CD67-8ECC-406F-8CBE-8746DB5DB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nteger" TargetMode="External"/><Relationship Id="rId2" Type="http://schemas.openxmlformats.org/officeDocument/2006/relationships/hyperlink" Target="http://en.wikipedia.org/wiki/Divisor" TargetMode="External"/><Relationship Id="rId3" Type="http://schemas.openxmlformats.org/officeDocument/2006/relationships/hyperlink" Target="http://en.wikipedia.org/wiki/Remainder" TargetMode="External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ing the Sig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172200" cy="2628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4038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the signal using a very high-speed system, for example, a 50 MHz digital oscilloscop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019920"/>
            <a:ext cx="746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order of the signal’s frequency range  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f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8006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the signal characterize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 the Sampl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4479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ost circumstances, as when using computers, sampling is DIG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6386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samples (data points) should be take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33520" y="1981080"/>
            <a:ext cx="7772400" cy="2686320"/>
            <a:chOff x="533520" y="1981080"/>
            <a:chExt cx="7772400" cy="26863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533520" y="1981080"/>
              <a:ext cx="3505320" cy="26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724640" y="1981080"/>
              <a:ext cx="3581280" cy="2686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"/>
            <p:cNvGrpSpPr/>
            <p:nvPr/>
          </p:nvGrpSpPr>
          <p:grpSpPr>
            <a:xfrm>
              <a:off x="3276720" y="2228760"/>
              <a:ext cx="4138560" cy="2143080"/>
              <a:chOff x="3276720" y="2228760"/>
              <a:chExt cx="4138560" cy="2143080"/>
            </a:xfrm>
          </p:grpSpPr>
          <p:sp>
            <p:nvSpPr>
              <p:cNvPr id="53" name=""/>
              <p:cNvSpPr/>
              <p:nvPr/>
            </p:nvSpPr>
            <p:spPr>
              <a:xfrm>
                <a:off x="6572160" y="2228760"/>
                <a:ext cx="843120" cy="214308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276720" y="3022560"/>
                <a:ext cx="3213000" cy="495360"/>
              </a:xfrm>
              <a:custGeom>
                <a:avLst/>
                <a:gdLst>
                  <a:gd name="textAreaLeft" fmla="*/ 501840 w 3213000"/>
                  <a:gd name="textAreaRight" fmla="*/ 2811600 w 3213000"/>
                  <a:gd name="textAreaTop" fmla="*/ 123840 h 495360"/>
                  <a:gd name="textAreaBottom" fmla="*/ 371520 h 495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"/>
          <p:cNvSpPr/>
          <p:nvPr/>
        </p:nvSpPr>
        <p:spPr>
          <a:xfrm>
            <a:off x="533520" y="518148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resolution in time and/or frequency is required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mber of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95280"/>
            <a:ext cx="815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required samples depends upon what information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e specific formula for 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57200" y="2209680"/>
            <a:ext cx="8381880" cy="4152960"/>
            <a:chOff x="457200" y="2209680"/>
            <a:chExt cx="8381880" cy="41529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295280" y="2895480"/>
              <a:ext cx="4140360" cy="34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57200" y="2209680"/>
              <a:ext cx="77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example, consider two different sign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91320" y="3048120"/>
              <a:ext cx="3047760" cy="21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lid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‘normal’ (random) population with mean =3 and standard deviation = 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otted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ame as solid but with 0.001/s additional amplitude decre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gital Sam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09480" y="2209680"/>
            <a:ext cx="4876920" cy="3929040"/>
            <a:chOff x="609480" y="2209680"/>
            <a:chExt cx="4876920" cy="39290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609480" y="2209680"/>
              <a:ext cx="4876920" cy="39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113720" y="2666880"/>
              <a:ext cx="95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gure 12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37480" y="1143000"/>
            <a:ext cx="782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alo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gnal, y(t), is sampled ever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seconds, N times for a  peri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 seconds, yielding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gi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gnal y(r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, where r = 1, 2, …,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7320" y="2362320"/>
            <a:ext cx="20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is situ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gital Sampling 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080" y="1523880"/>
            <a:ext cx="75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 signal is digitally sampled, erroneous results occur if either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following occu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6600" y="2971800"/>
            <a:ext cx="33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ple period is in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5520" y="2362320"/>
            <a:ext cx="31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pling rate is too 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5000" y="3657600"/>
            <a:ext cx="349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void aliasing, set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2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8440" y="5943600"/>
            <a:ext cx="70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ased frequencies can be determined using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lding 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9320" y="4419720"/>
            <a:ext cx="846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ximum frequency of interest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lso is called the Nyquist frequency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00" y="5257800"/>
            <a:ext cx="3734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, to avoid aliasing, set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2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gital Sampling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20574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st common multi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st common multi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est common multi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w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teg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smallest positive integer that is a multiple of 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Since it is a multipl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iv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ithou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main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For example, the least common multiple of the numbers 4 and 6 is 12. (Ref: Wikipe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143000"/>
            <a:ext cx="80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void amplitude ambiguity, set the sample period equal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(integer) multi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signal’s contributory perio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2200" y="3886200"/>
            <a:ext cx="6002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signal with onl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iod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t T = m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/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 T = N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N/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N/m)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gital Sampling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60020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ll of the frequencies are known (deterministic, simple or complex periodic signals), the sample period can be determined exactly and amplitude ambiguity can be elimin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3048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ome of the frequencies are not known (nondeterministic signal), amplitude ambiguity can not be eliminated but can be minimized by ‘windowing’ the sig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llustration of Correct Sam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5257800" cy="4614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554520" y="1828800"/>
            <a:ext cx="16588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= 5sin(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1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8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2440" y="632448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5938" r="-378" b="-504"/>
          <a:stretch/>
        </p:blipFill>
        <p:spPr>
          <a:xfrm>
            <a:off x="674640" y="1817640"/>
            <a:ext cx="5830920" cy="4119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77080" y="2247840"/>
            <a:ext cx="16588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= sin(2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10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37920" y="533520"/>
            <a:ext cx="41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iasing of sin(20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6:23:58Z</dcterms:created>
  <dc:creator>pdunn</dc:creator>
  <dc:description/>
  <dc:language>en-US</dc:language>
  <cp:lastModifiedBy>Patrick Dunn</cp:lastModifiedBy>
  <dcterms:modified xsi:type="dcterms:W3CDTF">2008-03-25T16:49:43Z</dcterms:modified>
  <cp:revision>45</cp:revision>
  <dc:subject/>
  <dc:title>Signal Characteristics</dc:title>
</cp:coreProperties>
</file>