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7FD-F284-402D-8B60-AA4B3A1A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67E-E36C-4E7A-81D9-9B972A61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468-AAF1-450C-92A5-E12F1E89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6BB-2EA2-4867-B397-A1410D8D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BCB-ED59-4290-B7C8-4844C683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D9E-7743-413C-A6F0-A988876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C43-BF5B-41D2-A8E2-2CC0D48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2C5-660B-488D-A93B-282F2AC5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DBA-57F5-49BC-8500-594F0A1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BE3-7DA2-4D6F-BEA2-0CFD11A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E43-50C1-4F91-B4F0-4EF189A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2A6-11FD-4A05-AE3C-8750884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8F26-6540-40CD-BE1D-1EC86641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58720" y="1066680"/>
            <a:ext cx="4292640" cy="5207040"/>
            <a:chOff x="558720" y="1066680"/>
            <a:chExt cx="4292640" cy="5207040"/>
          </a:xfrm>
        </p:grpSpPr>
        <p:sp>
          <p:nvSpPr>
            <p:cNvPr id="42" name=""/>
            <p:cNvSpPr/>
            <p:nvPr/>
          </p:nvSpPr>
          <p:spPr>
            <a:xfrm>
              <a:off x="558720" y="1066680"/>
              <a:ext cx="4292640" cy="5207040"/>
            </a:xfrm>
            <a:prstGeom prst="bevel">
              <a:avLst>
                <a:gd name="adj" fmla="val 3259"/>
              </a:avLst>
            </a:prstGeom>
            <a:solidFill>
              <a:srgbClr val="638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723960" y="1269720"/>
              <a:ext cx="3940200" cy="48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2880" y="1598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443" t="2378" r="17348" b="13162"/>
          <a:stretch/>
        </p:blipFill>
        <p:spPr>
          <a:xfrm rot="21477000">
            <a:off x="5749560" y="1042560"/>
            <a:ext cx="2778120" cy="489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53760" y="592920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ton’s Heights of Hypothetical Men (18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 Using MATLA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7160" y="1052640"/>
            <a:ext cx="83102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s statistics toolbox contains distributions such as the norma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Student’s 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7160" y="2025720"/>
            <a:ext cx="84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useful command prefixes are the probability density  func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probability distribution func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and the inverse of the distribution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7160" y="3330720"/>
            <a:ext cx="82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pdf(x,x'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the value of p(x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pdf(0,0,1) = 0.3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6240" y="4068720"/>
            <a:ext cx="8480160" cy="1662480"/>
            <a:chOff x="246240" y="4068720"/>
            <a:chExt cx="8480160" cy="166248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5543640" y="4068720"/>
                  <a:ext cx="239544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∗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246240" y="4222800"/>
              <a:ext cx="8480160" cy="15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m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cdf(x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',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cdf(1,0,1) = 0.8413 (= 0.3413 + 0.500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l error function, p(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normcdf(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,1) – 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7160" y="5668920"/>
            <a:ext cx="85676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inv(P,x'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x* from the 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inv(0.8413,0,1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 Using MATLA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the value of z for a given %P,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73240" y="2448000"/>
                <a:ext cx="6145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rminv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inv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55040" y="4114800"/>
            <a:ext cx="58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(95,0,1) = 1.96  and z(95.45,0,1) = 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7960" y="1093680"/>
            <a:ext cx="6192720" cy="3560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23616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10360" y="5803920"/>
            <a:ext cx="71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854840" y="4997520"/>
                <a:ext cx="349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44520" y="4915080"/>
                <a:ext cx="47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263600" y="5708520"/>
                <a:ext cx="520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816680" y="5670720"/>
                <a:ext cx="4701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816200" y="4692600"/>
            <a:ext cx="5816520" cy="1042920"/>
            <a:chOff x="1816200" y="4692600"/>
            <a:chExt cx="5816520" cy="1042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457360" y="4692600"/>
                  <a:ext cx="451656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≤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≤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7162920" y="5079960"/>
              <a:ext cx="469800" cy="304920"/>
            </a:xfrm>
            <a:prstGeom prst="leftArrow">
              <a:avLst>
                <a:gd name="adj1" fmla="val 50000"/>
                <a:gd name="adj2" fmla="val 385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6200" y="5067360"/>
              <a:ext cx="469800" cy="304920"/>
            </a:xfrm>
            <a:prstGeom prst="leftArrow">
              <a:avLst>
                <a:gd name="adj1" fmla="val 50000"/>
                <a:gd name="adj2" fmla="val 385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41400" y="5672160"/>
            <a:ext cx="5791320" cy="635040"/>
            <a:chOff x="1841400" y="5672160"/>
            <a:chExt cx="5791320" cy="635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2901960" y="5672160"/>
                  <a:ext cx="37800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bSup>
                            <m:e>
                              <m:r>
                                <m:t xml:space="preserve">ν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χ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ν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>
              <a:off x="7162920" y="5918040"/>
              <a:ext cx="469800" cy="304920"/>
            </a:xfrm>
            <a:prstGeom prst="leftArrow">
              <a:avLst>
                <a:gd name="adj1" fmla="val 50000"/>
                <a:gd name="adj2" fmla="val 385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41400" y="5854680"/>
              <a:ext cx="470160" cy="304920"/>
            </a:xfrm>
            <a:prstGeom prst="leftArrow">
              <a:avLst>
                <a:gd name="adj1" fmla="val 50000"/>
                <a:gd name="adj2" fmla="val 3854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Probability Densit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4888" t="0" r="16663" b="0"/>
          <a:stretch/>
        </p:blipFill>
        <p:spPr>
          <a:xfrm>
            <a:off x="1133640" y="1249200"/>
            <a:ext cx="2754000" cy="497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60920" y="131292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very large number of very smal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-50 chance’ effects (Ex: human heig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0920" y="2314440"/>
            <a:ext cx="506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very large number of very small, ‘constrained’ effects (Ex: rain dr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332280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rarely occurring events in a very large population (Ex: micrometeoroid diameters in L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60920" y="448452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b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‘failure’ event in a very large population (Ex: component life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60920" y="5559480"/>
            <a:ext cx="50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finite number of ’50-50 chance’ effects (Ex: coin to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7440" y="5425920"/>
            <a:ext cx="12193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1515960"/>
            <a:ext cx="59184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42720" y="3668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ormal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8880" y="992160"/>
            <a:ext cx="3862440" cy="556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8840" y="193680"/>
            <a:ext cx="71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 of the Normal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3760" y="1055520"/>
            <a:ext cx="334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, with true mean and true variance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920" y="853560"/>
            <a:ext cx="165384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87800" y="2060640"/>
            <a:ext cx="3747960" cy="1652040"/>
            <a:chOff x="4987800" y="2060640"/>
            <a:chExt cx="3747960" cy="1652040"/>
          </a:xfrm>
        </p:grpSpPr>
        <p:sp>
          <p:nvSpPr>
            <p:cNvPr id="77" name=""/>
            <p:cNvSpPr/>
            <p:nvPr/>
          </p:nvSpPr>
          <p:spPr>
            <a:xfrm>
              <a:off x="4987800" y="3070080"/>
              <a:ext cx="374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with many, small, uncontrolled extraneous 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75240" y="2060640"/>
              <a:ext cx="420480" cy="682560"/>
            </a:xfrm>
            <a:prstGeom prst="downArrow">
              <a:avLst>
                <a:gd name="adj1" fmla="val 50000"/>
                <a:gd name="adj2" fmla="val 405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alized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2416320"/>
            <a:ext cx="6421680" cy="459720"/>
            <a:chOff x="762120" y="2416320"/>
            <a:chExt cx="6421680" cy="459720"/>
          </a:xfrm>
        </p:grpSpPr>
        <p:sp>
          <p:nvSpPr>
            <p:cNvPr id="81" name=""/>
            <p:cNvSpPr/>
            <p:nvPr/>
          </p:nvSpPr>
          <p:spPr>
            <a:xfrm>
              <a:off x="762120" y="241632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(x-x') /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92400" y="2416320"/>
              <a:ext cx="409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normal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77600" y="3011400"/>
            <a:ext cx="8059680" cy="875880"/>
            <a:chOff x="777600" y="3011400"/>
            <a:chExt cx="8059680" cy="875880"/>
          </a:xfrm>
        </p:grpSpPr>
        <p:sp>
          <p:nvSpPr>
            <p:cNvPr id="84" name=""/>
            <p:cNvSpPr/>
            <p:nvPr/>
          </p:nvSpPr>
          <p:spPr>
            <a:xfrm>
              <a:off x="777600" y="3011400"/>
              <a:ext cx="199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x') /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90600" y="3011400"/>
              <a:ext cx="5746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lize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variable (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lue of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; subscript 1 usually drop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30440" y="1185840"/>
                <a:ext cx="42148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79520" y="4659480"/>
            <a:ext cx="782640" cy="564840"/>
          </a:xfrm>
          <a:prstGeom prst="rightArrow">
            <a:avLst>
              <a:gd name="adj1" fmla="val 50000"/>
              <a:gd name="adj2" fmla="val 346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0120" y="4162320"/>
            <a:ext cx="7005600" cy="1880640"/>
            <a:chOff x="870120" y="4162320"/>
            <a:chExt cx="7005600" cy="188064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892160" y="4162320"/>
                  <a:ext cx="59835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β</m:t>
                          </m:r>
                          <m:r>
                            <m:t xml:space="preserve">≤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nary>
                      <m:r>
                        <m:t xml:space="preserve">dβ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870120" y="4440240"/>
              <a:ext cx="826920" cy="507960"/>
            </a:xfrm>
            <a:custGeom>
              <a:avLst/>
              <a:gdLst>
                <a:gd name="textAreaLeft" fmla="*/ 103320 w 826920"/>
                <a:gd name="textAreaRight" fmla="*/ 723600 w 826920"/>
                <a:gd name="textAreaTop" fmla="*/ 127080 h 507960"/>
                <a:gd name="textAreaBottom" fmla="*/ 38124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30600" y="5637240"/>
              <a:ext cx="4458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p(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l error fun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0280" y="6383160"/>
            <a:ext cx="109044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13720" y="1255680"/>
            <a:ext cx="195552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39760" y="1389240"/>
            <a:ext cx="668016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6200" y="409680"/>
            <a:ext cx="59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mal Error Function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4680" y="296856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0≤z≤1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54680" y="35784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1≤z≤1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54680" y="4195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2≤z≤2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54680" y="4776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3≤z≤3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61520" y="53071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0.44≤z≤4.06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2800" y="1469880"/>
            <a:ext cx="8229600" cy="18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student will score between 75 and 90 on an exam, assuming that the scores are distributed normally with a mean of 60 and a standard deviation of 15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1080" y="1122120"/>
            <a:ext cx="87883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l the number of data point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inus the number of independent restrictions (constraints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ed for the required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3009960"/>
            <a:ext cx="56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computing the sample mea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960" y="3862440"/>
            <a:ext cx="74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computing the sample standard deviatio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960" y="4660920"/>
            <a:ext cx="73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constructing a histogra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    ,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1080" y="5430960"/>
            <a:ext cx="78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performing a regression analysi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m is the order of the fit (linear, m = 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7440" y="2416320"/>
            <a:ext cx="6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08:15Z</dcterms:created>
  <dc:creator> </dc:creator>
  <dc:description/>
  <dc:language>en-US</dc:language>
  <cp:lastModifiedBy>Patrick Dunn</cp:lastModifiedBy>
  <dcterms:modified xsi:type="dcterms:W3CDTF">2008-03-25T17:28:38Z</dcterms:modified>
  <cp:revision>56</cp:revision>
  <dc:subject/>
  <dc:title>Slide 1</dc:title>
</cp:coreProperties>
</file>