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BFDD-CC68-4668-A6AC-669EAC45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2C1A-6A7A-4ACE-A8F1-E68B0788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FE40-A292-4BF5-8B7D-B32AFB9B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583A-448B-4DA1-8B97-6C86627D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E972-0FF3-4C7E-973D-F5DD2081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51C7-EBA5-4CB1-A9D7-E203B90A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A868-47AF-49E6-9B8D-86712536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FF80-CEFA-4BE6-A707-46C904A6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BD1D-019A-4661-858A-35073BF8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5744-F165-4637-BEE5-80AF12A0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2782-6333-4251-8E81-BC34E62D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141D-A344-487E-952A-68ECC862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AD37-E684-4944-AB6B-E85CFE6C6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132000" y="557280"/>
            <a:ext cx="3200400" cy="2374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1971720" y="3100320"/>
            <a:ext cx="54594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Wheatstone Br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95440" y="1506600"/>
            <a:ext cx="4003560" cy="2843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4280" y="4246560"/>
            <a:ext cx="153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68240" y="1386000"/>
            <a:ext cx="46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Kirchhoff’s Voltage La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91160" y="4956120"/>
            <a:ext cx="6347880" cy="1596960"/>
            <a:chOff x="191160" y="4956120"/>
            <a:chExt cx="6347880" cy="1596960"/>
          </a:xfrm>
        </p:grpSpPr>
        <p:sp>
          <p:nvSpPr>
            <p:cNvPr id="48" name=""/>
            <p:cNvSpPr/>
            <p:nvPr/>
          </p:nvSpPr>
          <p:spPr>
            <a:xfrm>
              <a:off x="191160" y="4956120"/>
              <a:ext cx="524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bining these equations g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2398680" y="5378400"/>
                  <a:ext cx="4140360" cy="11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62520" y="2100240"/>
            <a:ext cx="4003560" cy="2843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1720" y="660240"/>
            <a:ext cx="42166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Wheats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dge equation if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or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is added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ll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251960" y="1471680"/>
            <a:ext cx="1909080" cy="1852560"/>
            <a:chOff x="4251960" y="1471680"/>
            <a:chExt cx="1909080" cy="1852560"/>
          </a:xfrm>
        </p:grpSpPr>
        <p:pic>
          <p:nvPicPr>
            <p:cNvPr id="53" name="" descr=""/>
            <p:cNvPicPr/>
            <p:nvPr/>
          </p:nvPicPr>
          <p:blipFill>
            <a:blip r:embed="rId2"/>
            <a:srcRect l="0" t="9336" r="0" b="68316"/>
            <a:stretch/>
          </p:blipFill>
          <p:spPr>
            <a:xfrm rot="19001400">
              <a:off x="4219200" y="1998360"/>
              <a:ext cx="1577880" cy="5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456080" y="2700360"/>
              <a:ext cx="623880" cy="6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537160" y="1676520"/>
              <a:ext cx="623880" cy="6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45360" y="1471680"/>
              <a:ext cx="993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87280" y="514440"/>
            <a:ext cx="8475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dvantage of using two resistors in parallel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leg of the WB is that the added resistor can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ed remotely from the actual WB, such as in a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, that resistor can serve as a sens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8120" y="3116160"/>
            <a:ext cx="4003560" cy="284328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2437560" y="2487600"/>
            <a:ext cx="1909080" cy="1852560"/>
            <a:chOff x="2437560" y="2487600"/>
            <a:chExt cx="1909080" cy="1852560"/>
          </a:xfrm>
        </p:grpSpPr>
        <p:pic>
          <p:nvPicPr>
            <p:cNvPr id="60" name="" descr=""/>
            <p:cNvPicPr/>
            <p:nvPr/>
          </p:nvPicPr>
          <p:blipFill>
            <a:blip r:embed="rId2"/>
            <a:srcRect l="0" t="9336" r="0" b="68316"/>
            <a:stretch/>
          </p:blipFill>
          <p:spPr>
            <a:xfrm rot="19001400">
              <a:off x="2404800" y="3014280"/>
              <a:ext cx="1577880" cy="5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2641680" y="3716280"/>
              <a:ext cx="623880" cy="6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722760" y="2692440"/>
              <a:ext cx="623880" cy="6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0960" y="2487600"/>
              <a:ext cx="993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6520" y="1820880"/>
            <a:ext cx="549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, the WB is ‘balanced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529000" y="414360"/>
                <a:ext cx="414000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408960" y="4753080"/>
            <a:ext cx="817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WB is balanc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 of the 4 resista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known, the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unknown) resistance can be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balanced WB equation. The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67840" y="1866960"/>
            <a:ext cx="86180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consider the case when all 4 resistors ar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itia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, then, one resistance, say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an amou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. This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flection meth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529000" y="414360"/>
                <a:ext cx="414000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299880" y="5967360"/>
            <a:ext cx="865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is associated with a change in a physical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8640" y="274320"/>
            <a:ext cx="870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tilever Beam with Four Strain G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7640" y="2540160"/>
            <a:ext cx="4567320" cy="1671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27800" y="2692440"/>
            <a:ext cx="153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200" y="1703520"/>
            <a:ext cx="809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solid mechanics, for a cantilever beam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107040" y="2500200"/>
            <a:ext cx="2158920" cy="1854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076880" y="4202280"/>
            <a:ext cx="145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antilever Beam with Four G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00" y="1779480"/>
            <a:ext cx="32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ridge eq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747960" y="1432080"/>
                <a:ext cx="41403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410040" y="5845320"/>
            <a:ext cx="82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voltage/force relation for a cantilever b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1360" y="5141880"/>
            <a:ext cx="6476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~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 F, 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nstant x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3400" y="2489040"/>
            <a:ext cx="199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ading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5760" y="4006800"/>
            <a:ext cx="85431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measuring a current, the input impedance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meter must be much less than the equivalent circuit’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imped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2000" y="1908000"/>
            <a:ext cx="83390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measuring a voltage, the input impedance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meter must be much greater than the equival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’s output imped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8:46:47Z</dcterms:created>
  <dc:creator>pdunn</dc:creator>
  <dc:description/>
  <dc:language>en-US</dc:language>
  <cp:lastModifiedBy>Patrick Dunn</cp:lastModifiedBy>
  <dcterms:modified xsi:type="dcterms:W3CDTF">2008-02-13T17:00:35Z</dcterms:modified>
  <cp:revision>197</cp:revision>
  <dc:subject/>
  <dc:title>Slide 1</dc:title>
</cp:coreProperties>
</file>