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C0B-D376-4735-AE05-B5B09F03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324-F4CA-4E4A-A475-46CC7A60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118-8B3E-4A55-B876-3DFE552C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588-0889-4F70-8BC5-7F29AA35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71B-E466-4178-9FC5-1A3C5084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548-3298-4BD7-A88F-CFC3C296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221-95B2-45FB-9112-5B102075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FB2-2C5A-4373-AFC1-318DB7C1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8F4-4526-4CCE-9EB3-74330888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EE6-8C61-4DB1-9119-DD09DD24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D95-2DE2-4411-9BFD-2D441BCC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FB0-448A-48A5-8880-0EA6DA97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BD34-DA8E-47F4-BCF8-ED6856A22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etermines an Appropriate Fit between Theory and Da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54364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981080" y="152280"/>
          <a:ext cx="506124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280"/>
                    <a:ext cx="506124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ing an Appropriate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219320"/>
            <a:ext cx="8305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a ‘fit’ between two variables (x and y), one must consider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gnitudes of the uncertain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x and y 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underlying physical 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680" y="30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43000" y="2895480"/>
          <a:ext cx="4876560" cy="35542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  <a:gridCol w="1219320"/>
                <a:gridCol w="1523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 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80880" y="2286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6 possibilities to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248520" y="4724280"/>
            <a:ext cx="2821320" cy="642600"/>
            <a:chOff x="6248520" y="4724280"/>
            <a:chExt cx="2821320" cy="642600"/>
          </a:xfrm>
        </p:grpSpPr>
        <p:sp>
          <p:nvSpPr>
            <p:cNvPr id="51" name=""/>
            <p:cNvSpPr/>
            <p:nvPr/>
          </p:nvSpPr>
          <p:spPr>
            <a:xfrm>
              <a:off x="6248520" y="480060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ed2a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38280" y="4724280"/>
              <a:ext cx="213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a09"/>
                  </a:solidFill>
                  <a:latin typeface="Arial"/>
                </a:rPr>
                <a:t>least-squ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a09"/>
                  </a:solidFill>
                  <a:latin typeface="Arial"/>
                </a:rPr>
                <a:t>regression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248520" y="3770280"/>
            <a:ext cx="2805480" cy="642600"/>
            <a:chOff x="6248520" y="3770280"/>
            <a:chExt cx="2805480" cy="642600"/>
          </a:xfrm>
        </p:grpSpPr>
        <p:sp>
          <p:nvSpPr>
            <p:cNvPr id="54" name=""/>
            <p:cNvSpPr/>
            <p:nvPr/>
          </p:nvSpPr>
          <p:spPr>
            <a:xfrm>
              <a:off x="6248520" y="388620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ed2a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22440" y="3770280"/>
              <a:ext cx="213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a09"/>
                  </a:solidFill>
                  <a:latin typeface="Arial"/>
                </a:rPr>
                <a:t>least-squ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a09"/>
                  </a:solidFill>
                  <a:latin typeface="Arial"/>
                </a:rPr>
                <a:t>regression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264360" y="5562720"/>
            <a:ext cx="2805480" cy="642600"/>
            <a:chOff x="6264360" y="5562720"/>
            <a:chExt cx="2805480" cy="642600"/>
          </a:xfrm>
        </p:grpSpPr>
        <p:sp>
          <p:nvSpPr>
            <p:cNvPr id="57" name=""/>
            <p:cNvSpPr/>
            <p:nvPr/>
          </p:nvSpPr>
          <p:spPr>
            <a:xfrm>
              <a:off x="6264360" y="567864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ed2a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8280" y="5562720"/>
              <a:ext cx="213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a09"/>
                  </a:solidFill>
                  <a:latin typeface="Arial"/>
                </a:rPr>
                <a:t>higher-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a09"/>
                  </a:solidFill>
                  <a:latin typeface="Arial"/>
                </a:rPr>
                <a:t>regression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9800" y="52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7295" t="21130" r="0" b="7611"/>
          <a:stretch/>
        </p:blipFill>
        <p:spPr>
          <a:xfrm>
            <a:off x="1828800" y="1030320"/>
            <a:ext cx="5079960" cy="5370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Correct, if Eith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6520" y="1066320"/>
            <a:ext cx="4038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;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 incorrect f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model: E=0.5k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48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6520" y="1066320"/>
            <a:ext cx="4038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;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correct f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5486400" cy="450216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5943240" y="2895480"/>
            <a:ext cx="3083760" cy="1021320"/>
            <a:chOff x="5943240" y="2895480"/>
            <a:chExt cx="3083760" cy="1021320"/>
          </a:xfrm>
        </p:grpSpPr>
        <p:sp>
          <p:nvSpPr>
            <p:cNvPr id="69" name=""/>
            <p:cNvSpPr/>
            <p:nvPr/>
          </p:nvSpPr>
          <p:spPr>
            <a:xfrm flipH="1" flipV="1">
              <a:off x="5943240" y="2895480"/>
              <a:ext cx="1143000" cy="533520"/>
            </a:xfrm>
            <a:prstGeom prst="line">
              <a:avLst/>
            </a:prstGeom>
            <a:ln w="9360">
              <a:solidFill>
                <a:srgbClr val="ed2a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86240" y="3236760"/>
              <a:ext cx="1940760" cy="680040"/>
            </a:xfrm>
            <a:prstGeom prst="rect">
              <a:avLst/>
            </a:prstGeom>
            <a:noFill/>
            <a:ln w="9360">
              <a:solidFill>
                <a:srgbClr val="ed2a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a09"/>
                  </a:solidFill>
                  <a:latin typeface="Arial"/>
                </a:rPr>
                <a:t>LSRA, wh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a09"/>
                  </a:solidFill>
                  <a:latin typeface="Arial"/>
                </a:rPr>
                <a:t>assumes u</a:t>
              </a:r>
              <a:r>
                <a:rPr b="0" lang="en-US" sz="1800" spc="-1" strike="noStrike" baseline="-25000">
                  <a:solidFill>
                    <a:srgbClr val="ed2a09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ed2a09"/>
                  </a:solidFill>
                  <a:latin typeface="Arial"/>
                </a:rPr>
                <a:t> &lt;&lt; u</a:t>
              </a:r>
              <a:r>
                <a:rPr b="0" lang="en-US" sz="1800" spc="-1" strike="noStrike" baseline="-25000">
                  <a:solidFill>
                    <a:srgbClr val="ed2a09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352680" y="4836960"/>
            <a:ext cx="5223960" cy="916920"/>
            <a:chOff x="3352680" y="4836960"/>
            <a:chExt cx="5223960" cy="916920"/>
          </a:xfrm>
        </p:grpSpPr>
        <p:sp>
          <p:nvSpPr>
            <p:cNvPr id="72" name=""/>
            <p:cNvSpPr/>
            <p:nvPr/>
          </p:nvSpPr>
          <p:spPr>
            <a:xfrm flipH="1" flipV="1">
              <a:off x="3352680" y="4952880"/>
              <a:ext cx="3733920" cy="76320"/>
            </a:xfrm>
            <a:prstGeom prst="line">
              <a:avLst/>
            </a:prstGeom>
            <a:ln w="9360">
              <a:solidFill>
                <a:srgbClr val="ed2a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55360" y="4836960"/>
              <a:ext cx="1421280" cy="916920"/>
            </a:xfrm>
            <a:prstGeom prst="rect">
              <a:avLst/>
            </a:prstGeom>
            <a:noFill/>
            <a:ln w="9360">
              <a:solidFill>
                <a:srgbClr val="ed2a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a09"/>
                  </a:solidFill>
                  <a:latin typeface="Arial"/>
                </a:rPr>
                <a:t>higher-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a09"/>
                  </a:solidFill>
                  <a:latin typeface="Arial"/>
                </a:rPr>
                <a:t>regre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a09"/>
                  </a:solidFill>
                  <a:latin typeface="Arial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6520" y="1066320"/>
            <a:ext cx="4038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334120" cy="4564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2000" y="232236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calexey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3:06:21Z</dcterms:created>
  <dc:creator>Patrick Dunn</dc:creator>
  <dc:description/>
  <dc:language>en-US</dc:language>
  <cp:lastModifiedBy>Patrick Dunn</cp:lastModifiedBy>
  <dcterms:modified xsi:type="dcterms:W3CDTF">2008-01-22T13:36:56Z</dcterms:modified>
  <cp:revision>14</cp:revision>
  <dc:subject/>
  <dc:title>Determining an Appropriate Fit</dc:title>
</cp:coreProperties>
</file>