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34A-C99F-4683-AB13-87D8F1BA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A4A-C6F6-49A9-B4C4-7A2C9279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76D-758F-4CF2-A638-DBFF7FC0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9F1-9616-47FF-AF68-DA3F6343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B08-C6F2-43F1-8279-D825A12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CA5-8A83-4D2C-AA69-25303F4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CCF-10E5-4B24-A57D-BE301D42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774-4407-4281-81C7-4E5D9464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2DD-1372-4398-AD84-EAD666C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306-0B25-47FC-8500-0384464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AAC-B376-447C-A9DE-2458F54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8ED-AD36-49BB-99CD-57EC75EB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A3F2-CE30-4CF3-868B-BA1BD10EE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557280"/>
            <a:ext cx="3200400" cy="237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971720" y="3100320"/>
            <a:ext cx="5459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5760" y="4006800"/>
            <a:ext cx="8543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easuring a current, the input impedanc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eter must be much less than the equivalent circu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2000" y="1908000"/>
            <a:ext cx="8339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easuring a voltage, the input impedanc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meter must be much greater than the equival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’s output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1560" y="2320920"/>
            <a:ext cx="7410600" cy="891720"/>
            <a:chOff x="601560" y="2320920"/>
            <a:chExt cx="7410600" cy="891720"/>
          </a:xfrm>
        </p:grpSpPr>
        <p:sp>
          <p:nvSpPr>
            <p:cNvPr id="120" name=""/>
            <p:cNvSpPr/>
            <p:nvPr/>
          </p:nvSpPr>
          <p:spPr>
            <a:xfrm>
              <a:off x="4905360" y="2320920"/>
              <a:ext cx="3106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1560" y="3198600"/>
              <a:ext cx="3513240" cy="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0360" y="2762280"/>
              <a:ext cx="11318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4440" y="4397400"/>
            <a:ext cx="7592760" cy="934920"/>
            <a:chOff x="514440" y="4397400"/>
            <a:chExt cx="7592760" cy="934920"/>
          </a:xfrm>
        </p:grpSpPr>
        <p:sp>
          <p:nvSpPr>
            <p:cNvPr id="124" name=""/>
            <p:cNvSpPr/>
            <p:nvPr/>
          </p:nvSpPr>
          <p:spPr>
            <a:xfrm>
              <a:off x="4775040" y="4397400"/>
              <a:ext cx="31068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5880" y="5332320"/>
              <a:ext cx="31068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4440" y="4883040"/>
              <a:ext cx="1249200" cy="144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4897440"/>
              <a:ext cx="24685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heatstone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5440" y="150660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4280" y="424656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68240" y="1386000"/>
            <a:ext cx="46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irchhoff’s Voltage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05680" y="2038320"/>
            <a:ext cx="27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5680" y="2612880"/>
            <a:ext cx="27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10000" y="3222720"/>
            <a:ext cx="26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10000" y="3786120"/>
            <a:ext cx="286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8360" y="440388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1160" y="4956120"/>
            <a:ext cx="6347880" cy="1596960"/>
            <a:chOff x="191160" y="4956120"/>
            <a:chExt cx="6347880" cy="1596960"/>
          </a:xfrm>
        </p:grpSpPr>
        <p:sp>
          <p:nvSpPr>
            <p:cNvPr id="53" name=""/>
            <p:cNvSpPr/>
            <p:nvPr/>
          </p:nvSpPr>
          <p:spPr>
            <a:xfrm>
              <a:off x="191160" y="4956120"/>
              <a:ext cx="524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bining these equations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398680" y="5378400"/>
                  <a:ext cx="414036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" name=""/>
          <p:cNvGrpSpPr/>
          <p:nvPr/>
        </p:nvGrpSpPr>
        <p:grpSpPr>
          <a:xfrm>
            <a:off x="623880" y="1552680"/>
            <a:ext cx="2757600" cy="1379520"/>
            <a:chOff x="623880" y="1552680"/>
            <a:chExt cx="2757600" cy="1379520"/>
          </a:xfrm>
        </p:grpSpPr>
        <p:sp>
          <p:nvSpPr>
            <p:cNvPr id="56" name=""/>
            <p:cNvSpPr/>
            <p:nvPr/>
          </p:nvSpPr>
          <p:spPr>
            <a:xfrm flipV="1">
              <a:off x="623880" y="1552680"/>
              <a:ext cx="1393920" cy="137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2003400" y="1552680"/>
              <a:ext cx="1378080" cy="137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3880" y="2932200"/>
              <a:ext cx="2757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31800" y="2938320"/>
            <a:ext cx="2757600" cy="1379520"/>
            <a:chOff x="631800" y="2938320"/>
            <a:chExt cx="2757600" cy="1379520"/>
          </a:xfrm>
        </p:grpSpPr>
        <p:sp>
          <p:nvSpPr>
            <p:cNvPr id="60" name=""/>
            <p:cNvSpPr/>
            <p:nvPr/>
          </p:nvSpPr>
          <p:spPr>
            <a:xfrm flipH="1">
              <a:off x="1995480" y="2938320"/>
              <a:ext cx="1393920" cy="137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800" y="2938320"/>
              <a:ext cx="1378080" cy="137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31800" y="2938320"/>
              <a:ext cx="2757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62520" y="210024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1720" y="660240"/>
            <a:ext cx="4216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Wheat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equation i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or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is add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251960" y="1471680"/>
            <a:ext cx="1909080" cy="1852560"/>
            <a:chOff x="4251960" y="1471680"/>
            <a:chExt cx="1909080" cy="18525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4219200" y="199836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456080" y="270036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37160" y="167652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5360" y="147168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26760" y="3076560"/>
            <a:ext cx="362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1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6360" y="4334040"/>
            <a:ext cx="48117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olve, simply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he WB equation 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7280" y="514440"/>
            <a:ext cx="847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using two resistors in parallel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eg of the WB is that the added resistor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remotely from the actual WB, such as in a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that resistor can serve as a sen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3116160"/>
            <a:ext cx="400356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2437560" y="2487600"/>
            <a:ext cx="1909080" cy="1852560"/>
            <a:chOff x="2437560" y="2487600"/>
            <a:chExt cx="1909080" cy="18525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2404800" y="301428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641680" y="371628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22760" y="269244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30960" y="248760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78880" y="2438280"/>
            <a:ext cx="3746880" cy="2176560"/>
            <a:chOff x="578880" y="2438280"/>
            <a:chExt cx="3746880" cy="2176560"/>
          </a:xfrm>
        </p:grpSpPr>
        <p:sp>
          <p:nvSpPr>
            <p:cNvPr id="80" name=""/>
            <p:cNvSpPr/>
            <p:nvPr/>
          </p:nvSpPr>
          <p:spPr>
            <a:xfrm flipV="1">
              <a:off x="2162160" y="2438280"/>
              <a:ext cx="2163600" cy="2176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8880" y="4140360"/>
              <a:ext cx="16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8889800">
              <a:off x="1536480" y="3482640"/>
              <a:ext cx="900000" cy="436680"/>
            </a:xfrm>
            <a:prstGeom prst="rightArrow">
              <a:avLst>
                <a:gd name="adj1" fmla="val 50000"/>
                <a:gd name="adj2" fmla="val 51525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52960" y="2519280"/>
                <a:ext cx="27493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6520" y="1820880"/>
            <a:ext cx="549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the WB is ‘balanced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29000" y="414360"/>
                <a:ext cx="4140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2584440" y="3749760"/>
            <a:ext cx="3441600" cy="652320"/>
            <a:chOff x="2584440" y="3749760"/>
            <a:chExt cx="3441600" cy="65232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265560" y="3749760"/>
                  <a:ext cx="276048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2584440" y="381636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08960" y="4753080"/>
            <a:ext cx="817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WB is balanc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of the 4 resist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known,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known) resistance can be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balanced WB equation. Th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24080" y="3303720"/>
                <a:ext cx="46353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δR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δR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67840" y="1866960"/>
            <a:ext cx="861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onsider the case when all 4 resistors ar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, then, one resistance, say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n amou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. This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lec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29000" y="414360"/>
                <a:ext cx="4140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692440" y="4562640"/>
                <a:ext cx="27874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99880" y="5967360"/>
            <a:ext cx="86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is associated with a change in a physical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7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tilever Beam with Four Strain 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520" y="4971960"/>
            <a:ext cx="7805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 is applied as shown (downward)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(due to extension),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(due to compress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7640" y="2540160"/>
            <a:ext cx="4567320" cy="167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27800" y="269244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200" y="1703520"/>
            <a:ext cx="80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olid mechanics, for a cantilever bea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07040" y="2500200"/>
            <a:ext cx="2158920" cy="185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76880" y="420228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ntilever Beam with Four 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00" y="1779480"/>
            <a:ext cx="32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dg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747960" y="1432080"/>
                <a:ext cx="4140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79480" y="3079800"/>
                <a:ext cx="75708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10040" y="5845320"/>
            <a:ext cx="82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voltage/force relation for a cantilever b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1360" y="5141880"/>
            <a:ext cx="647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~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F, 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 x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400" y="2489040"/>
            <a:ext cx="19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5760" y="4429080"/>
            <a:ext cx="51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reduces to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/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6480" y="1444680"/>
            <a:ext cx="7989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c] G = amp.output / amp.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 10/0.0357 = 210.11 &gt;&gt; set at 2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2760" y="2919240"/>
            <a:ext cx="8235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d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1+0.0005(60-20)] = (25)(1.02) = 25.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=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6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– 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0 º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5.5 – 25 = 0.5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68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4480" y="4110120"/>
            <a:ext cx="72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/R)/(4+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/R)] = 0.1/4.04 = 0.0248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320" y="4869000"/>
            <a:ext cx="551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G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(200)(0.0248) = 4.9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2-13T16:59:07Z</dcterms:modified>
  <cp:revision>196</cp:revision>
  <dc:subject/>
  <dc:title>Slide 1</dc:title>
</cp:coreProperties>
</file>