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B76-05D6-415D-9461-1C53750E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078-3DBD-43FD-B271-64411248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3F6-012A-4698-8E6E-BA9CD71A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C95-035C-4DE9-87A2-62112FE7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1E0-0A0A-4920-96A4-D2174C3B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A9E-63E3-4313-B313-409379D8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4A3-38F0-4DE3-AF35-C1B69269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628-DD28-4AE6-A659-7A938C63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23A-9C09-416B-9EDE-7D68D771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341-9848-4D44-8F34-69019F44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BBE-31E8-4D9A-93BB-4C42569E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09F-C82E-4B0C-9823-47B31E48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665F-FCBC-4DBC-BC6B-5C76F8D64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3600" y="1905120"/>
            <a:ext cx="5011920" cy="380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029200" y="1905120"/>
                <a:ext cx="323532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t xml:space="preserve">7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029200" y="3505320"/>
                <a:ext cx="3679920" cy="29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7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sSubSup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85560" y="1295280"/>
            <a:ext cx="55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probability that x is between 1 and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ability Distribution Function (PD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4720" y="1219320"/>
            <a:ext cx="80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abilit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 (PDF) is related to the integral of the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973320" cy="6336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43520" y="2438280"/>
            <a:ext cx="6908040" cy="1038240"/>
            <a:chOff x="443520" y="2438280"/>
            <a:chExt cx="6908040" cy="10382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1792440" y="2743200"/>
              <a:ext cx="555912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43520" y="2438280"/>
              <a:ext cx="32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consequence of this is t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5680" y="3505320"/>
            <a:ext cx="7126560" cy="3155760"/>
            <a:chOff x="1525680" y="3505320"/>
            <a:chExt cx="7126560" cy="3155760"/>
          </a:xfrm>
        </p:grpSpPr>
        <p:grpSp>
          <p:nvGrpSpPr>
            <p:cNvPr id="53" name=""/>
            <p:cNvGrpSpPr/>
            <p:nvPr/>
          </p:nvGrpSpPr>
          <p:grpSpPr>
            <a:xfrm>
              <a:off x="2133720" y="3505320"/>
              <a:ext cx="6518520" cy="3155760"/>
              <a:chOff x="2133720" y="3505320"/>
              <a:chExt cx="6518520" cy="315576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133720" y="3505320"/>
                <a:ext cx="3886200" cy="31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7317720" y="6019920"/>
                <a:ext cx="133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igure 7.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525680" y="47386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d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74000" y="4724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D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 of the p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23880" y="1355760"/>
            <a:ext cx="5952960" cy="1017720"/>
            <a:chOff x="1523880" y="1355760"/>
            <a:chExt cx="5952960" cy="1017720"/>
          </a:xfrm>
        </p:grpSpPr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5743440" y="1355760"/>
                  <a:ext cx="173340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61" name=""/>
            <p:cNvSpPr/>
            <p:nvPr/>
          </p:nvSpPr>
          <p:spPr>
            <a:xfrm>
              <a:off x="1523880" y="1676520"/>
              <a:ext cx="46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n the pdf is ‘normalized’ correctly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76240" y="2762280"/>
            <a:ext cx="3886200" cy="3155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53040" y="2876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975280" y="2565360"/>
                <a:ext cx="17272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477040" y="3600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not n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18480" y="4246560"/>
            <a:ext cx="2943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defin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) = 1/3 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210360" y="4527720"/>
                <a:ext cx="18968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Density &amp;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54360" y="2482920"/>
            <a:ext cx="5311440" cy="3906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32360" y="21542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91400" y="2198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57200" y="584820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. 7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351160" y="3130560"/>
            <a:ext cx="503280" cy="29113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116320" y="5524560"/>
            <a:ext cx="505080" cy="504720"/>
            <a:chOff x="5116320" y="5524560"/>
            <a:chExt cx="505080" cy="504720"/>
          </a:xfrm>
        </p:grpSpPr>
        <p:sp>
          <p:nvSpPr>
            <p:cNvPr id="75" name=""/>
            <p:cNvSpPr/>
            <p:nvPr/>
          </p:nvSpPr>
          <p:spPr>
            <a:xfrm flipV="1">
              <a:off x="5621400" y="5524560"/>
              <a:ext cx="0" cy="50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116320" y="5537880"/>
              <a:ext cx="501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605000" y="346536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[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≤1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02320" y="382104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 / 3.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/6 = 16.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3840" y="1382760"/>
            <a:ext cx="62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Pr[x≤1] using the pdf and using the PD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280" y="950760"/>
            <a:ext cx="80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expressions for the PDF curve, knowing that of the pdf cur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0800" y="4800600"/>
            <a:ext cx="4215960" cy="1343160"/>
            <a:chOff x="460800" y="4800600"/>
            <a:chExt cx="4215960" cy="134316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33520" y="5257800"/>
                  <a:ext cx="414324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3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</m:t>
                                    </m:r>
                                  </m:den>
                                </m:f>
                                <m:r>
                                  <m:t xml:space="preserve"> </m:t>
                                </m:r>
                                <m:r>
                                  <m:t xml:space="preserve">7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60800" y="4800600"/>
              <a:ext cx="392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rating the pdf expressions g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0880" y="1295280"/>
            <a:ext cx="4343400" cy="3294360"/>
            <a:chOff x="380880" y="1295280"/>
            <a:chExt cx="4343400" cy="32943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380880" y="1295280"/>
              <a:ext cx="4343400" cy="3294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600200" y="3124080"/>
                  <a:ext cx="198108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 </m:t>
                                </m:r>
                                <m:r>
                                  <m:t xml:space="preserve">7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g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" name=""/>
          <p:cNvGrpSpPr/>
          <p:nvPr/>
        </p:nvGrpSpPr>
        <p:grpSpPr>
          <a:xfrm>
            <a:off x="4495680" y="1295280"/>
            <a:ext cx="4343400" cy="4267440"/>
            <a:chOff x="4495680" y="1295280"/>
            <a:chExt cx="4343400" cy="426744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343400" cy="32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flipH="1">
              <a:off x="4571640" y="4114800"/>
              <a:ext cx="1143000" cy="144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060880" y="2876400"/>
            <a:ext cx="3240000" cy="3490920"/>
            <a:chOff x="5060880" y="2876400"/>
            <a:chExt cx="3240000" cy="349092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5486400" y="4419720"/>
                  <a:ext cx="2814480" cy="19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7</m:t>
                          </m:r>
                          <m:r>
                            <m:t xml:space="preserve">]</m:t>
                          </m:r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7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3" name=""/>
            <p:cNvGrpSpPr/>
            <p:nvPr/>
          </p:nvGrpSpPr>
          <p:grpSpPr>
            <a:xfrm>
              <a:off x="5067360" y="2876400"/>
              <a:ext cx="1682640" cy="1361880"/>
              <a:chOff x="5067360" y="2876400"/>
              <a:chExt cx="1682640" cy="1361880"/>
            </a:xfrm>
          </p:grpSpPr>
          <p:sp>
            <p:nvSpPr>
              <p:cNvPr id="94" name=""/>
              <p:cNvSpPr/>
              <p:nvPr/>
            </p:nvSpPr>
            <p:spPr>
              <a:xfrm>
                <a:off x="5067360" y="2882880"/>
                <a:ext cx="1676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50000" y="2876400"/>
                <a:ext cx="0" cy="1361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>
              <a:off x="5060880" y="4222800"/>
              <a:ext cx="25416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3080" y="1889280"/>
            <a:ext cx="7963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lecules travel at speeds in this room according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well-Boltzman speed distribution. The probability densit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describes thi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76320" y="3159000"/>
                <a:ext cx="4932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π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08320" y="4708440"/>
            <a:ext cx="74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speeds below which 95 % of the molecules tra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838080" y="1752480"/>
            <a:ext cx="2895840" cy="24670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3886200" y="1886040"/>
            <a:ext cx="3962520" cy="2305080"/>
            <a:chOff x="3886200" y="1886040"/>
            <a:chExt cx="3962520" cy="230508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952880" y="1886040"/>
              <a:ext cx="28958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886200" y="251496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∫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979280" y="4175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66080" y="41752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2209680"/>
            <a:ext cx="129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463440" y="2209680"/>
            <a:ext cx="903240" cy="1600200"/>
            <a:chOff x="6463440" y="2209680"/>
            <a:chExt cx="903240" cy="1600200"/>
          </a:xfrm>
        </p:grpSpPr>
        <p:sp>
          <p:nvSpPr>
            <p:cNvPr id="110" name=""/>
            <p:cNvSpPr/>
            <p:nvPr/>
          </p:nvSpPr>
          <p:spPr>
            <a:xfrm>
              <a:off x="6477120" y="2209680"/>
              <a:ext cx="0" cy="1600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63440" y="34131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810 m/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438280" y="33526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295280" y="2590920"/>
            <a:ext cx="990360" cy="1066320"/>
            <a:chOff x="1295280" y="2590920"/>
            <a:chExt cx="990360" cy="1066320"/>
          </a:xfrm>
        </p:grpSpPr>
        <p:sp>
          <p:nvSpPr>
            <p:cNvPr id="114" name=""/>
            <p:cNvSpPr/>
            <p:nvPr/>
          </p:nvSpPr>
          <p:spPr>
            <a:xfrm flipH="1">
              <a:off x="1523520" y="2590920"/>
              <a:ext cx="38124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447560" y="2743200"/>
              <a:ext cx="609480" cy="38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371240" y="2971800"/>
              <a:ext cx="76212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295280" y="3124080"/>
              <a:ext cx="91440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676160" y="3276360"/>
              <a:ext cx="6094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ormal pdf and PD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13120" cy="452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225560" y="5904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20:19:31Z</dcterms:created>
  <dc:creator>pdunn</dc:creator>
  <dc:description/>
  <dc:language>en-US</dc:language>
  <cp:lastModifiedBy>Patrick Dunn</cp:lastModifiedBy>
  <dcterms:modified xsi:type="dcterms:W3CDTF">2008-03-25T18:49:01Z</dcterms:modified>
  <cp:revision>85</cp:revision>
  <dc:subject/>
  <dc:title>Chapter 2: UNITS &amp; SIGNIFICANT FIGURES</dc:title>
</cp:coreProperties>
</file>