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22D-1685-4DF0-BF03-2F60E989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940-53FC-4943-ACF4-285012A5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7C7-7DFB-49EB-A3F8-F293004B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1B9-84FC-4D06-B2A3-C28C51F0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469-655A-41A6-ACB6-C6B8CA66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F19-CB68-4534-B5BD-8E9DDBBD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3FB-DB49-48F0-8405-41BB107B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1C7-24EB-4A55-9A7E-7FE55389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425-BD80-4F70-B241-BDA06FF0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C6C-4711-49B5-8C66-155F5431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6BA-5BF6-4645-9003-B05CE781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2B6-A139-497D-80DB-3765FD65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26BD-9D09-4CD3-A08E-BDF3A07C3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mertz@nd.ed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7621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ECHNICAL COMMUNIC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657600"/>
            <a:ext cx="472428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n Mert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ssert B025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mertz@nd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62485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3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295280"/>
            <a:ext cx="7620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Variables/Symbols Identified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886200"/>
            <a:ext cx="8991720" cy="27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“y = mx+b” for a calibration equation but not say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ny of these variables m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defining common variables (e.g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for veloc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sing the same variable for two differen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ot defining variables in append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ot italicizing quantity symb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124080"/>
            <a:ext cx="6095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mmon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286000"/>
            <a:ext cx="7619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ernoulli equation (Equation 1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ressur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velocity, and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d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Variable’s Units Presented (in correct form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76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er Number of Significant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s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94560" y="5257800"/>
            <a:ext cx="1243080" cy="779760"/>
            <a:chOff x="1294560" y="5257800"/>
            <a:chExt cx="1243080" cy="779760"/>
          </a:xfrm>
        </p:grpSpPr>
        <p:sp>
          <p:nvSpPr>
            <p:cNvPr id="84" name=""/>
            <p:cNvSpPr/>
            <p:nvPr/>
          </p:nvSpPr>
          <p:spPr>
            <a:xfrm>
              <a:off x="1294560" y="563868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refer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52480" y="5257800"/>
              <a:ext cx="304920" cy="380880"/>
            </a:xfrm>
            <a:prstGeom prst="upArrow">
              <a:avLst>
                <a:gd name="adj1" fmla="val 50000"/>
                <a:gd name="adj2" fmla="val 312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85120" y="5257800"/>
            <a:ext cx="1680480" cy="779760"/>
            <a:chOff x="3885120" y="5257800"/>
            <a:chExt cx="1680480" cy="779760"/>
          </a:xfrm>
        </p:grpSpPr>
        <p:sp>
          <p:nvSpPr>
            <p:cNvPr id="87" name=""/>
            <p:cNvSpPr/>
            <p:nvPr/>
          </p:nvSpPr>
          <p:spPr>
            <a:xfrm>
              <a:off x="3885120" y="5638680"/>
              <a:ext cx="168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Inconsistent 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5257800"/>
              <a:ext cx="304560" cy="380880"/>
            </a:xfrm>
            <a:prstGeom prst="upArrow">
              <a:avLst>
                <a:gd name="adj1" fmla="val 50000"/>
                <a:gd name="adj2" fmla="val 3126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478920" y="5257800"/>
            <a:ext cx="1946880" cy="779760"/>
            <a:chOff x="6478920" y="5257800"/>
            <a:chExt cx="1946880" cy="779760"/>
          </a:xfrm>
        </p:grpSpPr>
        <p:sp>
          <p:nvSpPr>
            <p:cNvPr id="90" name=""/>
            <p:cNvSpPr/>
            <p:nvPr/>
          </p:nvSpPr>
          <p:spPr>
            <a:xfrm>
              <a:off x="6478920" y="5638680"/>
              <a:ext cx="194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Still Used in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67480" y="5257800"/>
              <a:ext cx="304920" cy="380880"/>
            </a:xfrm>
            <a:prstGeom prst="upArrow">
              <a:avLst>
                <a:gd name="adj1" fmla="val 50000"/>
                <a:gd name="adj2" fmla="val 312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1">
            <a:lum contrast="6000"/>
          </a:blip>
          <a:srcRect l="5823" t="17516" r="1944" b="3219"/>
          <a:stretch/>
        </p:blipFill>
        <p:spPr>
          <a:xfrm>
            <a:off x="457200" y="1676520"/>
            <a:ext cx="830592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571760" cy="6248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1523880"/>
            <a:ext cx="67820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cimal prefixes with a number’s units, keeping its numerical value between 0.1 and 1000, such as 1.05 MJ instead of either 1.0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or 1.05E6 J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unacceptable abbreviations such as sec for second, cc for cubic centimeter, l for liter or ppm for parts per million.  For example, express 7 ppm as 7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/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Unit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s of Significant Fig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7680" y="1611360"/>
            <a:ext cx="8016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-significant dig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sd) is the leftmost, nonzero dig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st-significant dig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sd) is the rightmost, nonzero* digi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IF there is a decimal point, then the lsd also includes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significant fig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quals the number of fig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and including the least-significant digit and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-significant dig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use more significant figures than you are certain abo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because a computer program can produce 13 significa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s, that does not mean you should use all of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5181480"/>
            <a:ext cx="761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ignificant figures are there in each of the following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58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58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5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05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6560" y="6172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9040" y="6172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19720" y="6183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6640" y="6172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447920"/>
            <a:ext cx="8458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ertainties for Every Measured and Predict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76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Figures and Tables Explained 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2670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ments like “the calibration plot can be seen a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gure 1,” by themselves ar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noug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ots and tables in appendices should referenced in b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umerical Results Presented in Proper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666880"/>
            <a:ext cx="899172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include value, uncertainty, and conf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dence can be omitted if stated earlier in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more than three digits on either side of the decim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 put a space (not com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sure to put a space between the number and i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s (this includes 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expressing ranges of values, use “to” rather than “-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quoting composite expressions (like volume) includ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s for each number (for example, 3 m x 4 m x 5 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rect Format for Figure/Table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590920"/>
            <a:ext cx="899172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beled with a number in sequential order based on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in which they appear in the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numbering for figures and 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bels g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lo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gures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o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bl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tle should be a stand-alone description of the conten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able/fig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 Figure Axes Properly Labe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590920"/>
            <a:ext cx="89917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ity/Symb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spell out Greek letters (for example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not r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ts in brackets or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tick ma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bels big enough to be easily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s in Proper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590920"/>
            <a:ext cx="89917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ed in consecutive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any references that are not cited in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dy of the memo/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format fro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Chicago Manual of Styl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s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]   2003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hicago Manual of Styl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5th ed. Chicago: The University of Chicago P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09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do engineers need to know how to write good technical memos/repo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133720"/>
            <a:ext cx="8610480" cy="29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communicate with pe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disciplinary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ves can depend on clearly communicating technic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case studies fro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echnical Writing Styl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rse web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 witness in court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5410080"/>
            <a:ext cx="8610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 GET A GOOD GRADE IN THIS CLA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4612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   D. Jones. 1998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chnical Writing Sty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ston: Allyn and Ba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Technical Writ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9528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rect Grammar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rect Sp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ground/Methodology Expl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2590920"/>
            <a:ext cx="8991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ained in enough detail so that an engineer at you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can critique your method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goals of the experi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ain any important physics or governing eq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py and paste from hand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4479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ropriate Plots (presence and qu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2590920"/>
            <a:ext cx="89917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lab will have different required plots (make sure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hem in your memo/repo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all plots are present, but the formatting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tremely bad a score of zero will be give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d P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0102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rrect P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10800000">
            <a:off x="151920" y="1142640"/>
            <a:ext cx="899172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rrect P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 rot="10800000">
            <a:off x="533160" y="837360"/>
            <a:ext cx="8001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rrect P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143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certainty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133720"/>
            <a:ext cx="830592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ill need to do uncertainty calculations for all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a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ons should be placed in Append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be easy to follow log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rules about units and variable description used f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dy of memo/report apply to Appendix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how uncertainties were found (for example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lution of certain equipment displa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ful to see how each source of uncertainty affec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ll uncertain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30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ison of Measured and Theoretica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133720"/>
            <a:ext cx="8305920" cy="40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ill be asked to compare measured an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retical values frequ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quantitative comparis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 and Y differed by Z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 NOT use words such as “good”, “reasonable”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acceptable”, or “significant”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talk about values being within measure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ativ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ison will receive a score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ero for this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144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ientifically Viable Conclusions/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905120"/>
            <a:ext cx="83059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d measurements and theoretical results agre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results did not agree give an explanation w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uman error” or “uncertainty i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asurements” are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eptab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la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 up with simple sample calcu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scientific meri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conspiracy the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cous effects of air will not significantly affect th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frequency of a vibrating b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594400" cy="455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891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ical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90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ientifically Viable Conclusions/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2362320"/>
            <a:ext cx="830556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y of what was accomplished in the l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major 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discus anything new or make any new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r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uncertainty is high, suggest ways to reduce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ntrate on greatest sources of uncertain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id you learn during this lab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osing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286000"/>
            <a:ext cx="830592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writing is a learned skill that takes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technical writing is diffic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3 in textbook is an excellent resource (check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often when writ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rading sheet should help in writing a goo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/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424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Mistakes “Quiz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7040" y="158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y format errors in the fol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– 3 m/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temperature, T, equals 98.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t. equals 12 in. exa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,23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000 p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72520" y="2158920"/>
            <a:ext cx="31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m/s to 3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40240" y="2652840"/>
            <a:ext cx="16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2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63360" y="3124080"/>
            <a:ext cx="27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8.6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4200" y="3683160"/>
            <a:ext cx="19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.1 m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1480" y="4205160"/>
            <a:ext cx="10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36040" y="4714920"/>
            <a:ext cx="20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 23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5960" y="5237280"/>
            <a:ext cx="40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 mL/L or 4 mg/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s for Number Round 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600200"/>
            <a:ext cx="693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ound off a number, truncate the number to its desi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and make the remainder a decimal f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raction &gt; ½, round up the number’s l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raction &lt; ½. leave the number’s lsd a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raction = ½, round up the lsd IF it is o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nificant Figur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27280" y="1930320"/>
            <a:ext cx="21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27.08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3360" y="3868560"/>
            <a:ext cx="63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ignificant figure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0120" y="5059440"/>
            <a:ext cx="76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ed off to 5 significant figures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96880" y="2838600"/>
            <a:ext cx="19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81400" y="2395440"/>
            <a:ext cx="666720" cy="5223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9840" y="2824200"/>
            <a:ext cx="18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S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472000" y="2351160"/>
            <a:ext cx="449280" cy="581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22800" y="388476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16480" y="5059440"/>
            <a:ext cx="21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7.0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terest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6720" y="14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 the common units for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5200" y="2057400"/>
            <a:ext cx="64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seed to sow an acre of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2732040"/>
            <a:ext cx="45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from head to w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760" y="3349800"/>
            <a:ext cx="45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an arrow would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920" y="4010040"/>
            <a:ext cx="53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walked on foot in 1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560" y="4662360"/>
            <a:ext cx="47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a shout would 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0080" y="5300640"/>
            <a:ext cx="72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seen when squatting beneath a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66280" y="2071800"/>
            <a:ext cx="17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s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57640" y="2730600"/>
            <a:ext cx="11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57640" y="3354480"/>
            <a:ext cx="20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w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25880" y="40212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ot-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32600" y="4660920"/>
            <a:ext cx="31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up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 (Fre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12920" y="5299200"/>
            <a:ext cx="18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5840" y="5931000"/>
            <a:ext cx="68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you can see to the horizon in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42200" y="59119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2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(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to 3 pages plus appe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enough to thoroughly explain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762120"/>
            <a:ext cx="1371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762120"/>
            <a:ext cx="1676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36232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comprehensive explanation of theoretical or experiment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2438280"/>
            <a:ext cx="403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esentation of a topic including background an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809880"/>
            <a:ext cx="4191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Summary, Findings, References, and Append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886200"/>
            <a:ext cx="4114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Title Sheet, Abstract, Table of Contents, Introduction, Approach, Results, Discussion, Conclusions, References, and Append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al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523880"/>
            <a:ext cx="861048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echnical documents in third pe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past tense throughout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 the length of sentences.  Break long sentenc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o shorter 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gment ideas into paragraphs such that the reader 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through the presentation in a smooth an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ortless fash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pages numbered consecutively except cover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orrect English.  Be careful not to confuse thing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“its” and “it’s” or “effect” and “affec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nctuate equations like they were part of the sent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685800"/>
            <a:ext cx="6095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chnical Writing 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al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82880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necessary sections inclu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ell the information is organ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the plots are placed in the 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tions from one subject to an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opriate material covered in each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s Append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in doubt, refer to tex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990720"/>
            <a:ext cx="6095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er Format an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s of a M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685800"/>
            <a:ext cx="8610480" cy="62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paragraph l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ificant results and 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LF CONTAIN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 necessary to support 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most important plots/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ty not qua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feren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more details to c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ppend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ing information not in b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is class, appendices may be hand-writt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y are neat and leg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al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685800"/>
            <a:ext cx="6095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er Format an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514600"/>
            <a:ext cx="899136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putting results in Summary/Abstra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ting overly detailed instructions when discuss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ology (no step-by-step instruc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presenting ranges of parameters or other importa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about experi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ting new or unsupported claims in Con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ting raw data in Appendices without expla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including technical background for eq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828800"/>
            <a:ext cx="6096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mmon Mis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al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523880"/>
            <a:ext cx="861048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technical documents should be ty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k a word processing software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rn to use i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ffective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know how to handle text, tables, figures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eq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sketches are neatly dra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ations should not use “*” for multiplication and, i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, fractions should be oriented ver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es and Figures are well organized within tex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ld your tables/figures/equations appear in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book or journal artic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6095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fessional App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20:19:31Z</dcterms:created>
  <dc:creator>pdunn</dc:creator>
  <dc:description/>
  <dc:language>en-US</dc:language>
  <cp:lastModifiedBy>Ben Mertz</cp:lastModifiedBy>
  <dcterms:modified xsi:type="dcterms:W3CDTF">2008-01-23T17:07:00Z</dcterms:modified>
  <cp:revision>81</cp:revision>
  <dc:subject/>
  <dc:title>Chapter 2: UNITS &amp; SIGNIFICANT FIGU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16013178</vt:r8>
  </property>
  <property fmtid="{D5CDD505-2E9C-101B-9397-08002B2CF9AE}" pid="3" name="_AuthorEmail">
    <vt:lpwstr>bmertz@nd.edu</vt:lpwstr>
  </property>
  <property fmtid="{D5CDD505-2E9C-101B-9397-08002B2CF9AE}" pid="4" name="_AuthorEmailDisplayName">
    <vt:lpwstr>Ben Mertz</vt:lpwstr>
  </property>
  <property fmtid="{D5CDD505-2E9C-101B-9397-08002B2CF9AE}" pid="5" name="_EmailSubject">
    <vt:lpwstr>Lecture 6 Slides v.2</vt:lpwstr>
  </property>
</Properties>
</file>