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E2E-B8A7-4982-9268-B109CBC7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870-2661-460F-BAB4-4EA5EB78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039-DC1E-49E7-8286-F2F31E93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395-BA53-444D-B964-9CFE88B9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857-4262-4D49-A72D-7ED41CA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9F3-1267-4409-9C04-9FBC436F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464-F382-4F14-8F87-1715515F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C1C-A128-496C-AEEA-A09B4977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E6E-2DB6-427E-ACF1-2F2B165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5B4-53DF-4674-972C-F484C40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3A5-65F4-48AD-8C43-89E4EF5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7A3-4D9E-48A9-A941-C205D60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29E8-9735-4E4E-B96A-C0A9B00F3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65360" y="1397160"/>
            <a:ext cx="6192720" cy="3560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7320" y="274320"/>
            <a:ext cx="70545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vs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27000" y="165096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7840" y="1652760"/>
            <a:ext cx="35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9640" y="232560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70000" y="31766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98772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arameters and Sample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0280" y="195732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89360" y="4079880"/>
                <a:ext cx="33415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arameters and Sample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0280" y="195732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92280" y="2860560"/>
                <a:ext cx="410868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480" y="2743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Theory and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2880" y="1639800"/>
            <a:ext cx="841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between theory and experiment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y correc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-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6520" y="5998680"/>
            <a:ext cx="1384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39880" y="1473120"/>
            <a:ext cx="5715000" cy="466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1280" y="765000"/>
            <a:ext cx="91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Graphical Comparison with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ure Are W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237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hysical process is quantified, uncertainties associated with describing the process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40" y="2602080"/>
            <a:ext cx="61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 resul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00" y="2795760"/>
            <a:ext cx="60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stimate of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8480" y="1805040"/>
            <a:ext cx="76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ifference between the measur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520" y="1335240"/>
            <a:ext cx="245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5680" y="3268800"/>
            <a:ext cx="21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46840" y="4911840"/>
            <a:ext cx="981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9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8880" y="1333440"/>
            <a:ext cx="800100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9160" y="461880"/>
            <a:ext cx="85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78440" y="2075040"/>
            <a:ext cx="479520" cy="24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95880" y="3090960"/>
            <a:ext cx="479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1-22T16:35:36Z</dcterms:modified>
  <cp:revision>116</cp:revision>
  <dc:subject/>
  <dc:title>Slide 1</dc:title>
</cp:coreProperties>
</file>