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970-E020-40AC-B05E-97D70B04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60B-EB26-4247-9D8C-62D1D92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7F5-D452-482B-8CC4-222CFB39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CB0-ED44-4275-9709-B051B15D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5EF-5C29-44AA-A669-4F0B2C93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E48-6AB2-4DF7-960C-7A52113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9B2-AB5D-4B60-9CEE-864A566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045-6B62-4C75-83E4-7884CFB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E47-F1C2-49CE-8BC0-AC68C195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86A-8AB7-4DC3-90D7-15657A9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8BB-2E4A-44DB-8877-AF17690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F6F-A1E0-4681-9819-07EEDDC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F6A-A5F9-45CB-9DC3-443FA4A9D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: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3163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752480"/>
            <a:ext cx="40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eal in large numbers, probabilities are the same as certainties. I wouldn’t bet my life on the toss of a single coin, but I would, with great confidence, bet on heads appearing between 49 % and 51 % of the throws of a coin if the number of tosses was 1 bill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an Silver, 1998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Ascent of 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xford University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20160" y="594036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ld English Text MT"/>
              </a:rPr>
              <a:t>Sir Francis Galton’s Quincu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ing Population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81280" cy="289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8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7160" y="4648320"/>
            <a:ext cx="76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digital values: 1.5, 1.0, 2.5, 4.0, 3.5, 2.0, 2.5, 3.0, 2.5 and 0.5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000" y="5105520"/>
            <a:ext cx="72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rted in order: 0.5, 1.0, 1.5, 2.0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.0, 3.5, 4.0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99480" y="12952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29528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4640" y="5562720"/>
            <a:ext cx="660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9 occurrences; j = 8 cells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ccurrences in j-th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" y="6107040"/>
            <a:ext cx="794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lot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dinate) versus magnitude (absciss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oice of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876920" cy="390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88800" y="358128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←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mad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ing 3histos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8000" y="1371600"/>
            <a:ext cx="73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ice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is critical to the interpretation of the hist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x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24280" cy="3797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89560" y="1306440"/>
            <a:ext cx="64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, we construct equal-width-interval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410080" y="2057400"/>
            <a:ext cx="2477160" cy="1008360"/>
            <a:chOff x="5410080" y="2057400"/>
            <a:chExt cx="2477160" cy="1008360"/>
          </a:xfrm>
        </p:grpSpPr>
        <p:sp>
          <p:nvSpPr>
            <p:cNvPr id="64" name=""/>
            <p:cNvSpPr/>
            <p:nvPr/>
          </p:nvSpPr>
          <p:spPr>
            <a:xfrm>
              <a:off x="5867640" y="2057400"/>
              <a:ext cx="9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K =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√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82400" y="266688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K = 1.87(N-1)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0.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410080" y="2286000"/>
              <a:ext cx="45720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410080" y="266652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10080" y="3886200"/>
            <a:ext cx="2502000" cy="1126440"/>
            <a:chOff x="5410080" y="3886200"/>
            <a:chExt cx="2502000" cy="1126440"/>
          </a:xfrm>
        </p:grpSpPr>
        <p:sp>
          <p:nvSpPr>
            <p:cNvPr id="69" name=""/>
            <p:cNvSpPr/>
            <p:nvPr/>
          </p:nvSpPr>
          <p:spPr>
            <a:xfrm>
              <a:off x="5876640" y="4572000"/>
              <a:ext cx="203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K = 3.322 log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9520" y="388620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K = 1.15N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Arial"/>
                </a:rPr>
                <a:t>1/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410080" y="411480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5410080" y="4571640"/>
              <a:ext cx="45720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togram Construction Rul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1459080"/>
            <a:ext cx="801684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equal-width histogra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minimum and maximum values of x and its range wher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K class intervals (usually use K = 1.15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j = 1 to K) in eac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nterval. No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∑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ck that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 5 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nj versus x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where x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idpoint value of each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29080" cy="4432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12800" y="62485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34080" y="3581280"/>
            <a:ext cx="116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8120" y="2438280"/>
            <a:ext cx="1439280" cy="1219320"/>
            <a:chOff x="618120" y="2438280"/>
            <a:chExt cx="1439280" cy="1219320"/>
          </a:xfrm>
        </p:grpSpPr>
        <p:sp>
          <p:nvSpPr>
            <p:cNvPr id="79" name=""/>
            <p:cNvSpPr/>
            <p:nvPr/>
          </p:nvSpPr>
          <p:spPr>
            <a:xfrm>
              <a:off x="618120" y="2438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743200"/>
              <a:ext cx="106704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13800" y="3581280"/>
            <a:ext cx="38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0600" y="2514600"/>
            <a:ext cx="2430360" cy="837720"/>
            <a:chOff x="4800600" y="2514600"/>
            <a:chExt cx="2430360" cy="837720"/>
          </a:xfrm>
        </p:grpSpPr>
        <p:sp>
          <p:nvSpPr>
            <p:cNvPr id="83" name=""/>
            <p:cNvSpPr/>
            <p:nvPr/>
          </p:nvSpPr>
          <p:spPr>
            <a:xfrm>
              <a:off x="6865920" y="2514600"/>
              <a:ext cx="36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800600" y="2742840"/>
              <a:ext cx="2057400" cy="609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990720"/>
            <a:ext cx="7696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lot of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N versus magn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y similar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ist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1640" y="480060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←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made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ing hf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-2180" b="0"/>
          <a:stretch/>
        </p:blipFill>
        <p:spPr>
          <a:xfrm>
            <a:off x="1143000" y="1752480"/>
            <a:ext cx="7086600" cy="355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1200" y="2133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7120" y="129528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ignal that varie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8920" y="5562720"/>
            <a:ext cx="76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the signal at a future time will reside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x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ability Density Function (p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446360" cy="86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62920" y="2438280"/>
            <a:ext cx="1600200" cy="86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404040" cy="96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640" y="137160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2133720"/>
            <a:ext cx="6354720" cy="1199880"/>
            <a:chOff x="609480" y="2133720"/>
            <a:chExt cx="6354720" cy="1199880"/>
          </a:xfrm>
        </p:grpSpPr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762120" y="2514600"/>
              <a:ext cx="62020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9480" y="2133720"/>
              <a:ext cx="112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x(t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7600" y="4952880"/>
            <a:ext cx="7080120" cy="1444680"/>
            <a:chOff x="687600" y="4952880"/>
            <a:chExt cx="7080120" cy="1444680"/>
          </a:xfrm>
        </p:grpSpPr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1295280" y="5334120"/>
              <a:ext cx="647244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7600" y="4952880"/>
              <a:ext cx="22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n occurrenc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705720" y="4835520"/>
            <a:ext cx="1911960" cy="1488960"/>
            <a:chOff x="6705720" y="4835520"/>
            <a:chExt cx="1911960" cy="1488960"/>
          </a:xfrm>
        </p:grpSpPr>
        <p:sp>
          <p:nvSpPr>
            <p:cNvPr id="105" name=""/>
            <p:cNvSpPr/>
            <p:nvPr/>
          </p:nvSpPr>
          <p:spPr>
            <a:xfrm>
              <a:off x="6705720" y="5410080"/>
              <a:ext cx="1066680" cy="9144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391520" y="5105520"/>
              <a:ext cx="4572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39720" y="483552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j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20:19:31Z</dcterms:created>
  <dc:creator>pdunn</dc:creator>
  <dc:description/>
  <dc:language>en-US</dc:language>
  <cp:lastModifiedBy>Patrick Dunn</cp:lastModifiedBy>
  <dcterms:modified xsi:type="dcterms:W3CDTF">2008-04-09T15:02:47Z</dcterms:modified>
  <cp:revision>79</cp:revision>
  <dc:subject/>
  <dc:title>Chapter 2: UNITS &amp; SIGNIFICANT FIGURES</dc:title>
</cp:coreProperties>
</file>