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04E-1B5E-4005-8702-A137B238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F38-FD31-46F7-A3A0-B6292E3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985-E663-4578-A771-BC204ECA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26D-B800-4814-A135-D5C3FD21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E86-2617-40C3-9C02-E9D2A6C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9B2-E959-49CB-B9FB-BCCA28A6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5A5-7C32-4CED-AF44-5418029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EF5-36EC-46AC-9C07-156FD38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E13-8BB5-4488-B48A-76A1BF9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1CF-D25B-4E95-9D39-3097CE6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334-36B5-46AC-8152-F95227B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603-8911-4D18-A137-5E8B774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516B-D874-4F01-B540-35E6D1314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and Stat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3818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systems and their individual components ‘respond’ to inputs by producing an output for a given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put can differ from the input by having a different frequency and amplitude, and also a phase lag (time de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near systems, the frequency is not altered. However,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mplitude that is different than the input, and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g the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atic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600200"/>
            <a:ext cx="5410440" cy="4572000"/>
            <a:chOff x="380880" y="1600200"/>
            <a:chExt cx="5410440" cy="4572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4104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48840" y="2122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gure 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2160" y="1523880"/>
            <a:ext cx="66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is the comparison of a measured value to a kn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more accurate value, known a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u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445608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calibration consists of a number of comparisons,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v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ten is used to characterize the ca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193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82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57400" y="4267080"/>
            <a:ext cx="5019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503280"/>
            <a:ext cx="40388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15:57Z</dcterms:created>
  <dc:creator>Patrick Dunn</dc:creator>
  <dc:description/>
  <dc:language>en-US</dc:language>
  <cp:lastModifiedBy>Patrick Dunn</cp:lastModifiedBy>
  <dcterms:modified xsi:type="dcterms:W3CDTF">2008-02-18T20:37:39Z</dcterms:modified>
  <cp:revision>44</cp:revision>
  <dc:subject/>
  <dc:title>Intrinsically Linear Variables</dc:title>
</cp:coreProperties>
</file>