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D96-618D-4B10-9199-69C6E42E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00D-0C06-4FE2-925B-7C2C198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E98-53DC-42AF-8C55-355EBC1F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469-C846-4002-9FC6-503727E2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8A9-A8E8-41C4-B1A0-8CBEE79B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E30-FB2E-4C53-AEA1-66F60A72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F10-0A0F-4E15-A8A0-5FB4B2BD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A98-7723-4E9F-A9D8-0881A164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534-FEB2-40ED-9C60-33DB78C4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753-3E81-4028-BE9B-F785D43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AC0-F124-45FA-8833-F5F22B1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11E-CAD7-4B76-A2FB-77F7A20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1C97-99AC-499E-AA30-9E3CDB37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422280"/>
            <a:ext cx="4116600" cy="605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79840" y="3174840"/>
            <a:ext cx="355572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981600" y="3975120"/>
            <a:ext cx="1955520" cy="838080"/>
            <a:chOff x="3981600" y="3975120"/>
            <a:chExt cx="1955520" cy="838080"/>
          </a:xfrm>
        </p:grpSpPr>
        <p:sp>
          <p:nvSpPr>
            <p:cNvPr id="44" name=""/>
            <p:cNvSpPr/>
            <p:nvPr/>
          </p:nvSpPr>
          <p:spPr>
            <a:xfrm>
              <a:off x="3981600" y="3975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89240" y="4813200"/>
              <a:ext cx="1847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711520" y="5518080"/>
            <a:ext cx="3492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79840" y="5530680"/>
            <a:ext cx="3492360" cy="615960"/>
            <a:chOff x="2679840" y="5530680"/>
            <a:chExt cx="3492360" cy="615960"/>
          </a:xfrm>
        </p:grpSpPr>
        <p:sp>
          <p:nvSpPr>
            <p:cNvPr id="48" name=""/>
            <p:cNvSpPr/>
            <p:nvPr/>
          </p:nvSpPr>
          <p:spPr>
            <a:xfrm>
              <a:off x="2679840" y="5530680"/>
              <a:ext cx="3492360" cy="61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9840" y="5886360"/>
              <a:ext cx="253800" cy="13968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4600" y="141084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student will score between 75 and 90 on an exam, assuming that the scores are based on 9 students, with a mean of 60 and a standard deviation of 15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66680" y="361440"/>
            <a:ext cx="5646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s Made Using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8520" y="149868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statistical estimates can be made using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the value of the next sample value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00560" y="3090960"/>
                <a:ext cx="2377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9" name=""/>
          <p:cNvGrpSpPr/>
          <p:nvPr/>
        </p:nvGrpSpPr>
        <p:grpSpPr>
          <a:xfrm>
            <a:off x="734400" y="4289400"/>
            <a:ext cx="5538960" cy="1657440"/>
            <a:chOff x="734400" y="4289400"/>
            <a:chExt cx="5538960" cy="165744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216240" y="4815000"/>
                  <a:ext cx="27450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734400" y="4289400"/>
              <a:ext cx="55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[2] the value of the true mean, x‘, 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8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560" y="1627200"/>
            <a:ext cx="3059280" cy="403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06560" y="2340000"/>
                <a:ext cx="1082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49320" y="2755800"/>
                <a:ext cx="1241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740760" y="102384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1] p range that contains the next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P = 9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23480" y="2664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2] same but for 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23480" y="38257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3] for N = 19 and P =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25640" y="514656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4] p range that contains the true m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3080" y="145908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pdf(t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the value o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3600" y="2298600"/>
            <a:ext cx="8480520" cy="777960"/>
            <a:chOff x="363600" y="2298600"/>
            <a:chExt cx="8480520" cy="777960"/>
          </a:xfrm>
        </p:grpSpPr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4627440" y="2298600"/>
                  <a:ext cx="257508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∗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363600" y="2408400"/>
              <a:ext cx="8480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m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df(t*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57120" y="3360600"/>
            <a:ext cx="856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P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from the c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1000" y="4224240"/>
            <a:ext cx="856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[1-P]/2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2960" y="5130720"/>
            <a:ext cx="85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[1+P]/2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96280" y="6021360"/>
            <a:ext cx="1379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55840" y="2382840"/>
            <a:ext cx="6092640" cy="422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7240" y="36504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tandard Deviation of the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" y="150984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5800" y="1095480"/>
            <a:ext cx="83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of the 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DOM) is the standard deviation of the means determ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ts of finite data, each consist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ples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OM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5920" y="1525680"/>
            <a:ext cx="6511680" cy="469080"/>
            <a:chOff x="385920" y="1525680"/>
            <a:chExt cx="6511680" cy="469080"/>
          </a:xfrm>
        </p:grpSpPr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6154560" y="1525680"/>
                  <a:ext cx="3488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5920" y="1535040"/>
              <a:ext cx="65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DOM allows us to estimate x' from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14280" y="6234120"/>
            <a:ext cx="844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5920" y="2619360"/>
            <a:ext cx="8432640" cy="1400040"/>
            <a:chOff x="385920" y="2619360"/>
            <a:chExt cx="8432640" cy="140004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427560" y="3357720"/>
                  <a:ext cx="209520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/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385920" y="2619360"/>
              <a:ext cx="843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 can be shown that the SDOM is related to the standard     deviation of any one sample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28760" y="4229280"/>
            <a:ext cx="84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DOM follow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tribution centered about the mean of the mean values, even if the sampled population i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O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1400040"/>
            <a:ext cx="80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DOM can be used to infer the true mean from the sample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30520" y="2154240"/>
                <a:ext cx="353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88880" y="4549680"/>
            <a:ext cx="83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sample mean approaches the true mean of the population as the sample size, N, becomes very larg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8520" y="1296720"/>
            <a:ext cx="84326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Gosset, Guinness brewer and statistician, derived Studen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, publishing under the pseudonym ‘Student’ in 19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8520" y="2617920"/>
            <a:ext cx="83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’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tribution describes how the members of a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 selected randomly from a normal distribution ar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98520" y="3940200"/>
            <a:ext cx="8461440" cy="2182680"/>
            <a:chOff x="398520" y="3940200"/>
            <a:chExt cx="8461440" cy="2182680"/>
          </a:xfrm>
        </p:grpSpPr>
        <p:sp>
          <p:nvSpPr>
            <p:cNvPr id="72" name=""/>
            <p:cNvSpPr/>
            <p:nvPr/>
          </p:nvSpPr>
          <p:spPr>
            <a:xfrm>
              <a:off x="398520" y="3940200"/>
              <a:ext cx="846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 are an infinite number of Stud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ributions, one for each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s specifi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2187720" y="4903920"/>
                  <a:ext cx="524340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Γ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ν</m:t>
                              </m:r>
                            </m:e>
                          </m:rad>
                          <m:r>
                            <m:t xml:space="preserve">Γ</m:t>
                          </m:r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ν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ν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ν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5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Normal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3080" y="1128600"/>
            <a:ext cx="6118200" cy="5061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9360" y="63072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9960" y="201240"/>
            <a:ext cx="54277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82440" y="61340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35040" y="1297080"/>
            <a:ext cx="5844960" cy="477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04720" y="2141640"/>
            <a:ext cx="31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son of differenc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s (probabilities)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0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70200" y="6324120"/>
            <a:ext cx="95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92800" y="1569960"/>
            <a:ext cx="1955880" cy="1612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97920" y="22068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4080" y="1494000"/>
            <a:ext cx="5189760" cy="5162400"/>
            <a:chOff x="784080" y="1494000"/>
            <a:chExt cx="5189760" cy="516240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92000" y="1494000"/>
              <a:ext cx="51818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84080" y="1798560"/>
              <a:ext cx="149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77960" y="9050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a giv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P % confid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40120" y="395604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N = 12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ies for Values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,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400" y="618336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le 8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08120" y="2282760"/>
          <a:ext cx="5284440" cy="3556080"/>
        </p:xfrm>
        <a:graphic>
          <a:graphicData uri="http://schemas.openxmlformats.org/drawingml/2006/table">
            <a:tbl>
              <a:tblPr/>
              <a:tblGrid>
                <a:gridCol w="1258560"/>
                <a:gridCol w="1258920"/>
                <a:gridCol w="1258920"/>
                <a:gridCol w="150804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,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660960" y="1425600"/>
            <a:ext cx="71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, getting %P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08:15Z</dcterms:created>
  <dc:creator> </dc:creator>
  <dc:description/>
  <dc:language>en-US</dc:language>
  <cp:lastModifiedBy>Patrick Dunn</cp:lastModifiedBy>
  <dcterms:modified xsi:type="dcterms:W3CDTF">2008-03-25T17:35:03Z</dcterms:modified>
  <cp:revision>80</cp:revision>
  <dc:subject/>
  <dc:title>Slide 1</dc:title>
</cp:coreProperties>
</file>