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18A-B7FD-4534-BE6D-9157278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B21-CFFB-4750-B66C-914A3408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3D6-A7BB-4B9A-B044-1808EA4F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A00-0980-442B-8ECD-6E80D7CF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A73-7A00-4B0F-9546-9BB3E8E7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9DB-EC63-4C27-84F2-73DBCE00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E6E-7C9F-4958-8767-F56AC82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C0B-AE56-4583-86D3-0B06108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C51-0408-4AFE-9236-BE2496C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E20-1342-4273-A6B3-DD6DAB8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F01-F693-415B-9B94-E3BAC12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5A0-2A20-48C1-9420-2D5A63E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2CD-C9E1-4F75-9A7B-5618661BA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54280" y="6194520"/>
            <a:ext cx="36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ign in Penacook, New Hampsh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77080" y="338040"/>
            <a:ext cx="42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889" r="4419" b="6495"/>
          <a:stretch/>
        </p:blipFill>
        <p:spPr>
          <a:xfrm>
            <a:off x="2765520" y="1106640"/>
            <a:ext cx="34686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973160" y="217440"/>
            <a:ext cx="5248440" cy="2293920"/>
            <a:chOff x="1973160" y="217440"/>
            <a:chExt cx="5248440" cy="2293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973160" y="23328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22360" y="21744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68800" y="2835360"/>
            <a:ext cx="79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examine another loop and apply Kirchoff’s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atstone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95440" y="150660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280" y="424656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8240" y="1386000"/>
            <a:ext cx="46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irchhoff’s Voltag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62520" y="210024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1720" y="660240"/>
            <a:ext cx="4216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heat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equation i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is add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51960" y="1471680"/>
            <a:ext cx="1909080" cy="1852560"/>
            <a:chOff x="4251960" y="1471680"/>
            <a:chExt cx="1909080" cy="18525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4219200" y="199836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56080" y="270036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167652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45360" y="147168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4003560" cy="28432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2437560" y="2487600"/>
            <a:ext cx="1909080" cy="1852560"/>
            <a:chOff x="2437560" y="2487600"/>
            <a:chExt cx="1909080" cy="18525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2404800" y="301428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641680" y="371628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22760" y="269244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30960" y="248760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, V Relations for R, L and C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able 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701720"/>
          <a:ext cx="8528040" cy="4078440"/>
        </p:xfrm>
        <a:graphic>
          <a:graphicData uri="http://schemas.openxmlformats.org/drawingml/2006/table">
            <a:tbl>
              <a:tblPr/>
              <a:tblGrid>
                <a:gridCol w="1827000"/>
                <a:gridCol w="1468440"/>
                <a:gridCol w="2013120"/>
                <a:gridCol w="1944720"/>
                <a:gridCol w="12747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=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t)/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V(t)/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C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/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L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I(t)/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, L and C Comb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8280" y="6045120"/>
            <a:ext cx="208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4.5 and 4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92280" y="1216080"/>
            <a:ext cx="2546280" cy="234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200" y="3963960"/>
            <a:ext cx="45036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869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Electronics – R, C and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600" y="1154160"/>
            <a:ext cx="55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, C, and L combinat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508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6360" y="2546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if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0760" y="312912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00" y="4122720"/>
            <a:ext cx="57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, C, and L combinat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20" y="48038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if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8680" y="587844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68316"/>
          <a:stretch/>
        </p:blipFill>
        <p:spPr>
          <a:xfrm>
            <a:off x="1849320" y="1662120"/>
            <a:ext cx="1578240" cy="75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67121" r="0" b="0"/>
          <a:stretch/>
        </p:blipFill>
        <p:spPr>
          <a:xfrm>
            <a:off x="3397320" y="1596960"/>
            <a:ext cx="157788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29883" r="0" b="35361"/>
          <a:stretch/>
        </p:blipFill>
        <p:spPr>
          <a:xfrm>
            <a:off x="4919760" y="1754280"/>
            <a:ext cx="1577880" cy="82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0" t="0" r="0" b="1801"/>
          <a:stretch/>
        </p:blipFill>
        <p:spPr>
          <a:xfrm>
            <a:off x="6853320" y="4049640"/>
            <a:ext cx="1577880" cy="233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67440" y="4122720"/>
            <a:ext cx="0" cy="23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8760" y="420840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24720" y="425916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24240" y="2103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0440" y="209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Electronics – R, C and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00" y="1746360"/>
            <a:ext cx="42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lated t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760" y="4324320"/>
            <a:ext cx="7032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DC potential difference acr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ductors in parall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4320" y="2444760"/>
            <a:ext cx="35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: direct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2920" y="24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3680" y="3105000"/>
            <a:ext cx="42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: alternating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931" t="1307" r="3308" b="2830"/>
          <a:stretch/>
        </p:blipFill>
        <p:spPr>
          <a:xfrm>
            <a:off x="2438280" y="609480"/>
            <a:ext cx="4362480" cy="559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14840" y="6197760"/>
            <a:ext cx="106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rchhoff’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89640" y="1473120"/>
            <a:ext cx="9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: a point in a circuit where any two of more elements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98000" y="2184480"/>
            <a:ext cx="91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: a closed path going from one circuit node back to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passing through any intermediate nod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10520" y="3649680"/>
            <a:ext cx="893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chhoff’s first (or current) law: at a circuit node, the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into the node equals the current flow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ge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72000" y="5151600"/>
            <a:ext cx="85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chhoff’s second (or voltage) law: around a circuit loo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voltages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nergy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LC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1760" y="140004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RLC circuit used in your ‘Dynamic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’ laboratory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987560" y="2641680"/>
            <a:ext cx="5248440" cy="2293920"/>
            <a:chOff x="1987560" y="2641680"/>
            <a:chExt cx="5248440" cy="22939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987560" y="265752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36760" y="264168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973160" y="217440"/>
            <a:ext cx="5248440" cy="2293920"/>
            <a:chOff x="1973160" y="217440"/>
            <a:chExt cx="5248440" cy="22939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973160" y="23328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22360" y="21744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0880" y="3270240"/>
            <a:ext cx="44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, L and C are in s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7880" y="484200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I=dQ/d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 </cp:lastModifiedBy>
  <dcterms:modified xsi:type="dcterms:W3CDTF">2008-02-05T02:26:05Z</dcterms:modified>
  <cp:revision>192</cp:revision>
  <dc:subject/>
  <dc:title>Slide 1</dc:title>
</cp:coreProperties>
</file>