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358-8E43-43C4-AD23-36E2EB7F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209-76C7-4635-96D1-DB166664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775-3521-439D-A7FD-BD898EFC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580-FD67-48A2-94AF-762E92B2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CF8-1766-40FE-8FEF-B89D9FC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86A-5D28-4578-9D57-6BF689F9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B1E-ADEE-4F77-A7D8-E8B96846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26E-791E-4493-8D3B-80E713D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787-A48E-490E-A608-067DD700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279-0869-4725-8FC2-E0F43177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363-2F6B-4B91-9E94-0898942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6EC-6E8D-4F58-B1A4-5626E7D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BEE1-33D8-4B96-AC0C-3F7ABA0F2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3600" y="1905120"/>
            <a:ext cx="5011920" cy="380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560" y="1295280"/>
            <a:ext cx="55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robability that x is between 1 and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y Distribution Function (PD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720" y="1219320"/>
            <a:ext cx="80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abil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 (PDF) is related to the integral of the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73320" cy="6336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43520" y="2438280"/>
            <a:ext cx="6908040" cy="1038240"/>
            <a:chOff x="443520" y="2438280"/>
            <a:chExt cx="6908040" cy="103824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440" y="2743200"/>
              <a:ext cx="555912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43520" y="2438280"/>
              <a:ext cx="32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consequence of this is t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525680" y="3505320"/>
            <a:ext cx="7126560" cy="3155760"/>
            <a:chOff x="1525680" y="3505320"/>
            <a:chExt cx="7126560" cy="3155760"/>
          </a:xfrm>
        </p:grpSpPr>
        <p:grpSp>
          <p:nvGrpSpPr>
            <p:cNvPr id="51" name=""/>
            <p:cNvGrpSpPr/>
            <p:nvPr/>
          </p:nvGrpSpPr>
          <p:grpSpPr>
            <a:xfrm>
              <a:off x="2133720" y="3505320"/>
              <a:ext cx="6518520" cy="3155760"/>
              <a:chOff x="2133720" y="3505320"/>
              <a:chExt cx="6518520" cy="3155760"/>
            </a:xfrm>
          </p:grpSpPr>
          <p:pic>
            <p:nvPicPr>
              <p:cNvPr id="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3720" y="3505320"/>
                <a:ext cx="3886200" cy="31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317720" y="6019920"/>
                <a:ext cx="133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gure 7.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1525680" y="47386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74000" y="4724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 of the p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1355760"/>
            <a:ext cx="5952960" cy="1017720"/>
            <a:chOff x="1523880" y="1355760"/>
            <a:chExt cx="5952960" cy="101772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5743440" y="1355760"/>
                  <a:ext cx="173340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1523880" y="1676520"/>
              <a:ext cx="46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 the pdf is ‘normalized’ correctly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76240" y="2762280"/>
            <a:ext cx="3886200" cy="315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53040" y="2876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975280" y="2565360"/>
                <a:ext cx="17272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477040" y="3600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not 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&amp;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54360" y="2482920"/>
            <a:ext cx="5311440" cy="390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32360" y="2154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91400" y="2198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57200" y="5848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7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05000" y="346536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[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≤1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3840" y="1382760"/>
            <a:ext cx="62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Pr[x≤1] using the pdf and using the PD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950760"/>
            <a:ext cx="80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expressions for the PDF curve, knowing that of the pdf cur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880" y="1295280"/>
            <a:ext cx="4343400" cy="3294360"/>
            <a:chOff x="380880" y="1295280"/>
            <a:chExt cx="4343400" cy="32943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343400" cy="3294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00200" y="3124080"/>
                  <a:ext cx="198108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4495680" y="1295280"/>
            <a:ext cx="4343400" cy="4267440"/>
            <a:chOff x="4495680" y="1295280"/>
            <a:chExt cx="4343400" cy="42674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343400" cy="32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4571640" y="4114800"/>
              <a:ext cx="1143000" cy="144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2720" y="1889280"/>
            <a:ext cx="8105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lecules travel at speeds in this room according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well-Boltzmann speed distribution. The probability dens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describes thi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76320" y="3159000"/>
                <a:ext cx="4932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08320" y="4708440"/>
            <a:ext cx="74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speeds below which 95 % of the molecules tra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38080" y="1752480"/>
            <a:ext cx="2895840" cy="24670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886200" y="1886040"/>
            <a:ext cx="3962520" cy="2305080"/>
            <a:chOff x="3886200" y="1886040"/>
            <a:chExt cx="3962520" cy="23050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4952880" y="1886040"/>
              <a:ext cx="28958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886200" y="251496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∫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ormal pdf and P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1312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25560" y="5904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0:19:31Z</dcterms:created>
  <dc:creator>pdunn</dc:creator>
  <dc:description/>
  <dc:language>en-US</dc:language>
  <cp:lastModifiedBy>Patrick Dunn</cp:lastModifiedBy>
  <dcterms:modified xsi:type="dcterms:W3CDTF">2008-03-25T18:51:52Z</dcterms:modified>
  <cp:revision>87</cp:revision>
  <dc:subject/>
  <dc:title>Chapter 2: UNITS &amp; SIGNIFICANT FIGURES</dc:title>
</cp:coreProperties>
</file>