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98D0-E7D4-409C-8E18-CB64CB6CA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DF67-D8EC-465B-BB26-B04179EF6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DFB6-B6D6-402F-B722-629AC2DBA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320E-9EFE-485A-98B5-FF08E1EC6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6F87-EC4B-4CB5-B636-96AFE83C5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3374-E046-4988-83C6-8946CBF80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E012-9ED0-4C06-A303-22B68CB2A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D411-178D-452E-B700-AD6C2D063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0450-5B77-427B-9CD3-5402A43B8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9AC6-4EE9-45B0-9C82-CCAEA37C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90D5-9DF2-4C28-8DFE-48153F45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AC6E-5364-420E-BA62-F3A8F77A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4CFB3-CAF9-4223-9459-79FFAAEF8A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nteger" TargetMode="External"/><Relationship Id="rId2" Type="http://schemas.openxmlformats.org/officeDocument/2006/relationships/hyperlink" Target="http://en.wikipedia.org/wiki/Divisor" TargetMode="External"/><Relationship Id="rId3" Type="http://schemas.openxmlformats.org/officeDocument/2006/relationships/hyperlink" Target="http://en.wikipedia.org/wiki/Remainder" TargetMode="External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ining the Sig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6172200" cy="2628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09480" y="40384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ine the signal using a very high-speed system, for example, a 50 MHz digital oscilloscop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914400" y="1828800"/>
            <a:ext cx="6400800" cy="3720960"/>
            <a:chOff x="914400" y="1828800"/>
            <a:chExt cx="6400800" cy="3720960"/>
          </a:xfrm>
        </p:grpSpPr>
        <p:sp>
          <p:nvSpPr>
            <p:cNvPr id="45" name=""/>
            <p:cNvSpPr/>
            <p:nvPr/>
          </p:nvSpPr>
          <p:spPr>
            <a:xfrm>
              <a:off x="2362320" y="1828800"/>
              <a:ext cx="1676160" cy="1384200"/>
            </a:xfrm>
            <a:custGeom>
              <a:avLst/>
              <a:gdLst/>
              <a:ahLst/>
              <a:rect l="l" t="t" r="r" b="b"/>
              <a:pathLst>
                <a:path w="1056" h="832">
                  <a:moveTo>
                    <a:pt x="0" y="104"/>
                  </a:moveTo>
                  <a:cubicBezTo>
                    <a:pt x="64" y="448"/>
                    <a:pt x="128" y="792"/>
                    <a:pt x="192" y="776"/>
                  </a:cubicBezTo>
                  <a:cubicBezTo>
                    <a:pt x="256" y="760"/>
                    <a:pt x="312" y="0"/>
                    <a:pt x="384" y="8"/>
                  </a:cubicBezTo>
                  <a:cubicBezTo>
                    <a:pt x="456" y="16"/>
                    <a:pt x="544" y="816"/>
                    <a:pt x="624" y="824"/>
                  </a:cubicBezTo>
                  <a:cubicBezTo>
                    <a:pt x="704" y="832"/>
                    <a:pt x="792" y="56"/>
                    <a:pt x="864" y="56"/>
                  </a:cubicBezTo>
                  <a:cubicBezTo>
                    <a:pt x="936" y="56"/>
                    <a:pt x="996" y="440"/>
                    <a:pt x="1056" y="824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914400" y="5181480"/>
              <a:ext cx="640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es it exhibit periodicity 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152280" y="6019920"/>
            <a:ext cx="7467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order of the signal’s frequency range  (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f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4800600"/>
            <a:ext cx="815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the signal characterized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914400" y="2590920"/>
            <a:ext cx="7620120" cy="3340080"/>
            <a:chOff x="914400" y="2590920"/>
            <a:chExt cx="7620120" cy="3340080"/>
          </a:xfrm>
        </p:grpSpPr>
        <p:sp>
          <p:nvSpPr>
            <p:cNvPr id="50" name=""/>
            <p:cNvSpPr/>
            <p:nvPr/>
          </p:nvSpPr>
          <p:spPr>
            <a:xfrm>
              <a:off x="914400" y="5562720"/>
              <a:ext cx="762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there a gradual increase or decrease in amplitude with time 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209680" y="2590920"/>
              <a:ext cx="4648320" cy="15228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tting the Sampling Cond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4479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ost circumstances, as when using computers, sampling is DIGI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563868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any samples (data points) should be taken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533520" y="1981080"/>
            <a:ext cx="7772400" cy="2686320"/>
            <a:chOff x="533520" y="1981080"/>
            <a:chExt cx="7772400" cy="2686320"/>
          </a:xfrm>
        </p:grpSpPr>
        <p:pic>
          <p:nvPicPr>
            <p:cNvPr id="56" name="" descr=""/>
            <p:cNvPicPr/>
            <p:nvPr/>
          </p:nvPicPr>
          <p:blipFill>
            <a:blip r:embed="rId1"/>
            <a:stretch/>
          </p:blipFill>
          <p:spPr>
            <a:xfrm>
              <a:off x="533520" y="1981080"/>
              <a:ext cx="3505320" cy="262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2"/>
            <a:stretch/>
          </p:blipFill>
          <p:spPr>
            <a:xfrm>
              <a:off x="4724640" y="1981080"/>
              <a:ext cx="3581280" cy="2686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8" name=""/>
            <p:cNvGrpSpPr/>
            <p:nvPr/>
          </p:nvGrpSpPr>
          <p:grpSpPr>
            <a:xfrm>
              <a:off x="3276720" y="2228760"/>
              <a:ext cx="4138560" cy="2143080"/>
              <a:chOff x="3276720" y="2228760"/>
              <a:chExt cx="4138560" cy="2143080"/>
            </a:xfrm>
          </p:grpSpPr>
          <p:sp>
            <p:nvSpPr>
              <p:cNvPr id="59" name=""/>
              <p:cNvSpPr/>
              <p:nvPr/>
            </p:nvSpPr>
            <p:spPr>
              <a:xfrm>
                <a:off x="6572160" y="2228760"/>
                <a:ext cx="843120" cy="214308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276720" y="3022560"/>
                <a:ext cx="3213000" cy="495360"/>
              </a:xfrm>
              <a:custGeom>
                <a:avLst/>
                <a:gdLst>
                  <a:gd name="textAreaLeft" fmla="*/ 501840 w 3213000"/>
                  <a:gd name="textAreaRight" fmla="*/ 2811600 w 3213000"/>
                  <a:gd name="textAreaTop" fmla="*/ 123840 h 495360"/>
                  <a:gd name="textAreaBottom" fmla="*/ 371520 h 495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" name=""/>
          <p:cNvSpPr/>
          <p:nvPr/>
        </p:nvSpPr>
        <p:spPr>
          <a:xfrm>
            <a:off x="533520" y="518148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resolution in time and/or frequency is required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umber of S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295280"/>
            <a:ext cx="8153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umber of required samples depends upon what information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re i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ne specific formula for 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2209680"/>
            <a:ext cx="8381880" cy="4152960"/>
            <a:chOff x="457200" y="2209680"/>
            <a:chExt cx="8381880" cy="4152960"/>
          </a:xfrm>
        </p:grpSpPr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1295280" y="2895480"/>
              <a:ext cx="4140360" cy="34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457200" y="2209680"/>
              <a:ext cx="777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r example, consider two different signa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791320" y="3048120"/>
              <a:ext cx="3047760" cy="21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olid: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‘normal’ (random) population with mean =3 and standard deviation = 0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otted: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same as solid but with 0.001/s additional amplitude decre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gital Samp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609480" y="2209680"/>
            <a:ext cx="4876920" cy="3929040"/>
            <a:chOff x="609480" y="2209680"/>
            <a:chExt cx="4876920" cy="3929040"/>
          </a:xfrm>
        </p:grpSpPr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609480" y="2209680"/>
              <a:ext cx="4876920" cy="392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4113720" y="2666880"/>
              <a:ext cx="95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igure 12.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537480" y="1143000"/>
            <a:ext cx="782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alo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gnal, y(t), is sampled every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seconds, N times for a  perio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T seconds, yielding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igit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gnal y(r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), where r = 1, 2, …, 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97320" y="2362320"/>
            <a:ext cx="206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his situ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794200" y="3429000"/>
            <a:ext cx="24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is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ample perio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T = 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798880" y="4952880"/>
            <a:ext cx="30261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ampling frequenc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/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= N/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794560" y="2895480"/>
            <a:ext cx="29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is th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emporal 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94560" y="4267080"/>
            <a:ext cx="314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is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requenc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solu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= 1/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gital Sampling 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8080" y="1523880"/>
            <a:ext cx="755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is signal is digitally sampled, erroneous results occur if either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the following occu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46600" y="2971800"/>
            <a:ext cx="330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ample period is in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45520" y="2362320"/>
            <a:ext cx="315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ampling rate is too l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185080" y="236232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liasing 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185800" y="2971800"/>
            <a:ext cx="27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mplitude ambiguity 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5000" y="3657600"/>
            <a:ext cx="349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avoid aliasing, set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gt; 2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8440" y="5943600"/>
            <a:ext cx="70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ased frequencies can be determined using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olding dia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09320" y="4419720"/>
            <a:ext cx="8464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ximum frequency of interest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lso is called the Nyquist frequency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2400" y="5257800"/>
            <a:ext cx="3734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, to avoid aliasing, set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gt; 2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gital Sampling Err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19320" y="2057400"/>
            <a:ext cx="662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ast common multi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est common multi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allest common multi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two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integ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smallest positive integer that is a multiple of bo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Since it is a multiple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divi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t without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remaind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For example, the least common multiple of the numbers 4 and 6 is 12. (Ref: Wikiped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1143000"/>
            <a:ext cx="805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avoid amplitude ambiguity, set the sample period equal to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on (integer) multi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the signal’s contributory perio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2200" y="3886200"/>
            <a:ext cx="60022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 signal with onl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eriod,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et T = m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m/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all T = N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= N/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N/m)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gital Sampling Err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152388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ll of the frequencies are known (deterministic, simple or complex periodic signals), the sample period can be determined exactly and amplitude ambiguity can be elimin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289548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ome of the frequencies are not known (nondeterministic signal), amplitude ambiguity can not be eliminated but can be minimized by ‘windowing’ the sig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llustration of Correct Samp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5257800" cy="4614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554520" y="1828800"/>
            <a:ext cx="165888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(t) = 5sin(2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= 1 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8 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2440" y="6324480"/>
            <a:ext cx="95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12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057400" y="4114800"/>
            <a:ext cx="6683400" cy="1447560"/>
            <a:chOff x="2057400" y="4114800"/>
            <a:chExt cx="6683400" cy="1447560"/>
          </a:xfrm>
        </p:grpSpPr>
        <p:sp>
          <p:nvSpPr>
            <p:cNvPr id="100" name=""/>
            <p:cNvSpPr/>
            <p:nvPr/>
          </p:nvSpPr>
          <p:spPr>
            <a:xfrm>
              <a:off x="5727240" y="4114800"/>
              <a:ext cx="3013560" cy="680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rrect frequency beca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(=8) &gt; 2f =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2057400" y="4343040"/>
              <a:ext cx="3657600" cy="12193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2057400" y="4343400"/>
            <a:ext cx="6670440" cy="1442160"/>
            <a:chOff x="2057400" y="4343400"/>
            <a:chExt cx="6670440" cy="1442160"/>
          </a:xfrm>
        </p:grpSpPr>
        <p:sp>
          <p:nvSpPr>
            <p:cNvPr id="103" name=""/>
            <p:cNvSpPr/>
            <p:nvPr/>
          </p:nvSpPr>
          <p:spPr>
            <a:xfrm>
              <a:off x="5727960" y="5105520"/>
              <a:ext cx="2999880" cy="680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rrect amplitude beca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/f = 8/1 = inte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057400" y="4343400"/>
              <a:ext cx="3581280" cy="914400"/>
            </a:xfrm>
            <a:prstGeom prst="line">
              <a:avLst/>
            </a:prstGeom>
            <a:ln w="19080">
              <a:solidFill>
                <a:srgbClr val="0099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0" t="5938" r="-378" b="-504"/>
          <a:stretch/>
        </p:blipFill>
        <p:spPr>
          <a:xfrm>
            <a:off x="674640" y="1817640"/>
            <a:ext cx="5830920" cy="41194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877080" y="2247840"/>
            <a:ext cx="16588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(t) = sin(2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= 10 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2 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5800" y="1828800"/>
            <a:ext cx="7887960" cy="4079880"/>
            <a:chOff x="685800" y="1828800"/>
            <a:chExt cx="7887960" cy="4079880"/>
          </a:xfrm>
        </p:grpSpPr>
        <p:pic>
          <p:nvPicPr>
            <p:cNvPr id="108" name="" descr=""/>
            <p:cNvPicPr/>
            <p:nvPr/>
          </p:nvPicPr>
          <p:blipFill>
            <a:blip r:embed="rId2"/>
            <a:srcRect l="0" t="5633" r="0" b="0"/>
            <a:stretch/>
          </p:blipFill>
          <p:spPr>
            <a:xfrm>
              <a:off x="685800" y="1828800"/>
              <a:ext cx="5808600" cy="4079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9" name=""/>
            <p:cNvGrpSpPr/>
            <p:nvPr/>
          </p:nvGrpSpPr>
          <p:grpSpPr>
            <a:xfrm>
              <a:off x="4805280" y="4025880"/>
              <a:ext cx="3768480" cy="1267560"/>
              <a:chOff x="4805280" y="4025880"/>
              <a:chExt cx="3768480" cy="1267560"/>
            </a:xfrm>
          </p:grpSpPr>
          <p:sp>
            <p:nvSpPr>
              <p:cNvPr id="110" name=""/>
              <p:cNvSpPr/>
              <p:nvPr/>
            </p:nvSpPr>
            <p:spPr>
              <a:xfrm>
                <a:off x="6833880" y="4102200"/>
                <a:ext cx="17398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igital signal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ppears to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have frequenc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f 2 Hz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805280" y="4025880"/>
                <a:ext cx="2054160" cy="569880"/>
              </a:xfrm>
              <a:prstGeom prst="line">
                <a:avLst/>
              </a:prstGeom>
              <a:ln w="38160">
                <a:solidFill>
                  <a:srgbClr val="cc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2437920" y="533520"/>
            <a:ext cx="419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iasing of sin(20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5T16:23:58Z</dcterms:created>
  <dc:creator>pdunn</dc:creator>
  <dc:description/>
  <dc:language>en-US</dc:language>
  <cp:lastModifiedBy>Patrick Dunn</cp:lastModifiedBy>
  <dcterms:modified xsi:type="dcterms:W3CDTF">2008-03-25T16:50:56Z</dcterms:modified>
  <cp:revision>45</cp:revision>
  <dc:subject/>
  <dc:title>Signal Characteristics</dc:title>
</cp:coreProperties>
</file>