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9B9B-FCC1-4ED1-8A8A-ABFFECA4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28B-B936-490A-B4B0-DD864EDB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FA1-4164-496F-8BC2-FFDDF071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F8C-E044-4E5A-B216-66286CC4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D08-0851-4471-9296-067F048A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D9F3-C46E-49D5-B17F-D5E296FC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7BDC-7D84-432E-A2B8-EA16A388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4C5D-500D-4C3C-8BDE-B98D0140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6326-1A31-4090-B344-1DC4606F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979-823F-4205-9357-DDAA247A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170B-8511-4145-B9B4-E9581364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A74-419C-48D3-9199-1A7F53F0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FDF5-CB71-43F4-9B63-1ADCDFA94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plifiers and Fil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46022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ter Distortion of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334120" cy="4465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8400" y="609588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1984680" y="6324480"/>
            <a:ext cx="35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rcular frequency for this 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84320" y="59436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yclic frequency for this 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plif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50040" y="1725480"/>
            <a:ext cx="7317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mplif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electronic component that sc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a signal from its input value,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ts output value,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9680" y="6179760"/>
            <a:ext cx="62866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6.4: The LM124 Series Op 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2400" y="1057320"/>
            <a:ext cx="7239240" cy="4664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12840" y="379440"/>
            <a:ext cx="71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ional Amplif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ional Amplif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48000" y="2705040"/>
            <a:ext cx="4341600" cy="1419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4120" y="2617920"/>
            <a:ext cx="1276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6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920" y="1278000"/>
            <a:ext cx="719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ex circuit of the op amp can be mod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‘black box’ having two voltage inputs and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4560" y="4468680"/>
            <a:ext cx="33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jor attribut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45840" y="338040"/>
            <a:ext cx="61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ial Op Amp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7480" y="1230480"/>
            <a:ext cx="424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rchoff’s First Law can be applied to determine the a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 for this configu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31485" r="51066" b="29226"/>
          <a:stretch/>
        </p:blipFill>
        <p:spPr>
          <a:xfrm>
            <a:off x="5267160" y="1533600"/>
            <a:ext cx="3132360" cy="3436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08040" y="32306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66520" y="6199200"/>
            <a:ext cx="130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6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05080" y="276120"/>
            <a:ext cx="46260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4880" y="1219320"/>
            <a:ext cx="64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lter removes a signal’s unwanted frequency compon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50770" r="0" b="0"/>
          <a:stretch/>
        </p:blipFill>
        <p:spPr>
          <a:xfrm>
            <a:off x="4648320" y="17524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0" b="50770"/>
          <a:stretch/>
        </p:blipFill>
        <p:spPr>
          <a:xfrm>
            <a:off x="914400" y="182880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837720" y="1523880"/>
            <a:ext cx="5791680" cy="4449960"/>
            <a:chOff x="837720" y="1523880"/>
            <a:chExt cx="5791680" cy="444996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066680" y="1523880"/>
              <a:ext cx="5562720" cy="416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837720" y="569736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gure 6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590920" y="38088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ter Termi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RC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84720" y="1295280"/>
            <a:ext cx="4215960" cy="4893120"/>
            <a:chOff x="684720" y="1295280"/>
            <a:chExt cx="4215960" cy="4893120"/>
          </a:xfrm>
        </p:grpSpPr>
        <p:sp>
          <p:nvSpPr>
            <p:cNvPr id="69" name=""/>
            <p:cNvSpPr/>
            <p:nvPr/>
          </p:nvSpPr>
          <p:spPr>
            <a:xfrm>
              <a:off x="684720" y="5911920"/>
              <a:ext cx="95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gure 6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1295280" y="1295280"/>
              <a:ext cx="3605400" cy="434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6:22:41Z</dcterms:created>
  <dc:creator>pdunn</dc:creator>
  <dc:description/>
  <dc:language>en-US</dc:language>
  <cp:lastModifiedBy>Patrick Dunn</cp:lastModifiedBy>
  <dcterms:modified xsi:type="dcterms:W3CDTF">2008-02-07T17:50:31Z</dcterms:modified>
  <cp:revision>66</cp:revision>
  <dc:subject/>
  <dc:title>Measurement Systems</dc:title>
</cp:coreProperties>
</file>