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8DF-80DF-4C92-A68D-63C8A35B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F23-D277-4BAC-A726-B3770114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458-BB1B-4741-8582-B50CA872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1A0-2775-4577-8B4E-AD44DF39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4D4-E79D-4FDF-A807-7CAC94A9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4F8-F201-4CA2-AA39-66FEA1D6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ABC-B746-4CD4-BC78-4525D969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296-E382-4D98-9A32-31A0C9E9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874-B80E-4662-AD8D-C9B24C4E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54C-0BC8-490F-80C2-30B0753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CCB-83DD-4247-B935-4F60A6B4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99B-28B0-4C2F-8027-B2C42605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78D-64FC-4297-B46B-5B7FBB9FE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al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62120" y="1028880"/>
            <a:ext cx="5934240" cy="555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0040" y="614664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00" y="1328760"/>
            <a:ext cx="77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ean and variance of x(t) = 3sin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for one peri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1.5 peri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00" y="22557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eriod of 3sin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7640" y="4748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428840" y="4533840"/>
                <a:ext cx="15746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558360" y="55738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peri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2040" y="15825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1.5 peri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280" y="24969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628640" y="2286000"/>
                <a:ext cx="23367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Pr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limUpp>
                              <m:e/>
                              <m:lim/>
                            </m:limUp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469440" y="35164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peri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2040" y="45165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1.5 peri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89480" y="5978160"/>
            <a:ext cx="1625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11240" y="2890800"/>
            <a:ext cx="5624640" cy="341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46040" y="263520"/>
            <a:ext cx="617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oot-Mean-Square (r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28160" y="1155600"/>
            <a:ext cx="3143880" cy="1381320"/>
            <a:chOff x="1028160" y="1155600"/>
            <a:chExt cx="3143880" cy="1381320"/>
          </a:xfrm>
        </p:grpSpPr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052640" y="1609560"/>
                  <a:ext cx="311940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≡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1" name=""/>
            <p:cNvSpPr/>
            <p:nvPr/>
          </p:nvSpPr>
          <p:spPr>
            <a:xfrm>
              <a:off x="1028160" y="1155600"/>
              <a:ext cx="31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continuous wavefor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802040" y="1123920"/>
            <a:ext cx="2838240" cy="1424160"/>
            <a:chOff x="4802040" y="1123920"/>
            <a:chExt cx="2838240" cy="14241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5148360" y="1481040"/>
                  <a:ext cx="219240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≡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4802040" y="1123920"/>
              <a:ext cx="28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discrete wavefor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7880" y="1328760"/>
            <a:ext cx="67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rms for 3 cycles of the ramp function y(t) = At/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857240" y="1886040"/>
          <a:ext cx="5486400" cy="19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886040"/>
                    <a:ext cx="54864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55520" y="2808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41920" y="351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16280" y="2322360"/>
            <a:ext cx="115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35400" y="2111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8480" y="37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3781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83160" y="3781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33960" y="37670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7280" y="4710240"/>
            <a:ext cx="30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signal is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0160" y="5521320"/>
            <a:ext cx="61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eriods must be considered for this wave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4960" y="1274760"/>
                <a:ext cx="3676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66800" y="6075360"/>
            <a:ext cx="34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mean value of y(t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9520" y="1392120"/>
            <a:ext cx="59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rms of x(t) = 3sin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for on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3:58Z</dcterms:created>
  <dc:creator>pdunn</dc:creator>
  <dc:description/>
  <dc:language>en-US</dc:language>
  <cp:lastModifiedBy>Patrick Dunn</cp:lastModifiedBy>
  <dcterms:modified xsi:type="dcterms:W3CDTF">2008-03-18T18:13:55Z</dcterms:modified>
  <cp:revision>48</cp:revision>
  <dc:subject/>
  <dc:title>Signal Characteristics</dc:title>
</cp:coreProperties>
</file>