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C41-69E0-4A38-B6BE-0F0C9087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734-2E14-466A-97E4-DD19042F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0B9-0BCA-4A19-B7A4-4E8B8D5B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F4B-187C-4B35-BAB3-711E93A4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C05-06BD-4637-A5C7-C51F945F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0AC-B841-47BA-A5F6-37C2553D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A546-472F-4185-B5E6-3DF24A16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61F-3B59-42AA-ACD7-0A7A67EA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A1D-9D30-402A-91EA-7CA1E056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5EA-A294-4DFB-BBB0-4E9FB1C8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8C9-AC0D-4C86-BB7E-CD9A12D6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686-EFA4-4733-BB3C-DD999316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48DB-D395-4758-83B0-3B9492EC1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ement Uncertainty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8160" y="1101600"/>
            <a:ext cx="836172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go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can be either a single value or an averag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9480" y="3911760"/>
            <a:ext cx="848772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upon %C, the contrib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, and how these contributing uncertain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b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ement Uncertainty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200" y="1549440"/>
            <a:ext cx="85968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all uncertainty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related to the 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uncertainty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rough a coverage factor,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1360" y="3627360"/>
            <a:ext cx="831096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st experiments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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 10 &gt;&gt;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,9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2 (&lt;10 % erro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mplies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,9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 2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          . 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la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ale approxi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70200" y="6324120"/>
            <a:ext cx="955800" cy="2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8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292800" y="1569960"/>
            <a:ext cx="1955880" cy="1612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97920" y="220680"/>
            <a:ext cx="36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udent’s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84080" y="1494000"/>
            <a:ext cx="5189760" cy="5162400"/>
            <a:chOff x="784080" y="1494000"/>
            <a:chExt cx="5189760" cy="516240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92000" y="1494000"/>
              <a:ext cx="5181840" cy="51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84080" y="1798560"/>
              <a:ext cx="149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777960" y="90504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s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a giv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P % confidenc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120" y="3956040"/>
            <a:ext cx="30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N = 12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ture Combination of Uncertain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bined standar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certain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es from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estima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is express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560" y="3405240"/>
            <a:ext cx="86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each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other J-1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1520" y="4873680"/>
            <a:ext cx="8531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absolute sensitivity coefficient, which weight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y contribution of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resu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for a measur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1440" y="408132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denotes a result (a variable that is a function of on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measur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209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combined standard uncertainty in the dynamic pressure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p = 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measurement uncertainties ar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3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2 m/s. Assume nominal value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16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 = 1 m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overall uncertainty in the dynamic pressure assuming the results were based upon a large number of measurements and 95 % confid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3040" y="336240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rge scale approximation g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king Down Uncertain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455840"/>
            <a:ext cx="76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 for an experiment can arise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3640" y="4059360"/>
            <a:ext cx="805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focus on characterizing the first two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uncertainties. Some of the third (primarily re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urve fitting) will be considered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oral Precision 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n experiment is conducted under ‘fixed’ operating conditions, the measurand signal still may vary somewhat in time. This results from uncontrolled ‘extraneous’ variables that change in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8:46:47Z</dcterms:created>
  <dc:creator>pdunn</dc:creator>
  <dc:description/>
  <dc:language>en-US</dc:language>
  <cp:lastModifiedBy>Patrick Dunn</cp:lastModifiedBy>
  <dcterms:modified xsi:type="dcterms:W3CDTF">2008-01-16T19:54:52Z</dcterms:modified>
  <cp:revision>110</cp:revision>
  <dc:subject/>
  <dc:title>Slide 1</dc:title>
</cp:coreProperties>
</file>