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6.jpeg" ContentType="image/jpeg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C645-8876-4C29-AD7E-0A66B6059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D1E2-4DAA-473C-89BD-3F34F2ECF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9B4E-5CC3-4494-9E85-B7EBB14D4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6D24-01D9-47DE-9EE0-D92E8504A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B0B8-50B6-4372-9129-28DE438DE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64A0-7864-44EA-A4D2-130C96E2F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E023-2DFB-4C80-AFFF-2ECD0C9C9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2F92-4FB7-4F37-8B7E-A88A6F778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2806-7D0B-4000-AFC0-F29F66A89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D315-407F-4F0F-9E76-E1F9250FF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BC6A-697F-44AD-918D-7F7720867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05D9-73C1-47A5-BCA3-19271A36A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70E6A-7432-44F4-B35F-EEC6D8E64B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nd.edu/~pdunn/www.ame250/mometernr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d.edu/~pdunn/www.ame250/pstube.jpg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5.wmf"/><Relationship Id="rId4" Type="http://schemas.openxmlformats.org/officeDocument/2006/relationships/hyperlink" Target="http://www.nd.edu/~pdunn/www.ame250/hotfilm.jpg" TargetMode="External"/><Relationship Id="rId5" Type="http://schemas.openxmlformats.org/officeDocument/2006/relationships/image" Target="../media/image6.jpeg"/><Relationship Id="rId6" Type="http://schemas.openxmlformats.org/officeDocument/2006/relationships/hyperlink" Target="http://www.nd.edu/~pdunn/www.ame250/therm.jpg" TargetMode="External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easurement Syst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 rot="392400">
            <a:off x="761760" y="1980720"/>
            <a:ext cx="7772400" cy="34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asurement Hard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33520" y="1523880"/>
            <a:ext cx="3738600" cy="39625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347720" y="2362320"/>
            <a:ext cx="418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Sensor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 device that senses a phys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imulus and converts it into a sign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331160" y="3084480"/>
            <a:ext cx="412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Transducer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 device that changes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gnal into the desired for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332600" y="3846600"/>
            <a:ext cx="433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Signal Conditioner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device that puts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gnal into its final form to be proces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record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347360" y="4724280"/>
            <a:ext cx="4253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Signal Processor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 device that conve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ignal typically from analog to digi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stores the inform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imple Measurement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>
            <a:hlinkClick r:id="rId1"/>
          </p:cNvPr>
          <p:cNvPicPr/>
          <p:nvPr/>
        </p:nvPicPr>
        <p:blipFill>
          <a:blip r:embed="rId2"/>
          <a:srcRect l="0" t="0" r="18171" b="65335"/>
          <a:stretch/>
        </p:blipFill>
        <p:spPr>
          <a:xfrm>
            <a:off x="1219320" y="1371600"/>
            <a:ext cx="6476760" cy="19810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526120" y="3935520"/>
            <a:ext cx="9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so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26480" y="4621320"/>
            <a:ext cx="139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duc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28280" y="5307120"/>
            <a:ext cx="21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gnal Condition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27200" y="6018120"/>
            <a:ext cx="196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gnal Processo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67160" y="3935520"/>
            <a:ext cx="71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liqu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36240" y="4621320"/>
            <a:ext cx="61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bul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621320" y="530712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469400" y="6018120"/>
            <a:ext cx="15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scale on 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1416240" y="1731960"/>
            <a:ext cx="711000" cy="1154160"/>
            <a:chOff x="1416240" y="1731960"/>
            <a:chExt cx="711000" cy="1154160"/>
          </a:xfrm>
        </p:grpSpPr>
        <p:sp>
          <p:nvSpPr>
            <p:cNvPr id="60" name=""/>
            <p:cNvSpPr/>
            <p:nvPr/>
          </p:nvSpPr>
          <p:spPr>
            <a:xfrm>
              <a:off x="1416240" y="1731960"/>
              <a:ext cx="71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iqui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809720" y="2085840"/>
              <a:ext cx="133560" cy="800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2171880" y="1922400"/>
            <a:ext cx="968400" cy="725400"/>
            <a:chOff x="2171880" y="1922400"/>
            <a:chExt cx="968400" cy="725400"/>
          </a:xfrm>
        </p:grpSpPr>
        <p:sp>
          <p:nvSpPr>
            <p:cNvPr id="63" name=""/>
            <p:cNvSpPr/>
            <p:nvPr/>
          </p:nvSpPr>
          <p:spPr>
            <a:xfrm>
              <a:off x="2529720" y="1922400"/>
              <a:ext cx="610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ul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2171880" y="2257560"/>
              <a:ext cx="419040" cy="3902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3529080" y="1808280"/>
            <a:ext cx="676080" cy="563400"/>
            <a:chOff x="3529080" y="1808280"/>
            <a:chExt cx="676080" cy="563400"/>
          </a:xfrm>
        </p:grpSpPr>
        <p:sp>
          <p:nvSpPr>
            <p:cNvPr id="66" name=""/>
            <p:cNvSpPr/>
            <p:nvPr/>
          </p:nvSpPr>
          <p:spPr>
            <a:xfrm>
              <a:off x="3529080" y="1808280"/>
              <a:ext cx="67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e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876840" y="2152800"/>
              <a:ext cx="47520" cy="218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6558840" y="2219040"/>
            <a:ext cx="712440" cy="719280"/>
            <a:chOff x="6558840" y="2219040"/>
            <a:chExt cx="712440" cy="719280"/>
          </a:xfrm>
        </p:grpSpPr>
        <p:sp>
          <p:nvSpPr>
            <p:cNvPr id="69" name=""/>
            <p:cNvSpPr/>
            <p:nvPr/>
          </p:nvSpPr>
          <p:spPr>
            <a:xfrm>
              <a:off x="6558840" y="2570040"/>
              <a:ext cx="71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ca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 flipV="1">
              <a:off x="6714720" y="2219040"/>
              <a:ext cx="190440" cy="399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Sen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685800" y="4495680"/>
            <a:ext cx="6020640" cy="1981080"/>
            <a:chOff x="685800" y="4495680"/>
            <a:chExt cx="6020640" cy="1981080"/>
          </a:xfrm>
        </p:grpSpPr>
        <p:pic>
          <p:nvPicPr>
            <p:cNvPr id="73" name="" descr="">
              <a:hlinkClick r:id="rId1"/>
            </p:cNvPr>
            <p:cNvPicPr/>
            <p:nvPr/>
          </p:nvPicPr>
          <p:blipFill>
            <a:blip r:embed="rId2"/>
            <a:srcRect l="2060" t="0" r="21035" b="48666"/>
            <a:stretch/>
          </p:blipFill>
          <p:spPr>
            <a:xfrm>
              <a:off x="685800" y="4495680"/>
              <a:ext cx="3962520" cy="19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4862880" y="5370120"/>
              <a:ext cx="184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s this a sensor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6859080" y="54100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NO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762120" y="1371600"/>
            <a:ext cx="2158920" cy="2471400"/>
            <a:chOff x="762120" y="1371600"/>
            <a:chExt cx="2158920" cy="2471400"/>
          </a:xfrm>
        </p:grpSpPr>
        <p:pic>
          <p:nvPicPr>
            <p:cNvPr id="77" name="" descr=""/>
            <p:cNvPicPr/>
            <p:nvPr/>
          </p:nvPicPr>
          <p:blipFill>
            <a:blip r:embed="rId3"/>
            <a:stretch/>
          </p:blipFill>
          <p:spPr>
            <a:xfrm>
              <a:off x="762120" y="1371600"/>
              <a:ext cx="2158920" cy="185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>
              <a:off x="1222200" y="3200400"/>
              <a:ext cx="1308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rain ga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R=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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/A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3352680" y="1371600"/>
            <a:ext cx="1933560" cy="2935440"/>
            <a:chOff x="3352680" y="1371600"/>
            <a:chExt cx="1933560" cy="2935440"/>
          </a:xfrm>
        </p:grpSpPr>
        <p:pic>
          <p:nvPicPr>
            <p:cNvPr id="80" name="" descr="">
              <a:hlinkClick r:id="rId4"/>
            </p:cNvPr>
            <p:cNvPicPr/>
            <p:nvPr/>
          </p:nvPicPr>
          <p:blipFill>
            <a:blip r:embed="rId5"/>
            <a:srcRect l="4625" t="0" r="59554" b="46526"/>
            <a:stretch/>
          </p:blipFill>
          <p:spPr>
            <a:xfrm>
              <a:off x="3352680" y="1371600"/>
              <a:ext cx="1933560" cy="19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"/>
            <p:cNvSpPr/>
            <p:nvPr/>
          </p:nvSpPr>
          <p:spPr>
            <a:xfrm>
              <a:off x="3440520" y="3352680"/>
              <a:ext cx="183240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ot-film prob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or RTD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=R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[1+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T-T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]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5880240" y="1371600"/>
            <a:ext cx="2312640" cy="3194640"/>
            <a:chOff x="5880240" y="1371600"/>
            <a:chExt cx="2312640" cy="3194640"/>
          </a:xfrm>
        </p:grpSpPr>
        <p:grpSp>
          <p:nvGrpSpPr>
            <p:cNvPr id="83" name=""/>
            <p:cNvGrpSpPr/>
            <p:nvPr/>
          </p:nvGrpSpPr>
          <p:grpSpPr>
            <a:xfrm>
              <a:off x="5880240" y="1371600"/>
              <a:ext cx="2312640" cy="3194640"/>
              <a:chOff x="5880240" y="1371600"/>
              <a:chExt cx="2312640" cy="3194640"/>
            </a:xfrm>
          </p:grpSpPr>
          <p:pic>
            <p:nvPicPr>
              <p:cNvPr id="84" name="" descr="">
                <a:hlinkClick r:id="rId6"/>
              </p:cNvPr>
              <p:cNvPicPr/>
              <p:nvPr/>
            </p:nvPicPr>
            <p:blipFill>
              <a:blip r:embed="rId7"/>
              <a:srcRect l="0" t="3479" r="56003" b="23479"/>
              <a:stretch/>
            </p:blipFill>
            <p:spPr>
              <a:xfrm>
                <a:off x="6019920" y="1371600"/>
                <a:ext cx="1976400" cy="251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" name=""/>
              <p:cNvSpPr/>
              <p:nvPr/>
            </p:nvSpPr>
            <p:spPr>
              <a:xfrm>
                <a:off x="5880240" y="3886200"/>
                <a:ext cx="2312640" cy="68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thermisto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R=R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o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exp[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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(1/T-1/T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o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)]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"/>
            <p:cNvSpPr/>
            <p:nvPr/>
          </p:nvSpPr>
          <p:spPr>
            <a:xfrm flipH="1">
              <a:off x="6273720" y="2629080"/>
              <a:ext cx="76320" cy="6094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-Class Exa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643040" y="1351080"/>
            <a:ext cx="5803920" cy="29397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763920" y="3330720"/>
            <a:ext cx="153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4.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077840" y="4646520"/>
            <a:ext cx="681228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TD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RT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.0005 /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ºC; R = 25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t 20.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º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idge: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25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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5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mplifier: Gain = 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ultimeter: +10 V maxim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-Class Exa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1440" y="1251000"/>
            <a:ext cx="867888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[a] R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at 67 ºC; [b] 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V) at 78 ºC; [c] G to give +10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max. temperature condition of 78 ºC; [d] 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V) at 60 º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-110880" y="2484360"/>
            <a:ext cx="627660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[a] R = R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[1+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T-T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)]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&gt;&gt; R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67 ºC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= R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20 ºC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[1+0.0005(67-20)]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= (25)(1.0235) = 25.588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960" y="3862440"/>
            <a:ext cx="874296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[b] R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78 ºC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= R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20 ºC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[1+0.0005(78-20)] = (25)(1.029) = 25.725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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 =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78 ºC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– R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20 ºC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= 25.725 – 25 = 0.725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12920" y="4807080"/>
            <a:ext cx="7910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ll R’s initially the same &gt;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= E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[(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/R)/(4+2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/R)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08240" y="5421240"/>
            <a:ext cx="5522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us, E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= 0.145/4.058 = 0.0357 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-Class Exa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96480" y="1444680"/>
            <a:ext cx="79894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[c] G = amp.output / amp. inpu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= E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/E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=  10/0.0357 = 210.11 &gt;&gt; set at 2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2760" y="2919240"/>
            <a:ext cx="823536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[d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60 ºC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= R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20 ºC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[1+0.0005(60-20)] = (25)(1.02) = 25.5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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 =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60 ºC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– R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20 ºC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= 25.5 – 25 = 0.5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96840" y="3621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54480" y="4110120"/>
            <a:ext cx="720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= E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[(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/R)/(4+2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/R)] = 0.1/4.04 = 0.0248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79320" y="4869000"/>
            <a:ext cx="5512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= G E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= (200)(0.0248) = 4.95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5T16:22:41Z</dcterms:created>
  <dc:creator>pdunn</dc:creator>
  <dc:description/>
  <dc:language>en-US</dc:language>
  <cp:lastModifiedBy>Patrick Dunn</cp:lastModifiedBy>
  <dcterms:modified xsi:type="dcterms:W3CDTF">2008-02-12T13:51:51Z</dcterms:modified>
  <cp:revision>50</cp:revision>
  <dc:subject/>
  <dc:title>Measurement Systems</dc:title>
</cp:coreProperties>
</file>