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B14-E0C5-447A-BF37-F2B65D5F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5E0-EEFD-40BF-AE2B-D31E0B3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4F8-9778-45D1-8D2B-2AC3DC4F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96E-5D17-4F00-8CF3-4731F3AC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253-7416-4A98-A1BE-29B1CC2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A91-FC71-4244-8FB8-32CBE14F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989-AC4D-4908-A6B4-882B6214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2C3-7959-4BDE-BC70-FEB2E025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252-B747-4315-B7F3-1FDFBC0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ADA-8723-4CCE-95A6-679D5EE2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A73-59C3-44B3-9E3E-057538E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F73-BCE2-4B03-B201-8CAAC71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205-9AD3-413F-B072-9B5EF11D6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938" r="-378" b="-504"/>
          <a:stretch/>
        </p:blipFill>
        <p:spPr>
          <a:xfrm>
            <a:off x="674640" y="1817640"/>
            <a:ext cx="5830920" cy="411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77080" y="2247840"/>
            <a:ext cx="1658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sin(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7920" y="533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2514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12.8 and 1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5600" y="1490760"/>
            <a:ext cx="5181840" cy="105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4267440" cy="301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252440" y="1862280"/>
            <a:ext cx="0" cy="36576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85840" y="1857240"/>
            <a:ext cx="4095360" cy="3637080"/>
            <a:chOff x="1185840" y="1857240"/>
            <a:chExt cx="4095360" cy="3637080"/>
          </a:xfrm>
        </p:grpSpPr>
        <p:sp>
          <p:nvSpPr>
            <p:cNvPr id="49" name=""/>
            <p:cNvSpPr/>
            <p:nvPr/>
          </p:nvSpPr>
          <p:spPr>
            <a:xfrm>
              <a:off x="5067000" y="2568600"/>
              <a:ext cx="214200" cy="290520"/>
            </a:xfrm>
            <a:custGeom>
              <a:avLst/>
              <a:gdLst>
                <a:gd name="textAreaLeft" fmla="*/ 28440 w 214200"/>
                <a:gd name="textAreaRight" fmla="*/ 185760 w 214200"/>
                <a:gd name="textAreaTop" fmla="*/ 50760 h 290520"/>
                <a:gd name="textAreaBottom" fmla="*/ 21060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85840" y="2622240"/>
              <a:ext cx="212400" cy="270000"/>
            </a:xfrm>
            <a:custGeom>
              <a:avLst/>
              <a:gdLst>
                <a:gd name="textAreaLeft" fmla="*/ 28440 w 212400"/>
                <a:gd name="textAreaRight" fmla="*/ 183960 w 212400"/>
                <a:gd name="textAreaTop" fmla="*/ 47160 h 270000"/>
                <a:gd name="textAreaBottom" fmla="*/ 19584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237680" y="1868400"/>
              <a:ext cx="1558440" cy="27543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1040" y="1857240"/>
              <a:ext cx="1655280" cy="2141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2760" y="1857240"/>
              <a:ext cx="3193560" cy="3637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226520" y="1868400"/>
              <a:ext cx="3107880" cy="1549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377120" y="34052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1960" y="45720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ld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114800"/>
            <a:ext cx="26668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alculate the aliased frequency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5400" y="1828800"/>
            <a:ext cx="2296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ased frequency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90920" y="2514600"/>
            <a:ext cx="6172200" cy="838080"/>
            <a:chOff x="2590920" y="2514600"/>
            <a:chExt cx="6172200" cy="838080"/>
          </a:xfrm>
        </p:grpSpPr>
        <p:sp>
          <p:nvSpPr>
            <p:cNvPr id="60" name=""/>
            <p:cNvSpPr/>
            <p:nvPr/>
          </p:nvSpPr>
          <p:spPr>
            <a:xfrm>
              <a:off x="6248520" y="2514600"/>
              <a:ext cx="25146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Determine k, 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 = f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2f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590920" y="2895480"/>
              <a:ext cx="380988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90920" y="3200400"/>
            <a:ext cx="6095880" cy="2286000"/>
            <a:chOff x="2590920" y="3200400"/>
            <a:chExt cx="6095880" cy="2286000"/>
          </a:xfrm>
        </p:grpSpPr>
        <p:sp>
          <p:nvSpPr>
            <p:cNvPr id="63" name=""/>
            <p:cNvSpPr/>
            <p:nvPr/>
          </p:nvSpPr>
          <p:spPr>
            <a:xfrm>
              <a:off x="6248520" y="3200400"/>
              <a:ext cx="24382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Using the folding diagram, find the 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o which k fol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3352680"/>
              <a:ext cx="0" cy="21337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92240" y="1676520"/>
            <a:ext cx="5054400" cy="4429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05400" y="181440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240" y="63579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7400" y="1512720"/>
            <a:ext cx="77644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hat cyclic frequency will y(t) = 3sin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appear if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 H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6680" y="2533680"/>
            <a:ext cx="23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760" y="3179880"/>
            <a:ext cx="23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880" y="3811680"/>
            <a:ext cx="26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5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Sample Time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118120" cy="4498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03680" y="205740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61sin(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0.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5sin(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5560" y="3962520"/>
            <a:ext cx="23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s of 2 Hz  and 4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s = 0.5 s and 0.2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 = m(0.5)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1 or 2 or 3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240" y="63579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with Ali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92240" y="1380960"/>
            <a:ext cx="5054400" cy="442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03680" y="162576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9560" y="620568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with Amplitude Ambig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108760" cy="4476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41880" y="161928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240" y="6281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= 6 + 2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2) + 3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5) +4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5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7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960" y="3722760"/>
            <a:ext cx="702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sample period that contains all integer multiples of th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800" y="2343240"/>
            <a:ext cx="83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z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440" y="3160800"/>
            <a:ext cx="74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37880" y="4187880"/>
            <a:ext cx="68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 be set at 120, 240, 360, … to avoid amplitud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760" y="49053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sampling to avoid aliasing (Hz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0492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25T16:53:04Z</dcterms:modified>
  <cp:revision>45</cp:revision>
  <dc:subject/>
  <dc:title>Signal Characteristics</dc:title>
</cp:coreProperties>
</file>