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151-8502-48CA-8E08-18D0C0AA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E99-38C0-4D18-B844-439001C0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1CA-73FA-4FC2-AFC2-9DE140DC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F49-4B67-4A88-92FC-7229A2A6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AC9-2BE5-4F69-AB77-C0974B3D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AD0-3649-48C2-88DB-A13B2CFE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8DA-5C27-4DF0-B16C-6C85F21A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6B7-D7A5-4BE0-ACF4-D53B4A28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FCF-9637-4D73-B758-120958AF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D26-1A69-4C99-8101-9D2ADA7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C71-B9DC-4B91-B16A-49DAD1F4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BCD-E104-448E-8F90-A314EA8B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CEFB-3B9C-41A6-9386-AF7AC210B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ement Uncertaint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8160" y="1101600"/>
            <a:ext cx="83617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go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 = x ±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%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can be either a single value or an averag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9480" y="3911760"/>
            <a:ext cx="848772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upon %C, the contrib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, and how these contributing uncertain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b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ement Uncertaint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41200" y="1549440"/>
            <a:ext cx="8596800" cy="1950480"/>
            <a:chOff x="241200" y="1549440"/>
            <a:chExt cx="8596800" cy="1950480"/>
          </a:xfrm>
        </p:grpSpPr>
        <p:sp>
          <p:nvSpPr>
            <p:cNvPr id="46" name=""/>
            <p:cNvSpPr/>
            <p:nvPr/>
          </p:nvSpPr>
          <p:spPr>
            <a:xfrm>
              <a:off x="241200" y="1549440"/>
              <a:ext cx="85968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overall uncertainty,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is related to the combi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ndard uncertainty,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through a coverage factor, w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3584520" y="2892240"/>
                  <a:ext cx="161136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ff</m:t>
                              </m:r>
                            </m:sub>
                          </m:sSub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" name=""/>
          <p:cNvGrpSpPr/>
          <p:nvPr/>
        </p:nvGrpSpPr>
        <p:grpSpPr>
          <a:xfrm>
            <a:off x="351360" y="3627360"/>
            <a:ext cx="8310960" cy="1891080"/>
            <a:chOff x="351360" y="3627360"/>
            <a:chExt cx="8310960" cy="1891080"/>
          </a:xfrm>
        </p:grpSpPr>
        <p:sp>
          <p:nvSpPr>
            <p:cNvPr id="49" name=""/>
            <p:cNvSpPr/>
            <p:nvPr/>
          </p:nvSpPr>
          <p:spPr>
            <a:xfrm>
              <a:off x="351360" y="3627360"/>
              <a:ext cx="8310960" cy="18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most experiments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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 10 &gt;&gt; 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,95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≈ 2 (&lt;10 % error)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implies 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x,95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≈ 2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           . This is calle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the larg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cale approxim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3935520" y="4311720"/>
                  <a:ext cx="87624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70200" y="6324120"/>
            <a:ext cx="95580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8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92800" y="1569960"/>
            <a:ext cx="1955880" cy="1612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97920" y="220680"/>
            <a:ext cx="36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udent’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84080" y="1494000"/>
            <a:ext cx="5189760" cy="5162400"/>
            <a:chOff x="784080" y="1494000"/>
            <a:chExt cx="5189760" cy="51624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792000" y="1494000"/>
              <a:ext cx="5181840" cy="51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84080" y="1798560"/>
              <a:ext cx="149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777960" y="90504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s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a giv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P % confidenc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773520" y="1901880"/>
            <a:ext cx="4770360" cy="4527360"/>
            <a:chOff x="3773520" y="1901880"/>
            <a:chExt cx="4770360" cy="4527360"/>
          </a:xfrm>
        </p:grpSpPr>
        <p:sp>
          <p:nvSpPr>
            <p:cNvPr id="59" name=""/>
            <p:cNvSpPr/>
            <p:nvPr/>
          </p:nvSpPr>
          <p:spPr>
            <a:xfrm>
              <a:off x="5847120" y="334476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ine P = 95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73520" y="1901880"/>
              <a:ext cx="739800" cy="4527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5640120" y="3956040"/>
            <a:ext cx="30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N = 12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414680" y="3817440"/>
            <a:ext cx="4056120" cy="2368440"/>
            <a:chOff x="4414680" y="3817440"/>
            <a:chExt cx="4056120" cy="2368440"/>
          </a:xfrm>
        </p:grpSpPr>
        <p:sp>
          <p:nvSpPr>
            <p:cNvPr id="63" name=""/>
            <p:cNvSpPr/>
            <p:nvPr/>
          </p:nvSpPr>
          <p:spPr>
            <a:xfrm>
              <a:off x="5924880" y="4578480"/>
              <a:ext cx="25459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 = 1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gt;&gt;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N – 1 = 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1,95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2.2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414680" y="3817440"/>
              <a:ext cx="1828800" cy="1930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ure Combination of Uncertai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bined standar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certain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es from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estima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120760" y="2381400"/>
                <a:ext cx="47498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≃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05560" y="3405240"/>
            <a:ext cx="86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eac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other J-1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1520" y="4873680"/>
            <a:ext cx="8531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absolute sensitivity coefficient, which weight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 contribution of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resu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for a measu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1440" y="408132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denotes a result (a variable that is a function of on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measur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038480" y="1793520"/>
            <a:ext cx="857520" cy="152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40" y="1209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combined standard uncertainty in the dynamic pressure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p = 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measurement uncertainties ar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3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2 m/s. Assume nominal value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16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 = 1 m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168640" y="3193920"/>
                <a:ext cx="46288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103480" y="3959280"/>
                <a:ext cx="493236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u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92120" y="5697360"/>
            <a:ext cx="314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28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overall uncertainty in the dynamic pressure assuming the results were based upon a large number of measurements and 95 % confi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3040" y="3362400"/>
            <a:ext cx="7619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 scale approximation g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2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2)(0.028) = 0.056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king Down Uncertai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455840"/>
            <a:ext cx="76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 for an experiment can arise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49600" y="2058840"/>
            <a:ext cx="73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s (resolution, instrument uncertain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42040" y="2592360"/>
            <a:ext cx="72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conditions (temporal variations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0160" y="3135240"/>
            <a:ext cx="79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anipulation (curve fitting, finite differencing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3640" y="4059360"/>
            <a:ext cx="805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focus on characterizing the first two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uncertainties. Some of the third (primarily re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urve fitting) will be considered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oral Precision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experiment is conducted under ‘fixed’ operating conditions, the measurand signal still may vary somewhat in time. This results from uncontrolled ‘extraneous’ variables that change in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440" y="4454640"/>
            <a:ext cx="8234280" cy="17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‘temporal precision’ uncertainty can be estima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Patrick Dunn</cp:lastModifiedBy>
  <dcterms:modified xsi:type="dcterms:W3CDTF">2008-01-16T18:37:30Z</dcterms:modified>
  <cp:revision>109</cp:revision>
  <dc:subject/>
  <dc:title>Slide 1</dc:title>
</cp:coreProperties>
</file>