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33C-CD7E-45FD-A75F-9D5AD4C9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0B9-4012-4EBA-81E8-C7BE550F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DB5-D689-43C4-B6FA-1F7D1EAC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8F6-0AC7-494A-8D1D-ACEDC8B2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808-94A1-458C-A672-E0247A7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BEE-0030-4DF5-B3DF-15A1E45B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C16-4B74-4575-8A28-029596E9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B94-885A-4408-B4B2-F777B79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C1D-4A85-495B-98C6-CEAB35DA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209-2829-4499-AFEA-E7CBEA82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0FA-8E97-444B-BCCD-396CB6F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448-3606-4966-B0F3-02C9361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207-7577-4DE7-9B87-1F65551D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er-Order System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600200"/>
            <a:ext cx="838188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asurement systems involve more than one instr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nstruments in a measurement system are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near systems comprised of more than one instrument, the overall system response can be determin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c sensitivity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static sensi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ratio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magnitude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ase lag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ll phase l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.5 in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07160" cy="23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111400"/>
            <a:ext cx="7113600" cy="337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3886200"/>
            <a:ext cx="5181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43000" y="4343400"/>
            <a:ext cx="7010280" cy="380880"/>
            <a:chOff x="1143000" y="4343400"/>
            <a:chExt cx="7010280" cy="380880"/>
          </a:xfrm>
        </p:grpSpPr>
        <p:sp>
          <p:nvSpPr>
            <p:cNvPr id="48" name=""/>
            <p:cNvSpPr/>
            <p:nvPr/>
          </p:nvSpPr>
          <p:spPr>
            <a:xfrm>
              <a:off x="1143000" y="4343400"/>
              <a:ext cx="7010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43000" y="472428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200400" y="47242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6680" y="4724280"/>
            <a:ext cx="7086600" cy="381240"/>
            <a:chOff x="1066680" y="4724280"/>
            <a:chExt cx="7086600" cy="381240"/>
          </a:xfrm>
        </p:grpSpPr>
        <p:sp>
          <p:nvSpPr>
            <p:cNvPr id="52" name=""/>
            <p:cNvSpPr/>
            <p:nvPr/>
          </p:nvSpPr>
          <p:spPr>
            <a:xfrm>
              <a:off x="7772400" y="4724280"/>
              <a:ext cx="38088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5105520"/>
              <a:ext cx="472464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81720" cy="588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057400"/>
            <a:ext cx="243864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00400"/>
            <a:ext cx="243828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876920" y="2550960"/>
            <a:ext cx="2933640" cy="801360"/>
            <a:chOff x="4876920" y="2550960"/>
            <a:chExt cx="2933640" cy="801360"/>
          </a:xfrm>
        </p:grpSpPr>
        <p:sp>
          <p:nvSpPr>
            <p:cNvPr id="59" name=""/>
            <p:cNvSpPr/>
            <p:nvPr/>
          </p:nvSpPr>
          <p:spPr>
            <a:xfrm flipV="1">
              <a:off x="4876920" y="2742840"/>
              <a:ext cx="121896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2920" y="25509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e corr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19320" y="5715000"/>
            <a:ext cx="7086600" cy="838080"/>
            <a:chOff x="1219320" y="5715000"/>
            <a:chExt cx="7086600" cy="838080"/>
          </a:xfrm>
        </p:grpSpPr>
        <p:sp>
          <p:nvSpPr>
            <p:cNvPr id="62" name=""/>
            <p:cNvSpPr/>
            <p:nvPr/>
          </p:nvSpPr>
          <p:spPr>
            <a:xfrm>
              <a:off x="4495680" y="5715000"/>
              <a:ext cx="3810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6095880"/>
              <a:ext cx="7086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9320" y="65530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1:28:18Z</dcterms:created>
  <dc:creator>Patrick Dunn</dc:creator>
  <dc:description/>
  <dc:language>en-US</dc:language>
  <cp:lastModifiedBy>Patrick Dunn</cp:lastModifiedBy>
  <dcterms:modified xsi:type="dcterms:W3CDTF">2008-02-27T20:58:15Z</dcterms:modified>
  <cp:revision>8</cp:revision>
  <dc:subject/>
  <dc:title>Higher-Order System Repsonse</dc:title>
</cp:coreProperties>
</file>