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B06-F010-4C8B-88A2-0405A3AD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A856-7CCC-486A-8F2E-7B2253BA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1AF-2DC8-4D66-BBF9-656E0FF0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B80-BDE4-4AD7-A67F-9CB2D2AC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B1F9-C83F-4FCE-B389-D8E6F59E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6CA-BA56-4845-9C35-2AF50E05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96B-71FD-4B27-B0F8-30A65217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DD0-54BE-475E-888C-313F47A1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2912-C961-49F7-8A47-AA7D474D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4BA-C568-4C2B-9D52-F8A9D7F4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726-7430-4518-8EB0-8EBD3660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F76F-0054-4213-9830-45FC8764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D427-23E5-4EB4-8760-76089345F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04880" y="461880"/>
            <a:ext cx="4416480" cy="59436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676600" y="4967280"/>
            <a:ext cx="1066680" cy="228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76760" y="5576760"/>
            <a:ext cx="1066680" cy="457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730320" y="1668600"/>
            <a:ext cx="3846600" cy="3338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73320" y="10954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60800" y="370836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18840" y="47530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94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846320" y="4282920"/>
            <a:ext cx="2685960" cy="1305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2800" y="901800"/>
            <a:ext cx="148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333600" y="2403360"/>
            <a:ext cx="217800" cy="711360"/>
            <a:chOff x="3333600" y="2403360"/>
            <a:chExt cx="217800" cy="711360"/>
          </a:xfrm>
        </p:grpSpPr>
        <p:sp>
          <p:nvSpPr>
            <p:cNvPr id="51" name=""/>
            <p:cNvSpPr/>
            <p:nvPr/>
          </p:nvSpPr>
          <p:spPr>
            <a:xfrm>
              <a:off x="3397320" y="2795760"/>
              <a:ext cx="154080" cy="318960"/>
            </a:xfrm>
            <a:custGeom>
              <a:avLst/>
              <a:gdLst/>
              <a:ahLst/>
              <a:rect l="l" t="t" r="r" b="b"/>
              <a:pathLst>
                <a:path w="55" h="156">
                  <a:moveTo>
                    <a:pt x="4" y="0"/>
                  </a:moveTo>
                  <a:cubicBezTo>
                    <a:pt x="6" y="13"/>
                    <a:pt x="8" y="26"/>
                    <a:pt x="12" y="36"/>
                  </a:cubicBezTo>
                  <a:cubicBezTo>
                    <a:pt x="16" y="46"/>
                    <a:pt x="21" y="54"/>
                    <a:pt x="28" y="60"/>
                  </a:cubicBezTo>
                  <a:cubicBezTo>
                    <a:pt x="35" y="66"/>
                    <a:pt x="49" y="65"/>
                    <a:pt x="52" y="72"/>
                  </a:cubicBezTo>
                  <a:cubicBezTo>
                    <a:pt x="55" y="79"/>
                    <a:pt x="54" y="94"/>
                    <a:pt x="48" y="100"/>
                  </a:cubicBezTo>
                  <a:cubicBezTo>
                    <a:pt x="42" y="106"/>
                    <a:pt x="24" y="99"/>
                    <a:pt x="16" y="108"/>
                  </a:cubicBezTo>
                  <a:cubicBezTo>
                    <a:pt x="8" y="117"/>
                    <a:pt x="1" y="148"/>
                    <a:pt x="0" y="15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33600" y="2403360"/>
              <a:ext cx="87480" cy="85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actical Uses o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4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8544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f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15840" y="2808360"/>
            <a:ext cx="731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a sample to an assumed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5840" y="2198520"/>
            <a:ext cx="50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stablish a rejection crite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9360" y="3994200"/>
            <a:ext cx="760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5120" indent="-465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f(N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us, there are an infinite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s (like for Student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22320" y="5002200"/>
            <a:ext cx="73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5120" indent="-465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fractional difference between measu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frequencies of occurr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800" y="2998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4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9560" y="1482840"/>
            <a:ext cx="56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ndom variabl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defin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727280" y="2330280"/>
                <a:ext cx="53769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ν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359160" y="3613320"/>
                <a:ext cx="22543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ν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3" name=""/>
          <p:cNvGrpSpPr/>
          <p:nvPr/>
        </p:nvGrpSpPr>
        <p:grpSpPr>
          <a:xfrm>
            <a:off x="568800" y="5022720"/>
            <a:ext cx="5301720" cy="519120"/>
            <a:chOff x="568800" y="5022720"/>
            <a:chExt cx="5301720" cy="519120"/>
          </a:xfrm>
        </p:grpSpPr>
        <p:sp>
          <p:nvSpPr>
            <p:cNvPr id="64" name=""/>
            <p:cNvSpPr/>
            <p:nvPr/>
          </p:nvSpPr>
          <p:spPr>
            <a:xfrm>
              <a:off x="568800" y="5043600"/>
              <a:ext cx="255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us, as 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∞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3105000" y="5022720"/>
                  <a:ext cx="276552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→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⇒</m:t>
                      </m:r>
                      <m:sSup>
                        <m:e>
                          <m:r>
                            <m:t xml:space="preserve">χ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→</m:t>
                      </m:r>
                      <m:r>
                        <m:t xml:space="preserve">ν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6880" y="1506600"/>
            <a:ext cx="4286520" cy="3403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322880" y="1528920"/>
            <a:ext cx="4255920" cy="3373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047000" y="4062240"/>
            <a:ext cx="178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8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8480" y="20160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4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50760" y="1494000"/>
            <a:ext cx="21193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8.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27520" y="1123920"/>
            <a:ext cx="11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22440" y="1182600"/>
            <a:ext cx="13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6040" y="2208240"/>
            <a:ext cx="24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75640" y="3406680"/>
            <a:ext cx="24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5400" y="4995720"/>
            <a:ext cx="50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r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10] for N = 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1520" y="5554800"/>
            <a:ext cx="48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r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10] for N = 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875960" y="2876040"/>
            <a:ext cx="4440600" cy="2598480"/>
            <a:chOff x="1875960" y="2876040"/>
            <a:chExt cx="4440600" cy="2598480"/>
          </a:xfrm>
        </p:grpSpPr>
        <p:grpSp>
          <p:nvGrpSpPr>
            <p:cNvPr id="78" name=""/>
            <p:cNvGrpSpPr/>
            <p:nvPr/>
          </p:nvGrpSpPr>
          <p:grpSpPr>
            <a:xfrm>
              <a:off x="1875960" y="4066920"/>
              <a:ext cx="4440600" cy="1407600"/>
              <a:chOff x="1875960" y="4066920"/>
              <a:chExt cx="4440600" cy="1407600"/>
            </a:xfrm>
          </p:grpSpPr>
          <p:sp>
            <p:nvSpPr>
              <p:cNvPr id="79" name=""/>
              <p:cNvSpPr/>
              <p:nvPr/>
            </p:nvSpPr>
            <p:spPr>
              <a:xfrm>
                <a:off x="4860000" y="5014800"/>
                <a:ext cx="145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90520" indent="-2905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56 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2062080" y="4066920"/>
                <a:ext cx="0" cy="523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1875960" y="4324320"/>
                <a:ext cx="1904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 flipV="1">
              <a:off x="6039000" y="2876040"/>
              <a:ext cx="0" cy="1708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807080" y="2876400"/>
              <a:ext cx="1231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881360" y="1708200"/>
            <a:ext cx="4428720" cy="4322160"/>
            <a:chOff x="1881360" y="1708200"/>
            <a:chExt cx="4428720" cy="4322160"/>
          </a:xfrm>
        </p:grpSpPr>
        <p:grpSp>
          <p:nvGrpSpPr>
            <p:cNvPr id="85" name=""/>
            <p:cNvGrpSpPr/>
            <p:nvPr/>
          </p:nvGrpSpPr>
          <p:grpSpPr>
            <a:xfrm>
              <a:off x="1881360" y="4494240"/>
              <a:ext cx="4428720" cy="1536120"/>
              <a:chOff x="1881360" y="4494240"/>
              <a:chExt cx="4428720" cy="1536120"/>
            </a:xfrm>
          </p:grpSpPr>
          <p:sp>
            <p:nvSpPr>
              <p:cNvPr id="86" name=""/>
              <p:cNvSpPr/>
              <p:nvPr/>
            </p:nvSpPr>
            <p:spPr>
              <a:xfrm>
                <a:off x="4853520" y="5570640"/>
                <a:ext cx="145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90520" indent="-2905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9900"/>
                    </a:solidFill>
                    <a:latin typeface="Arial"/>
                  </a:rPr>
                  <a:t>96 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041560" y="4494240"/>
                <a:ext cx="0" cy="9036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1881360" y="4538520"/>
                <a:ext cx="155520" cy="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6045120" y="1708200"/>
              <a:ext cx="0" cy="28764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4794120" y="1714680"/>
              <a:ext cx="124488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45160" y="6093000"/>
            <a:ext cx="58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 = 50 % and N = 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09800" y="3083040"/>
            <a:ext cx="5977800" cy="3467880"/>
            <a:chOff x="1009800" y="3083040"/>
            <a:chExt cx="5977800" cy="3467880"/>
          </a:xfrm>
        </p:grpSpPr>
        <p:sp>
          <p:nvSpPr>
            <p:cNvPr id="93" name=""/>
            <p:cNvSpPr/>
            <p:nvPr/>
          </p:nvSpPr>
          <p:spPr>
            <a:xfrm>
              <a:off x="4800600" y="3083040"/>
              <a:ext cx="4032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03800" y="3083040"/>
              <a:ext cx="0" cy="150156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32920" y="6091200"/>
              <a:ext cx="135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Arial"/>
                </a:rPr>
                <a:t>3.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228680" y="3646440"/>
              <a:ext cx="0" cy="94464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1009800" y="4107960"/>
              <a:ext cx="217440" cy="180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32400" y="5800680"/>
            <a:ext cx="1054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8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9440" y="1252440"/>
            <a:ext cx="5822640" cy="4611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43080" y="239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74680"/>
            <a:ext cx="82296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4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ty Densit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06440" y="5724360"/>
            <a:ext cx="1968480" cy="839880"/>
            <a:chOff x="1306440" y="5724360"/>
            <a:chExt cx="1968480" cy="839880"/>
          </a:xfrm>
        </p:grpSpPr>
        <p:grpSp>
          <p:nvGrpSpPr>
            <p:cNvPr id="103" name=""/>
            <p:cNvGrpSpPr/>
            <p:nvPr/>
          </p:nvGrpSpPr>
          <p:grpSpPr>
            <a:xfrm>
              <a:off x="1306440" y="5906880"/>
              <a:ext cx="725400" cy="507960"/>
              <a:chOff x="1306440" y="5906880"/>
              <a:chExt cx="725400" cy="507960"/>
            </a:xfrm>
          </p:grpSpPr>
          <p:sp>
            <p:nvSpPr>
              <p:cNvPr id="104" name=""/>
              <p:cNvSpPr/>
              <p:nvPr/>
            </p:nvSpPr>
            <p:spPr>
              <a:xfrm>
                <a:off x="1306440" y="5906880"/>
                <a:ext cx="0" cy="507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1306440" y="6152760"/>
                <a:ext cx="725400" cy="14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2043000" y="5724360"/>
                  <a:ext cx="1231920" cy="83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χ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≡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Sup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" name=""/>
          <p:cNvGrpSpPr/>
          <p:nvPr/>
        </p:nvGrpSpPr>
        <p:grpSpPr>
          <a:xfrm>
            <a:off x="2466000" y="3222720"/>
            <a:ext cx="3382200" cy="2241000"/>
            <a:chOff x="2466000" y="3222720"/>
            <a:chExt cx="3382200" cy="2241000"/>
          </a:xfrm>
        </p:grpSpPr>
        <p:grpSp>
          <p:nvGrpSpPr>
            <p:cNvPr id="108" name=""/>
            <p:cNvGrpSpPr/>
            <p:nvPr/>
          </p:nvGrpSpPr>
          <p:grpSpPr>
            <a:xfrm>
              <a:off x="2466000" y="3336840"/>
              <a:ext cx="2160000" cy="2126880"/>
              <a:chOff x="2466000" y="3336840"/>
              <a:chExt cx="2160000" cy="2126880"/>
            </a:xfrm>
          </p:grpSpPr>
          <p:sp>
            <p:nvSpPr>
              <p:cNvPr id="109" name=""/>
              <p:cNvSpPr/>
              <p:nvPr/>
            </p:nvSpPr>
            <p:spPr>
              <a:xfrm>
                <a:off x="2466000" y="3336840"/>
                <a:ext cx="99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90520" indent="-2905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640320" y="4943160"/>
                <a:ext cx="98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90520" indent="-29052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4383000" y="3222720"/>
              <a:ext cx="146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29052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+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976200" y="1349280"/>
            <a:ext cx="4978800" cy="4739040"/>
            <a:chOff x="3976200" y="1349280"/>
            <a:chExt cx="4978800" cy="4739040"/>
          </a:xfrm>
        </p:grpSpPr>
        <p:sp>
          <p:nvSpPr>
            <p:cNvPr id="113" name=""/>
            <p:cNvSpPr/>
            <p:nvPr/>
          </p:nvSpPr>
          <p:spPr>
            <a:xfrm>
              <a:off x="6259680" y="1349280"/>
              <a:ext cx="2695320" cy="47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29052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vel of signific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bability that differences causing the valu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esult solely from random effe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976200" y="4295880"/>
              <a:ext cx="4092840" cy="725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529160" y="2728800"/>
            <a:ext cx="579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56040" y="6140520"/>
            <a:ext cx="12920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8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67480" y="976320"/>
            <a:ext cx="1981080" cy="1587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1133640"/>
            <a:ext cx="5491080" cy="5149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852560" y="2491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8200" y="260280"/>
            <a:ext cx="82296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16600" y="2935440"/>
            <a:ext cx="31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= 13, 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0600" y="3790800"/>
            <a:ext cx="18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46120" y="3340080"/>
            <a:ext cx="4152960" cy="158760"/>
            <a:chOff x="546120" y="3340080"/>
            <a:chExt cx="4152960" cy="158760"/>
          </a:xfrm>
        </p:grpSpPr>
        <p:sp>
          <p:nvSpPr>
            <p:cNvPr id="124" name=""/>
            <p:cNvSpPr/>
            <p:nvPr/>
          </p:nvSpPr>
          <p:spPr>
            <a:xfrm>
              <a:off x="4108320" y="3352680"/>
              <a:ext cx="590760" cy="146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546120" y="3340080"/>
              <a:ext cx="3505320" cy="158760"/>
              <a:chOff x="546120" y="3340080"/>
              <a:chExt cx="3505320" cy="158760"/>
            </a:xfrm>
          </p:grpSpPr>
          <p:sp>
            <p:nvSpPr>
              <p:cNvPr id="126" name=""/>
              <p:cNvSpPr/>
              <p:nvPr/>
            </p:nvSpPr>
            <p:spPr>
              <a:xfrm>
                <a:off x="546120" y="3340080"/>
                <a:ext cx="374760" cy="15876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14400" y="3416400"/>
                <a:ext cx="31370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4295880" y="1447920"/>
            <a:ext cx="266760" cy="1866960"/>
            <a:chOff x="4295880" y="1447920"/>
            <a:chExt cx="266760" cy="1866960"/>
          </a:xfrm>
        </p:grpSpPr>
        <p:sp>
          <p:nvSpPr>
            <p:cNvPr id="129" name=""/>
            <p:cNvSpPr/>
            <p:nvPr/>
          </p:nvSpPr>
          <p:spPr>
            <a:xfrm>
              <a:off x="4295880" y="1447920"/>
              <a:ext cx="266760" cy="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438800" y="1504800"/>
              <a:ext cx="0" cy="1810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930280" y="4521240"/>
            <a:ext cx="30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 = 5 %,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N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317680" y="4521240"/>
            <a:ext cx="6084360" cy="1370880"/>
            <a:chOff x="2317680" y="4521240"/>
            <a:chExt cx="6084360" cy="1370880"/>
          </a:xfrm>
        </p:grpSpPr>
        <p:sp>
          <p:nvSpPr>
            <p:cNvPr id="133" name=""/>
            <p:cNvSpPr/>
            <p:nvPr/>
          </p:nvSpPr>
          <p:spPr>
            <a:xfrm>
              <a:off x="6431760" y="5432400"/>
              <a:ext cx="197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</a:t>
              </a:r>
              <a:r>
                <a:rPr b="0" lang="en-US" sz="2400" spc="-1" strike="noStrike" baseline="30000">
                  <a:solidFill>
                    <a:srgbClr val="0099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 = 1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17680" y="4521240"/>
              <a:ext cx="590760" cy="133200"/>
            </a:xfrm>
            <a:prstGeom prst="rect">
              <a:avLst/>
            </a:prstGeom>
            <a:noFill/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971800" y="4584600"/>
              <a:ext cx="3772080" cy="112392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7680" y="1401840"/>
            <a:ext cx="8627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perty sales group claims that they are 95 % confident th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 in the horizontal displacement of a floor in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‘safe’ apartment during an earthquake will be less than 6 inch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that they use to support their claim consists of a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21 and a measured standard deviation of 5 inches. Does thei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ir clai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70320" y="3478320"/>
                <a:ext cx="35478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ν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62360" y="4599000"/>
            <a:ext cx="378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6600" y="5265720"/>
            <a:ext cx="839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ble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0 and interpolating giv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84 = 84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 = 1 –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16 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95160" y="1380960"/>
            <a:ext cx="5491440" cy="515016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3591000" y="1969920"/>
            <a:ext cx="4682880" cy="3187080"/>
            <a:chOff x="3591000" y="1969920"/>
            <a:chExt cx="4682880" cy="3187080"/>
          </a:xfrm>
        </p:grpSpPr>
        <p:sp>
          <p:nvSpPr>
            <p:cNvPr id="144" name=""/>
            <p:cNvSpPr/>
            <p:nvPr/>
          </p:nvSpPr>
          <p:spPr>
            <a:xfrm>
              <a:off x="3591000" y="48196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29052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838680" y="2238120"/>
              <a:ext cx="2781360" cy="2638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42200" y="1969920"/>
              <a:ext cx="183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of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371840" y="4287960"/>
            <a:ext cx="4782240" cy="898560"/>
            <a:chOff x="4371840" y="4287960"/>
            <a:chExt cx="4782240" cy="898560"/>
          </a:xfrm>
        </p:grpSpPr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6375240" y="4718160"/>
                  <a:ext cx="236556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χ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5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ν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"/>
            <p:cNvSpPr/>
            <p:nvPr/>
          </p:nvSpPr>
          <p:spPr>
            <a:xfrm>
              <a:off x="4371840" y="4943520"/>
              <a:ext cx="447840" cy="123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57840" y="5000760"/>
              <a:ext cx="1495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87520" y="4287960"/>
              <a:ext cx="31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 95 % confidenc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8:46:47Z</dcterms:created>
  <dc:creator>pdunn</dc:creator>
  <dc:description/>
  <dc:language>en-US</dc:language>
  <cp:lastModifiedBy>Patrick Dunn</cp:lastModifiedBy>
  <dcterms:modified xsi:type="dcterms:W3CDTF">2008-04-21T14:54:30Z</dcterms:modified>
  <cp:revision>50</cp:revision>
  <dc:subject/>
  <dc:title>Slide 1</dc:title>
</cp:coreProperties>
</file>