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F20-9250-4715-A9EC-70F1FDFD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EF1-BD1B-48A6-8AD5-58D1865B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424-F468-4781-82FF-5CC6888B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E9E-754C-4F3E-BF47-783D8177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B41-812E-4247-A52D-D108E252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CA5-0CC7-4D9D-B1CD-978CF45E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CEE-870C-45F3-B3A1-F5CCD306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536-BB8F-46C9-BE19-A2CBA444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6D8-0F67-4A96-974E-D66E4F7B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5B9-8591-4D9A-99C2-470440A9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026-B0B3-4CE7-8D9B-43325B89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846-A12B-4A7F-B550-8B0FEDD7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D19B-1DF2-4F50-BB52-858D10AF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5938" r="-378" b="-504"/>
          <a:stretch/>
        </p:blipFill>
        <p:spPr>
          <a:xfrm>
            <a:off x="674640" y="1817640"/>
            <a:ext cx="5830920" cy="4119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77080" y="2247840"/>
            <a:ext cx="16588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sin(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85800" y="1828800"/>
            <a:ext cx="7887960" cy="4079880"/>
            <a:chOff x="685800" y="1828800"/>
            <a:chExt cx="7887960" cy="4079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rcRect l="0" t="5633" r="0" b="0"/>
            <a:stretch/>
          </p:blipFill>
          <p:spPr>
            <a:xfrm>
              <a:off x="685800" y="1828800"/>
              <a:ext cx="5808600" cy="407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4805280" y="4025880"/>
              <a:ext cx="3768480" cy="1267560"/>
              <a:chOff x="4805280" y="4025880"/>
              <a:chExt cx="3768480" cy="1267560"/>
            </a:xfrm>
          </p:grpSpPr>
          <p:sp>
            <p:nvSpPr>
              <p:cNvPr id="46" name=""/>
              <p:cNvSpPr/>
              <p:nvPr/>
            </p:nvSpPr>
            <p:spPr>
              <a:xfrm>
                <a:off x="6833880" y="4102200"/>
                <a:ext cx="1739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gital sign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ppears to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ave frequenc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 2 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805280" y="4025880"/>
                <a:ext cx="2054160" cy="5698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"/>
          <p:cNvSpPr/>
          <p:nvPr/>
        </p:nvSpPr>
        <p:spPr>
          <a:xfrm>
            <a:off x="2437920" y="53352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iasing of sin(2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2514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12.8 and 1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55600" y="1490760"/>
            <a:ext cx="5181840" cy="105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4267440" cy="301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1252440" y="1862280"/>
            <a:ext cx="0" cy="36576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85840" y="1857240"/>
            <a:ext cx="4095360" cy="3637080"/>
            <a:chOff x="1185840" y="1857240"/>
            <a:chExt cx="4095360" cy="3637080"/>
          </a:xfrm>
        </p:grpSpPr>
        <p:sp>
          <p:nvSpPr>
            <p:cNvPr id="54" name=""/>
            <p:cNvSpPr/>
            <p:nvPr/>
          </p:nvSpPr>
          <p:spPr>
            <a:xfrm>
              <a:off x="5067000" y="2568600"/>
              <a:ext cx="214200" cy="290520"/>
            </a:xfrm>
            <a:custGeom>
              <a:avLst/>
              <a:gdLst>
                <a:gd name="textAreaLeft" fmla="*/ 28440 w 214200"/>
                <a:gd name="textAreaRight" fmla="*/ 185760 w 214200"/>
                <a:gd name="textAreaTop" fmla="*/ 50760 h 290520"/>
                <a:gd name="textAreaBottom" fmla="*/ 21060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85840" y="2622240"/>
              <a:ext cx="212400" cy="270000"/>
            </a:xfrm>
            <a:custGeom>
              <a:avLst/>
              <a:gdLst>
                <a:gd name="textAreaLeft" fmla="*/ 28440 w 212400"/>
                <a:gd name="textAreaRight" fmla="*/ 183960 w 212400"/>
                <a:gd name="textAreaTop" fmla="*/ 47160 h 270000"/>
                <a:gd name="textAreaBottom" fmla="*/ 19584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237680" y="1868400"/>
              <a:ext cx="1558440" cy="27543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51040" y="1857240"/>
              <a:ext cx="1655280" cy="2141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12760" y="1857240"/>
              <a:ext cx="3193560" cy="3637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226520" y="1868400"/>
              <a:ext cx="3107880" cy="154944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77120" y="340524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1960" y="457200"/>
            <a:ext cx="44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lding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181480"/>
            <a:ext cx="3429000" cy="405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 = 10 Hz;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4114800"/>
            <a:ext cx="26668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alculate the aliased frequency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5400" y="1828800"/>
            <a:ext cx="2296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ased frequency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90920" y="2514600"/>
            <a:ext cx="6172200" cy="838080"/>
            <a:chOff x="2590920" y="2514600"/>
            <a:chExt cx="6172200" cy="838080"/>
          </a:xfrm>
        </p:grpSpPr>
        <p:sp>
          <p:nvSpPr>
            <p:cNvPr id="66" name=""/>
            <p:cNvSpPr/>
            <p:nvPr/>
          </p:nvSpPr>
          <p:spPr>
            <a:xfrm>
              <a:off x="6248520" y="2514600"/>
              <a:ext cx="25146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Determine k, w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 = f/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2f/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590920" y="2895480"/>
              <a:ext cx="380988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590920" y="3200400"/>
            <a:ext cx="6095880" cy="2286000"/>
            <a:chOff x="2590920" y="3200400"/>
            <a:chExt cx="6095880" cy="2286000"/>
          </a:xfrm>
        </p:grpSpPr>
        <p:sp>
          <p:nvSpPr>
            <p:cNvPr id="69" name=""/>
            <p:cNvSpPr/>
            <p:nvPr/>
          </p:nvSpPr>
          <p:spPr>
            <a:xfrm>
              <a:off x="6248520" y="3200400"/>
              <a:ext cx="24382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Using the folding diagram, find the 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a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o which k fol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0920" y="3352680"/>
              <a:ext cx="0" cy="21337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410080" y="5715000"/>
            <a:ext cx="35816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 = 20/12 = 1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= 0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= (0.33)(12/2) = 2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iasing of sin(2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92240" y="1676520"/>
            <a:ext cx="5054400" cy="442908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3716280" y="4248000"/>
            <a:ext cx="4475160" cy="1368000"/>
            <a:chOff x="3716280" y="4248000"/>
            <a:chExt cx="4475160" cy="1368000"/>
          </a:xfrm>
        </p:grpSpPr>
        <p:sp>
          <p:nvSpPr>
            <p:cNvPr id="75" name=""/>
            <p:cNvSpPr/>
            <p:nvPr/>
          </p:nvSpPr>
          <p:spPr>
            <a:xfrm>
              <a:off x="6413400" y="4248000"/>
              <a:ext cx="1778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iasing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ause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w sample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716280" y="4712760"/>
              <a:ext cx="2635200" cy="9032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305400" y="1814400"/>
            <a:ext cx="1658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5sin(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3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240" y="635796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7400" y="1512720"/>
            <a:ext cx="776448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what cyclic frequency will y(t) = 3sin(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appear if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 H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31640" y="1881360"/>
            <a:ext cx="614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Hz (f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2f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4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no alia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6680" y="2533680"/>
            <a:ext cx="23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 Hz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760" y="3179880"/>
            <a:ext cx="23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Hz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7160" y="2541600"/>
            <a:ext cx="428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Hz (f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2f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4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4080" y="3189240"/>
            <a:ext cx="652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Hz (f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2f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4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liasing to 0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4880" y="3811680"/>
            <a:ext cx="261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5 Hz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50520" y="3807000"/>
            <a:ext cx="49255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5 Hz (f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2f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4/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8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iasing to 2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3 = 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3 = 0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rect Sample Time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118120" cy="4498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403680" y="2057400"/>
            <a:ext cx="19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61sin(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+0.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5sin(8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5560" y="3962520"/>
            <a:ext cx="23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s of 2 Hz  and 4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’s = 0.5 s and 0.2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 = m(0.5)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1 or 2 or 3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240" y="635796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ing with Alia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92240" y="1380960"/>
            <a:ext cx="5054400" cy="44294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770280" y="2394000"/>
            <a:ext cx="4559760" cy="3003120"/>
            <a:chOff x="3770280" y="2394000"/>
            <a:chExt cx="4559760" cy="3003120"/>
          </a:xfrm>
        </p:grpSpPr>
        <p:grpSp>
          <p:nvGrpSpPr>
            <p:cNvPr id="96" name=""/>
            <p:cNvGrpSpPr/>
            <p:nvPr/>
          </p:nvGrpSpPr>
          <p:grpSpPr>
            <a:xfrm>
              <a:off x="5878440" y="2394000"/>
              <a:ext cx="2451600" cy="3003120"/>
              <a:chOff x="5878440" y="2394000"/>
              <a:chExt cx="2451600" cy="3003120"/>
            </a:xfrm>
          </p:grpSpPr>
          <p:sp>
            <p:nvSpPr>
              <p:cNvPr id="97" name=""/>
              <p:cNvSpPr/>
              <p:nvPr/>
            </p:nvSpPr>
            <p:spPr>
              <a:xfrm>
                <a:off x="5878440" y="2394000"/>
                <a:ext cx="1398600" cy="86976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97480" y="3382920"/>
                <a:ext cx="20325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ample ende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t cycle’s e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rr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mplitu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UT alias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ccurs bec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 low sample r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770280" y="4147920"/>
              <a:ext cx="2892600" cy="10800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403680" y="1625760"/>
            <a:ext cx="1658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5sin(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3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9560" y="620568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ing with Amplitude Ambigu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108760" cy="44766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4846680" y="2171880"/>
            <a:ext cx="3656880" cy="3269880"/>
            <a:chOff x="4846680" y="2171880"/>
            <a:chExt cx="3656880" cy="3269880"/>
          </a:xfrm>
        </p:grpSpPr>
        <p:grpSp>
          <p:nvGrpSpPr>
            <p:cNvPr id="105" name=""/>
            <p:cNvGrpSpPr/>
            <p:nvPr/>
          </p:nvGrpSpPr>
          <p:grpSpPr>
            <a:xfrm>
              <a:off x="6373800" y="2171880"/>
              <a:ext cx="2129760" cy="2713320"/>
              <a:chOff x="6373800" y="2171880"/>
              <a:chExt cx="2129760" cy="2713320"/>
            </a:xfrm>
          </p:grpSpPr>
          <p:sp>
            <p:nvSpPr>
              <p:cNvPr id="106" name=""/>
              <p:cNvSpPr/>
              <p:nvPr/>
            </p:nvSpPr>
            <p:spPr>
              <a:xfrm>
                <a:off x="6373800" y="2171880"/>
                <a:ext cx="1376280" cy="113976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9000" y="3419640"/>
                <a:ext cx="15645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ample NO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ded a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ycle’s e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ls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mplitud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 flipV="1">
              <a:off x="4846680" y="4624200"/>
              <a:ext cx="2182680" cy="81756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941880" y="1619280"/>
            <a:ext cx="1658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5sin(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3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240" y="6281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(t) = 6 + 2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2) + 3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5) +4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5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7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3960" y="3722760"/>
            <a:ext cx="702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sample period that contains all integer multiples of the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22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12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4320" y="2340000"/>
            <a:ext cx="61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1/4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1/10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      1/10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1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9800" y="2343240"/>
            <a:ext cx="83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z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440" y="3160800"/>
            <a:ext cx="744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69320" y="31384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         10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37880" y="4187880"/>
            <a:ext cx="68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 be set at 120, 240, 360, … to avoid amplitude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2760" y="490536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sampling to avoid aliasing (Hz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90400" y="4875120"/>
            <a:ext cx="200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&gt; 2 f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= 0.5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304920"/>
            <a:ext cx="37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6:23:58Z</dcterms:created>
  <dc:creator>pdunn</dc:creator>
  <dc:description/>
  <dc:language>en-US</dc:language>
  <cp:lastModifiedBy>Patrick Dunn</cp:lastModifiedBy>
  <dcterms:modified xsi:type="dcterms:W3CDTF">2008-03-25T16:46:29Z</dcterms:modified>
  <cp:revision>44</cp:revision>
  <dc:subject/>
  <dc:title>Signal Characteristics</dc:title>
</cp:coreProperties>
</file>