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1FDB-B1C2-4C19-A563-89E4DE05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2810-2AB9-4D96-B5BF-8F5686C7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D630-A796-4773-95E8-D2E4AA7B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3651-1871-45C4-A6D2-B0745419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3C99-9954-447B-8075-7640974C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DD73-648A-4052-BC46-F3B59C43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2B77-C51C-4E0F-AD37-D8B82422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B35D-E8D7-4D8A-9540-9F584AC2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8F5E-E0F3-4036-B643-A112DC7D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3434-092B-4CA1-A9BA-389AC62F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1D04-7184-4595-91BB-7A23F6F7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8BAB-93FB-44BF-8992-EEB1303C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593C-7435-4356-BE82-B62380DAF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81360" y="1044720"/>
            <a:ext cx="3505320" cy="5244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6280" y="20772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ld English Text MT"/>
              </a:rPr>
              <a:t>1700’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, p, RH</a:t>
            </a:r>
            <a:r>
              <a:rPr b="0" lang="en-US" sz="3600" spc="-1" strike="noStrike">
                <a:solidFill>
                  <a:srgbClr val="000000"/>
                </a:solidFill>
                <a:latin typeface="Old English Text MT"/>
              </a:rPr>
              <a:t> Measur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172120" y="2619360"/>
            <a:ext cx="1419120" cy="34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314440" y="3514680"/>
            <a:ext cx="1590840" cy="209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314440" y="2057040"/>
            <a:ext cx="2190960" cy="237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87400" y="2373480"/>
            <a:ext cx="19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960" y="3497400"/>
            <a:ext cx="24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9880" y="1906560"/>
            <a:ext cx="189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69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usoidal-Input For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6600" y="1727280"/>
            <a:ext cx="4114800" cy="3289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586400" y="1708200"/>
            <a:ext cx="4152960" cy="3289320"/>
          </a:xfrm>
          <a:prstGeom prst="rect">
            <a:avLst/>
          </a:prstGeom>
          <a:ln w="0">
            <a:noFill/>
          </a:ln>
        </p:spPr>
      </p:pic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8693280" y="6270480"/>
            <a:ext cx="450720" cy="587520"/>
          </a:xfrm>
          <a:custGeom>
            <a:avLst/>
            <a:gdLst>
              <a:gd name="textAreaLeft" fmla="*/ 29160 w 450720"/>
              <a:gd name="textAreaRight" fmla="*/ 421560 w 450720"/>
              <a:gd name="textAreaTop" fmla="*/ 29160 h 587520"/>
              <a:gd name="textAreaBottom" fmla="*/ 558360 h 587520"/>
            </a:gdLst>
            <a:ahLst/>
            <a:rect l="textAreaLeft" t="textAreaTop" r="textAreaRight" b="textAreaBottom"/>
            <a:pathLst>
              <a:path w="21600" h="28151">
                <a:moveTo>
                  <a:pt x="0" y="0"/>
                </a:moveTo>
                <a:lnTo>
                  <a:pt x="21600" y="0"/>
                </a:lnTo>
                <a:lnTo>
                  <a:pt x="21600" y="28151"/>
                </a:lnTo>
                <a:lnTo>
                  <a:pt x="0" y="28151"/>
                </a:lnTo>
                <a:close/>
              </a:path>
              <a:path fill="lightenLess" w="21600" h="281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151">
                <a:moveTo>
                  <a:pt x="21600" y="0"/>
                </a:moveTo>
                <a:lnTo>
                  <a:pt x="21600" y="28151"/>
                </a:lnTo>
                <a:lnTo>
                  <a:pt x="20200" y="26751"/>
                </a:lnTo>
                <a:lnTo>
                  <a:pt x="20200" y="1400"/>
                </a:lnTo>
                <a:close/>
              </a:path>
              <a:path fill="darkenLess" w="21600" h="28151">
                <a:moveTo>
                  <a:pt x="21600" y="28151"/>
                </a:moveTo>
                <a:lnTo>
                  <a:pt x="0" y="28151"/>
                </a:lnTo>
                <a:lnTo>
                  <a:pt x="1400" y="26751"/>
                </a:lnTo>
                <a:lnTo>
                  <a:pt x="20200" y="26751"/>
                </a:lnTo>
                <a:close/>
              </a:path>
              <a:path fill="lighten" w="21600" h="28151">
                <a:moveTo>
                  <a:pt x="0" y="281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751"/>
                </a:lnTo>
                <a:close/>
              </a:path>
              <a:path fill="darken" w="21600" h="28151">
                <a:moveTo>
                  <a:pt x="3794" y="14075"/>
                </a:moveTo>
                <a:lnTo>
                  <a:pt x="17806" y="7069"/>
                </a:lnTo>
                <a:lnTo>
                  <a:pt x="17806" y="21082"/>
                </a:lnTo>
                <a:close/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401840" y="5172120"/>
                <a:ext cx="2306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403960" y="5203800"/>
                <a:ext cx="2790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sSup>
                      <m:e>
                        <m:r>
                          <m:t xml:space="preserve">(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e>
                    </m: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37880" y="6195960"/>
            <a:ext cx="208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s 5.3 and 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374920" y="4826160"/>
            <a:ext cx="4610160" cy="266400"/>
            <a:chOff x="2374920" y="4826160"/>
            <a:chExt cx="4610160" cy="266400"/>
          </a:xfrm>
        </p:grpSpPr>
        <p:sp>
          <p:nvSpPr>
            <p:cNvPr id="168" name=""/>
            <p:cNvSpPr/>
            <p:nvPr/>
          </p:nvSpPr>
          <p:spPr>
            <a:xfrm>
              <a:off x="2374920" y="4838760"/>
              <a:ext cx="330120" cy="2538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4960" y="4826160"/>
              <a:ext cx="330120" cy="2538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3720" y="185544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RC circuit (R =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C = 0.5 F) with sine in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ing of 3sin(2t) from 0 V to 1 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1440" y="2963880"/>
            <a:ext cx="52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its phase lag in degre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3160" y="3567240"/>
            <a:ext cx="43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its phase lag in s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1080" y="414180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its magnitude ratio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14440" y="2954160"/>
            <a:ext cx="42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(180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ta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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= -63.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84000" y="3562200"/>
            <a:ext cx="42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0.55 s [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-tan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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0360" y="4121280"/>
            <a:ext cx="41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.448 [M = 1/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√(1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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8607600" y="6327720"/>
            <a:ext cx="536400" cy="530280"/>
          </a:xfrm>
          <a:custGeom>
            <a:avLst/>
            <a:gdLst>
              <a:gd name="textAreaLeft" fmla="*/ 34200 w 536400"/>
              <a:gd name="textAreaRight" fmla="*/ 502200 w 536400"/>
              <a:gd name="textAreaTop" fmla="*/ 34200 h 530280"/>
              <a:gd name="textAreaBottom" fmla="*/ 496080 h 530280"/>
            </a:gdLst>
            <a:ahLst/>
            <a:rect l="textAreaLeft" t="textAreaTop" r="textAreaRight" b="textAreaBottom"/>
            <a:pathLst>
              <a:path w="21849" h="21600">
                <a:moveTo>
                  <a:pt x="0" y="0"/>
                </a:moveTo>
                <a:lnTo>
                  <a:pt x="21849" y="0"/>
                </a:lnTo>
                <a:lnTo>
                  <a:pt x="21849" y="21600"/>
                </a:lnTo>
                <a:lnTo>
                  <a:pt x="0" y="21600"/>
                </a:lnTo>
                <a:close/>
              </a:path>
              <a:path fill="lightenLess" w="21849" h="21600">
                <a:moveTo>
                  <a:pt x="0" y="0"/>
                </a:moveTo>
                <a:lnTo>
                  <a:pt x="21849" y="0"/>
                </a:lnTo>
                <a:lnTo>
                  <a:pt x="20449" y="1400"/>
                </a:lnTo>
                <a:lnTo>
                  <a:pt x="1400" y="1400"/>
                </a:lnTo>
                <a:close/>
              </a:path>
              <a:path fill="darken" w="21849" h="21600">
                <a:moveTo>
                  <a:pt x="21849" y="0"/>
                </a:moveTo>
                <a:lnTo>
                  <a:pt x="21849" y="21600"/>
                </a:lnTo>
                <a:lnTo>
                  <a:pt x="20449" y="20200"/>
                </a:lnTo>
                <a:lnTo>
                  <a:pt x="20449" y="1400"/>
                </a:lnTo>
                <a:close/>
              </a:path>
              <a:path fill="darkenLess" w="21849" h="21600">
                <a:moveTo>
                  <a:pt x="21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49" y="20200"/>
                </a:lnTo>
                <a:close/>
              </a:path>
              <a:path fill="lighten" w="21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49" h="21600">
                <a:moveTo>
                  <a:pt x="3918" y="3794"/>
                </a:moveTo>
                <a:lnTo>
                  <a:pt x="17931" y="10800"/>
                </a:lnTo>
                <a:lnTo>
                  <a:pt x="3918" y="17806"/>
                </a:lnTo>
                <a:close/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0520" y="5081760"/>
            <a:ext cx="782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The minus sign in the phase lag simply me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the outp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nput i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69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usoidal-Input For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36600" y="1727280"/>
            <a:ext cx="4114800" cy="328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86400" y="1708200"/>
            <a:ext cx="4152960" cy="328932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6284880" y="3876480"/>
            <a:ext cx="1584720" cy="1551600"/>
            <a:chOff x="6284880" y="3876480"/>
            <a:chExt cx="1584720" cy="1551600"/>
          </a:xfrm>
        </p:grpSpPr>
        <p:sp>
          <p:nvSpPr>
            <p:cNvPr id="184" name=""/>
            <p:cNvSpPr/>
            <p:nvPr/>
          </p:nvSpPr>
          <p:spPr>
            <a:xfrm flipV="1">
              <a:off x="7105680" y="3876480"/>
              <a:ext cx="0" cy="81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84880" y="5029200"/>
              <a:ext cx="158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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=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025360" y="3443400"/>
            <a:ext cx="1584720" cy="2021040"/>
            <a:chOff x="2025360" y="3443400"/>
            <a:chExt cx="1584720" cy="2021040"/>
          </a:xfrm>
        </p:grpSpPr>
        <p:sp>
          <p:nvSpPr>
            <p:cNvPr id="187" name=""/>
            <p:cNvSpPr/>
            <p:nvPr/>
          </p:nvSpPr>
          <p:spPr>
            <a:xfrm flipV="1">
              <a:off x="2824200" y="3443400"/>
              <a:ext cx="0" cy="1271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25360" y="5065560"/>
              <a:ext cx="158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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=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792680" y="3462480"/>
            <a:ext cx="2312640" cy="409320"/>
            <a:chOff x="4792680" y="3462480"/>
            <a:chExt cx="2312640" cy="409320"/>
          </a:xfrm>
        </p:grpSpPr>
        <p:sp>
          <p:nvSpPr>
            <p:cNvPr id="190" name=""/>
            <p:cNvSpPr/>
            <p:nvPr/>
          </p:nvSpPr>
          <p:spPr>
            <a:xfrm flipH="1">
              <a:off x="5000400" y="3871800"/>
              <a:ext cx="21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92680" y="3462480"/>
              <a:ext cx="201132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= -63.4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53240" y="3014640"/>
            <a:ext cx="2370960" cy="423720"/>
            <a:chOff x="453240" y="3014640"/>
            <a:chExt cx="2370960" cy="423720"/>
          </a:xfrm>
        </p:grpSpPr>
        <p:sp>
          <p:nvSpPr>
            <p:cNvPr id="193" name=""/>
            <p:cNvSpPr/>
            <p:nvPr/>
          </p:nvSpPr>
          <p:spPr>
            <a:xfrm flipH="1">
              <a:off x="723960" y="3438360"/>
              <a:ext cx="2100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3240" y="3014640"/>
              <a:ext cx="200556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M 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0.4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8693280" y="6270480"/>
            <a:ext cx="450720" cy="587520"/>
          </a:xfrm>
          <a:custGeom>
            <a:avLst/>
            <a:gdLst>
              <a:gd name="textAreaLeft" fmla="*/ 29160 w 450720"/>
              <a:gd name="textAreaRight" fmla="*/ 421560 w 450720"/>
              <a:gd name="textAreaTop" fmla="*/ 29160 h 587520"/>
              <a:gd name="textAreaBottom" fmla="*/ 558360 h 587520"/>
            </a:gdLst>
            <a:ahLst/>
            <a:rect l="textAreaLeft" t="textAreaTop" r="textAreaRight" b="textAreaBottom"/>
            <a:pathLst>
              <a:path w="21600" h="28151">
                <a:moveTo>
                  <a:pt x="0" y="0"/>
                </a:moveTo>
                <a:lnTo>
                  <a:pt x="21600" y="0"/>
                </a:lnTo>
                <a:lnTo>
                  <a:pt x="21600" y="28151"/>
                </a:lnTo>
                <a:lnTo>
                  <a:pt x="0" y="28151"/>
                </a:lnTo>
                <a:close/>
              </a:path>
              <a:path fill="lightenLess" w="21600" h="281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151">
                <a:moveTo>
                  <a:pt x="21600" y="0"/>
                </a:moveTo>
                <a:lnTo>
                  <a:pt x="21600" y="28151"/>
                </a:lnTo>
                <a:lnTo>
                  <a:pt x="20200" y="26751"/>
                </a:lnTo>
                <a:lnTo>
                  <a:pt x="20200" y="1400"/>
                </a:lnTo>
                <a:close/>
              </a:path>
              <a:path fill="darkenLess" w="21600" h="28151">
                <a:moveTo>
                  <a:pt x="21600" y="28151"/>
                </a:moveTo>
                <a:lnTo>
                  <a:pt x="0" y="28151"/>
                </a:lnTo>
                <a:lnTo>
                  <a:pt x="1400" y="26751"/>
                </a:lnTo>
                <a:lnTo>
                  <a:pt x="20200" y="26751"/>
                </a:lnTo>
                <a:close/>
              </a:path>
              <a:path fill="lighten" w="21600" h="28151">
                <a:moveTo>
                  <a:pt x="0" y="281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751"/>
                </a:lnTo>
                <a:close/>
              </a:path>
              <a:path fill="darken" w="21600" h="28151">
                <a:moveTo>
                  <a:pt x="3794" y="14075"/>
                </a:moveTo>
                <a:lnTo>
                  <a:pt x="17806" y="7069"/>
                </a:lnTo>
                <a:lnTo>
                  <a:pt x="17806" y="21082"/>
                </a:lnTo>
                <a:close/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985120" y="4775040"/>
            <a:ext cx="1688040" cy="1420920"/>
            <a:chOff x="2985120" y="4775040"/>
            <a:chExt cx="1688040" cy="1420920"/>
          </a:xfrm>
        </p:grpSpPr>
        <p:sp>
          <p:nvSpPr>
            <p:cNvPr id="197" name=""/>
            <p:cNvSpPr/>
            <p:nvPr/>
          </p:nvSpPr>
          <p:spPr>
            <a:xfrm>
              <a:off x="3454560" y="4902120"/>
              <a:ext cx="12600" cy="876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33920" y="4775040"/>
              <a:ext cx="12600" cy="990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02200" y="4788000"/>
              <a:ext cx="0" cy="965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85120" y="5827680"/>
              <a:ext cx="101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90040" y="5827680"/>
              <a:ext cx="101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8320" y="5827680"/>
              <a:ext cx="101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892160" y="4775040"/>
            <a:ext cx="0" cy="10162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95640" y="5929200"/>
            <a:ext cx="10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st-Order System Dynamic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1080" y="120960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eral expression for a first-order system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143160" y="1743120"/>
                <a:ext cx="24433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" name=""/>
          <p:cNvGrpSpPr/>
          <p:nvPr/>
        </p:nvGrpSpPr>
        <p:grpSpPr>
          <a:xfrm>
            <a:off x="181080" y="2324160"/>
            <a:ext cx="8686800" cy="1057320"/>
            <a:chOff x="181080" y="2324160"/>
            <a:chExt cx="8686800" cy="1057320"/>
          </a:xfrm>
        </p:grpSpPr>
        <p:sp>
          <p:nvSpPr>
            <p:cNvPr id="54" name=""/>
            <p:cNvSpPr/>
            <p:nvPr/>
          </p:nvSpPr>
          <p:spPr>
            <a:xfrm>
              <a:off x="181080" y="2324160"/>
              <a:ext cx="868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is is a linear first-order ODE, which can be rearranged 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3133800" y="2898720"/>
                  <a:ext cx="217152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y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" name=""/>
          <p:cNvSpPr/>
          <p:nvPr/>
        </p:nvSpPr>
        <p:spPr>
          <a:xfrm>
            <a:off x="181080" y="3476520"/>
            <a:ext cx="8229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me constant of the system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quals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K (=1/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a constant that converts F(t) into units of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1080" y="4467240"/>
            <a:ext cx="8229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eral expression is a physical law for the system, such as conservation of energy (Kirchhoff’s voltage law) for a simple RC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1080" y="5829480"/>
            <a:ext cx="872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RC for a RC circuit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hA for a thermocou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Response to F(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29120" y="1278000"/>
            <a:ext cx="7684200" cy="825480"/>
            <a:chOff x="429120" y="1278000"/>
            <a:chExt cx="7684200" cy="825480"/>
          </a:xfrm>
        </p:grpSpPr>
        <p:sp>
          <p:nvSpPr>
            <p:cNvPr id="61" name=""/>
            <p:cNvSpPr/>
            <p:nvPr/>
          </p:nvSpPr>
          <p:spPr>
            <a:xfrm>
              <a:off x="429120" y="1278000"/>
              <a:ext cx="7684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exact solution of                      depends upon t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pecific type of forcing function, F(t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3697200" y="1298520"/>
                  <a:ext cx="176688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y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3" name=""/>
          <p:cNvSpPr/>
          <p:nvPr/>
        </p:nvSpPr>
        <p:spPr>
          <a:xfrm>
            <a:off x="438120" y="2247840"/>
            <a:ext cx="78390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study the responses to two different forcing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8120" y="3257640"/>
            <a:ext cx="78390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: F(t) = 0 for 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 0 and F(t) = A for t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4915080"/>
            <a:ext cx="78390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usoidal: F(t) = A si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/>
          <p:nvPr/>
        </p:nvCxnSpPr>
        <p:spPr>
          <a:xfrm>
            <a:off x="2905200" y="5019840"/>
            <a:ext cx="667440" cy="10080"/>
          </a:xfrm>
          <a:prstGeom prst="bentConnector3">
            <a:avLst>
              <a:gd name="adj1" fmla="val 49973"/>
            </a:avLst>
          </a:prstGeom>
          <a:ln w="0">
            <a:noFill/>
          </a:ln>
        </p:spPr>
      </p:cxnSp>
      <p:grpSp>
        <p:nvGrpSpPr>
          <p:cNvPr id="67" name=""/>
          <p:cNvGrpSpPr/>
          <p:nvPr/>
        </p:nvGrpSpPr>
        <p:grpSpPr>
          <a:xfrm>
            <a:off x="1764000" y="5295960"/>
            <a:ext cx="3225600" cy="1412640"/>
            <a:chOff x="1764000" y="5295960"/>
            <a:chExt cx="3225600" cy="1412640"/>
          </a:xfrm>
        </p:grpSpPr>
        <p:sp>
          <p:nvSpPr>
            <p:cNvPr id="68" name=""/>
            <p:cNvSpPr/>
            <p:nvPr/>
          </p:nvSpPr>
          <p:spPr>
            <a:xfrm flipV="1">
              <a:off x="3143160" y="5315040"/>
              <a:ext cx="209520" cy="371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695760" y="5295960"/>
              <a:ext cx="447480" cy="790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64000" y="5580000"/>
              <a:ext cx="174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plitu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64120" y="6066000"/>
              <a:ext cx="262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rcular frequenc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rad/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273760" y="3668760"/>
            <a:ext cx="3734280" cy="1126440"/>
            <a:chOff x="2273760" y="3668760"/>
            <a:chExt cx="3734280" cy="1126440"/>
          </a:xfrm>
        </p:grpSpPr>
        <p:grpSp>
          <p:nvGrpSpPr>
            <p:cNvPr id="73" name=""/>
            <p:cNvGrpSpPr/>
            <p:nvPr/>
          </p:nvGrpSpPr>
          <p:grpSpPr>
            <a:xfrm>
              <a:off x="2273760" y="3668760"/>
              <a:ext cx="3734280" cy="1126440"/>
              <a:chOff x="2273760" y="3668760"/>
              <a:chExt cx="3734280" cy="112644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2273760" y="3668760"/>
                <a:ext cx="3734280" cy="954720"/>
                <a:chOff x="2273760" y="3668760"/>
                <a:chExt cx="3734280" cy="954720"/>
              </a:xfrm>
            </p:grpSpPr>
            <p:cxnSp>
              <p:nvCxnSpPr>
                <p:cNvPr id="75" name=""/>
                <p:cNvCxnSpPr/>
                <p:nvPr/>
              </p:nvCxnSpPr>
              <p:spPr>
                <a:xfrm flipV="1">
                  <a:off x="3381120" y="3828600"/>
                  <a:ext cx="1486440" cy="648360"/>
                </a:xfrm>
                <a:prstGeom prst="bentConnector3">
                  <a:avLst>
                    <a:gd name="adj1" fmla="val 50000"/>
                  </a:avLst>
                </a:prstGeom>
                <a:ln w="28440">
                  <a:solidFill>
                    <a:srgbClr val="ff0000"/>
                  </a:solidFill>
                  <a:miter/>
                </a:ln>
              </p:spPr>
            </p:cxnSp>
            <p:sp>
              <p:nvSpPr>
                <p:cNvPr id="76" name=""/>
                <p:cNvSpPr/>
                <p:nvPr/>
              </p:nvSpPr>
              <p:spPr>
                <a:xfrm>
                  <a:off x="2273760" y="4316400"/>
                  <a:ext cx="1342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90520" indent="-2905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(t) = 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645800" y="3668760"/>
                  <a:ext cx="13622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90520" indent="-29052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(t) =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570120" y="4488120"/>
                <a:ext cx="111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90520" indent="-2905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 = 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176000" y="4027320"/>
              <a:ext cx="118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→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639680" y="4924440"/>
            <a:ext cx="4383000" cy="1628640"/>
            <a:chOff x="4639680" y="4924440"/>
            <a:chExt cx="4383000" cy="1628640"/>
          </a:xfrm>
        </p:grpSpPr>
        <p:grpSp>
          <p:nvGrpSpPr>
            <p:cNvPr id="81" name=""/>
            <p:cNvGrpSpPr/>
            <p:nvPr/>
          </p:nvGrpSpPr>
          <p:grpSpPr>
            <a:xfrm>
              <a:off x="4639680" y="4924440"/>
              <a:ext cx="3748680" cy="1628640"/>
              <a:chOff x="4639680" y="4924440"/>
              <a:chExt cx="3748680" cy="1628640"/>
            </a:xfrm>
          </p:grpSpPr>
          <p:pic>
            <p:nvPicPr>
              <p:cNvPr id="8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896000" y="4924440"/>
                <a:ext cx="3492360" cy="162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4639680" y="4964040"/>
                <a:ext cx="91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90520" indent="-2905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</a:rPr>
                  <a:t>+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667760" y="6230880"/>
                <a:ext cx="888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90520" indent="-2905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</a:rPr>
                  <a:t>-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705560" y="5592600"/>
                <a:ext cx="83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90520" indent="-2905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53200" y="5705640"/>
                <a:ext cx="2695320" cy="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7840080" y="5529240"/>
              <a:ext cx="118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→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-Input For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85760" y="149544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eral solution for step-input forcing is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538520" y="32353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106800" y="2070000"/>
                <a:ext cx="25099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2" name=""/>
          <p:cNvGrpSpPr/>
          <p:nvPr/>
        </p:nvGrpSpPr>
        <p:grpSpPr>
          <a:xfrm>
            <a:off x="167040" y="2811600"/>
            <a:ext cx="8769600" cy="1031760"/>
            <a:chOff x="167040" y="2811600"/>
            <a:chExt cx="8769600" cy="1031760"/>
          </a:xfrm>
        </p:grpSpPr>
        <p:sp>
          <p:nvSpPr>
            <p:cNvPr id="93" name=""/>
            <p:cNvSpPr/>
            <p:nvPr/>
          </p:nvSpPr>
          <p:spPr>
            <a:xfrm>
              <a:off x="167040" y="2811600"/>
              <a:ext cx="876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bstitution of this equation into the governing equation g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3147840" y="3352680"/>
                  <a:ext cx="2232360" cy="4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185760" y="4010040"/>
            <a:ext cx="8686800" cy="1095480"/>
            <a:chOff x="185760" y="4010040"/>
            <a:chExt cx="8686800" cy="1095480"/>
          </a:xfrm>
        </p:grpSpPr>
        <p:sp>
          <p:nvSpPr>
            <p:cNvPr id="98" name=""/>
            <p:cNvSpPr/>
            <p:nvPr/>
          </p:nvSpPr>
          <p:spPr>
            <a:xfrm>
              <a:off x="185760" y="4010040"/>
              <a:ext cx="868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niti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ondition,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y(t = 0) = 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g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3349800" y="4581360"/>
                  <a:ext cx="180324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K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" name=""/>
          <p:cNvGrpSpPr/>
          <p:nvPr/>
        </p:nvGrpSpPr>
        <p:grpSpPr>
          <a:xfrm>
            <a:off x="195120" y="5276880"/>
            <a:ext cx="8229600" cy="1101600"/>
            <a:chOff x="195120" y="5276880"/>
            <a:chExt cx="8229600" cy="1101600"/>
          </a:xfrm>
        </p:grpSpPr>
        <p:sp>
          <p:nvSpPr>
            <p:cNvPr id="101" name=""/>
            <p:cNvSpPr/>
            <p:nvPr/>
          </p:nvSpPr>
          <p:spPr>
            <a:xfrm>
              <a:off x="195120" y="5276880"/>
              <a:ext cx="8229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us, the specific solution 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2660760" y="5813280"/>
                  <a:ext cx="3778200" cy="56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A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KA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-Input For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2080" y="226692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(t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538520" y="32353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755800" y="1441440"/>
                <a:ext cx="37782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09" name=""/>
          <p:cNvGrpSpPr/>
          <p:nvPr/>
        </p:nvGrpSpPr>
        <p:grpSpPr>
          <a:xfrm>
            <a:off x="262080" y="2924280"/>
            <a:ext cx="8229600" cy="1806480"/>
            <a:chOff x="262080" y="2924280"/>
            <a:chExt cx="8229600" cy="1806480"/>
          </a:xfrm>
        </p:grpSpPr>
        <p:sp>
          <p:nvSpPr>
            <p:cNvPr id="110" name=""/>
            <p:cNvSpPr/>
            <p:nvPr/>
          </p:nvSpPr>
          <p:spPr>
            <a:xfrm>
              <a:off x="262080" y="2924280"/>
              <a:ext cx="8229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5000"/>
            </a:bodyPr>
            <a:p>
              <a:pPr marL="257040" indent="-25704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ing the above expressions and defining th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agnitude rati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M, results 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2676600" y="3765600"/>
                  <a:ext cx="366228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∞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2" name=""/>
          <p:cNvGrpSpPr/>
          <p:nvPr/>
        </p:nvGrpSpPr>
        <p:grpSpPr>
          <a:xfrm>
            <a:off x="318960" y="4924440"/>
            <a:ext cx="8229600" cy="1158840"/>
            <a:chOff x="318960" y="4924440"/>
            <a:chExt cx="8229600" cy="1158840"/>
          </a:xfrm>
        </p:grpSpPr>
        <p:sp>
          <p:nvSpPr>
            <p:cNvPr id="113" name=""/>
            <p:cNvSpPr/>
            <p:nvPr/>
          </p:nvSpPr>
          <p:spPr>
            <a:xfrm>
              <a:off x="318960" y="4924440"/>
              <a:ext cx="8229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ynamic err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t), relates to the magnitude ratio 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3273480" y="5603760"/>
                  <a:ext cx="221760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M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90520" y="1200240"/>
            <a:ext cx="6458040" cy="4798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26600" y="6186600"/>
            <a:ext cx="145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4960" y="2509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74680"/>
            <a:ext cx="8229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-Input For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247840" y="2828880"/>
            <a:ext cx="0" cy="2695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34400" y="2637000"/>
            <a:ext cx="1532160" cy="368280"/>
            <a:chOff x="734400" y="2637000"/>
            <a:chExt cx="1532160" cy="368280"/>
          </a:xfrm>
        </p:grpSpPr>
        <p:sp>
          <p:nvSpPr>
            <p:cNvPr id="121" name=""/>
            <p:cNvSpPr/>
            <p:nvPr/>
          </p:nvSpPr>
          <p:spPr>
            <a:xfrm flipH="1">
              <a:off x="1752120" y="2838600"/>
              <a:ext cx="5144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4400" y="2637000"/>
              <a:ext cx="13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0.6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 flipV="1">
            <a:off x="4219560" y="1314360"/>
            <a:ext cx="9720" cy="4229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39000" y="1141560"/>
            <a:ext cx="3589920" cy="368280"/>
            <a:chOff x="639000" y="1141560"/>
            <a:chExt cx="3589920" cy="368280"/>
          </a:xfrm>
        </p:grpSpPr>
        <p:sp>
          <p:nvSpPr>
            <p:cNvPr id="125" name=""/>
            <p:cNvSpPr/>
            <p:nvPr/>
          </p:nvSpPr>
          <p:spPr>
            <a:xfrm flipH="1">
              <a:off x="1761840" y="1314360"/>
              <a:ext cx="24670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9000" y="1141560"/>
              <a:ext cx="120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0.9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3720" y="14936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RC circuit (R =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C = 0.5 F) with step input forcing from 0 V to 1 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8840" y="2481120"/>
            <a:ext cx="53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V of the circuit at 1 s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4960" y="3098880"/>
            <a:ext cx="53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V of the circuit at 5 s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31880" y="2529000"/>
            <a:ext cx="41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.6321 V (0.6321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 at t =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8200" y="3724200"/>
            <a:ext cx="56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% dynamic error at 1 s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38240" y="3728880"/>
            <a:ext cx="32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6.79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1 -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8607600" y="6327720"/>
            <a:ext cx="536400" cy="530280"/>
          </a:xfrm>
          <a:custGeom>
            <a:avLst/>
            <a:gdLst>
              <a:gd name="textAreaLeft" fmla="*/ 34200 w 536400"/>
              <a:gd name="textAreaRight" fmla="*/ 502200 w 536400"/>
              <a:gd name="textAreaTop" fmla="*/ 34200 h 530280"/>
              <a:gd name="textAreaBottom" fmla="*/ 496080 h 530280"/>
            </a:gdLst>
            <a:ahLst/>
            <a:rect l="textAreaLeft" t="textAreaTop" r="textAreaRight" b="textAreaBottom"/>
            <a:pathLst>
              <a:path w="21849" h="21600">
                <a:moveTo>
                  <a:pt x="0" y="0"/>
                </a:moveTo>
                <a:lnTo>
                  <a:pt x="21849" y="0"/>
                </a:lnTo>
                <a:lnTo>
                  <a:pt x="21849" y="21600"/>
                </a:lnTo>
                <a:lnTo>
                  <a:pt x="0" y="21600"/>
                </a:lnTo>
                <a:close/>
              </a:path>
              <a:path fill="lightenLess" w="21849" h="21600">
                <a:moveTo>
                  <a:pt x="0" y="0"/>
                </a:moveTo>
                <a:lnTo>
                  <a:pt x="21849" y="0"/>
                </a:lnTo>
                <a:lnTo>
                  <a:pt x="20449" y="1400"/>
                </a:lnTo>
                <a:lnTo>
                  <a:pt x="1400" y="1400"/>
                </a:lnTo>
                <a:close/>
              </a:path>
              <a:path fill="darken" w="21849" h="21600">
                <a:moveTo>
                  <a:pt x="21849" y="0"/>
                </a:moveTo>
                <a:lnTo>
                  <a:pt x="21849" y="21600"/>
                </a:lnTo>
                <a:lnTo>
                  <a:pt x="20449" y="20200"/>
                </a:lnTo>
                <a:lnTo>
                  <a:pt x="20449" y="1400"/>
                </a:lnTo>
                <a:close/>
              </a:path>
              <a:path fill="darkenLess" w="21849" h="21600">
                <a:moveTo>
                  <a:pt x="21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49" y="20200"/>
                </a:lnTo>
                <a:close/>
              </a:path>
              <a:path fill="lighten" w="21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49" h="21600">
                <a:moveTo>
                  <a:pt x="3918" y="3794"/>
                </a:moveTo>
                <a:lnTo>
                  <a:pt x="17931" y="10800"/>
                </a:lnTo>
                <a:lnTo>
                  <a:pt x="3918" y="17806"/>
                </a:lnTo>
                <a:close/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39080" y="3146400"/>
            <a:ext cx="38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~1.0 V (&gt;0.99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 at t = 5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usoidal-Input For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90440" y="1292400"/>
            <a:ext cx="84837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eral solution for sinusoidal-input forcing is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538520" y="32353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419120" y="2095560"/>
                <a:ext cx="59864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42" name=""/>
          <p:cNvGrpSpPr/>
          <p:nvPr/>
        </p:nvGrpSpPr>
        <p:grpSpPr>
          <a:xfrm>
            <a:off x="203040" y="2806560"/>
            <a:ext cx="8174160" cy="2125800"/>
            <a:chOff x="203040" y="2806560"/>
            <a:chExt cx="8174160" cy="2125800"/>
          </a:xfrm>
        </p:grpSpPr>
        <p:sp>
          <p:nvSpPr>
            <p:cNvPr id="143" name=""/>
            <p:cNvSpPr/>
            <p:nvPr/>
          </p:nvSpPr>
          <p:spPr>
            <a:xfrm>
              <a:off x="203040" y="2806560"/>
              <a:ext cx="817416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290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bstitution into the governing equation, comparing like terms (see Exmpl. 5.4), and using the initial condition y(0) = 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with input forcing F(t)=Asin(</a:t>
              </a:r>
              <a:r>
                <a:rPr b="0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ω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)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1230480" y="4002120"/>
                  <a:ext cx="643248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+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A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τ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KA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τ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r>
                        <m:t xml:space="preserve">ωt</m:t>
                      </m:r>
                      <m:r>
                        <m:t xml:space="preserve">+</m:t>
                      </m:r>
                      <m:r>
                        <m:t xml:space="preserve">φ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5" name=""/>
          <p:cNvGrpSpPr/>
          <p:nvPr/>
        </p:nvGrpSpPr>
        <p:grpSpPr>
          <a:xfrm>
            <a:off x="1983240" y="4896000"/>
            <a:ext cx="2637720" cy="871200"/>
            <a:chOff x="1983240" y="4896000"/>
            <a:chExt cx="2637720" cy="871200"/>
          </a:xfrm>
        </p:grpSpPr>
        <p:sp>
          <p:nvSpPr>
            <p:cNvPr id="146" name=""/>
            <p:cNvSpPr/>
            <p:nvPr/>
          </p:nvSpPr>
          <p:spPr>
            <a:xfrm flipV="1">
              <a:off x="3209760" y="4896000"/>
              <a:ext cx="0" cy="504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83240" y="5398920"/>
              <a:ext cx="26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ransient resp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592520" y="4896000"/>
            <a:ext cx="3006720" cy="880920"/>
            <a:chOff x="4592520" y="4896000"/>
            <a:chExt cx="3006720" cy="880920"/>
          </a:xfrm>
        </p:grpSpPr>
        <p:sp>
          <p:nvSpPr>
            <p:cNvPr id="149" name=""/>
            <p:cNvSpPr/>
            <p:nvPr/>
          </p:nvSpPr>
          <p:spPr>
            <a:xfrm flipV="1">
              <a:off x="6019920" y="4896000"/>
              <a:ext cx="0" cy="504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92520" y="5408640"/>
              <a:ext cx="300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steady-state resp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04840" y="5848200"/>
            <a:ext cx="8229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ase l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radians), shifts the output in time from the input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ta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26760" y="6043680"/>
            <a:ext cx="145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33640" y="1593720"/>
            <a:ext cx="5190840" cy="4187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usoidal-Input For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086280" y="1701720"/>
            <a:ext cx="6231600" cy="1191240"/>
            <a:chOff x="3086280" y="1701720"/>
            <a:chExt cx="6231600" cy="1191240"/>
          </a:xfrm>
        </p:grpSpPr>
        <p:sp>
          <p:nvSpPr>
            <p:cNvPr id="156" name=""/>
            <p:cNvSpPr/>
            <p:nvPr/>
          </p:nvSpPr>
          <p:spPr>
            <a:xfrm>
              <a:off x="6354000" y="1701720"/>
              <a:ext cx="2963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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s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hase lag i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nits of seco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86280" y="1895400"/>
              <a:ext cx="3552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249960" y="3087720"/>
            <a:ext cx="29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lags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40600" y="4116240"/>
            <a:ext cx="309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ampl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input ampl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8:46:47Z</dcterms:created>
  <dc:creator>pdunn</dc:creator>
  <dc:description/>
  <dc:language>en-US</dc:language>
  <cp:lastModifiedBy>Patrick Dunn</cp:lastModifiedBy>
  <dcterms:modified xsi:type="dcterms:W3CDTF">2008-02-27T13:44:19Z</dcterms:modified>
  <cp:revision>160</cp:revision>
  <dc:subject/>
  <dc:title>Slide 1</dc:title>
</cp:coreProperties>
</file>