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950-8A4A-4ABB-BEB7-1A315BA5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B58-B840-4455-974C-29E9228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ACA-496E-4A91-BFB7-56430936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B26-8CBD-4952-A14A-93B6EA96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50A-E412-45EF-858B-358D9FEC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206-3AD3-4A5C-8384-9C94882B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4F3-BF2A-43D5-A66D-39CAA43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FD8-DDB5-4695-81C3-7009614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61D-91DD-49E2-AED1-DB670215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E2D-7BA9-4BD0-928A-0091633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C1C-503F-4EF6-9860-5BC65F1C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D8E-F2EC-4C34-9706-ACA2DE3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38B-484B-480C-BEA5-21BBFEFE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54280" y="6194520"/>
            <a:ext cx="36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ign in Penacook, New Hampsh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77080" y="338040"/>
            <a:ext cx="42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889" r="4419" b="6495"/>
          <a:stretch/>
        </p:blipFill>
        <p:spPr>
          <a:xfrm>
            <a:off x="2765520" y="1106640"/>
            <a:ext cx="34686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73160" y="217440"/>
            <a:ext cx="5248440" cy="2293920"/>
            <a:chOff x="1973160" y="217440"/>
            <a:chExt cx="5248440" cy="22939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973160" y="23328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22360" y="21744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68800" y="2835360"/>
            <a:ext cx="79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examine another loop and apply Kirchoff’s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6545160" y="197316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98920" y="3421080"/>
                <a:ext cx="1781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7320" y="4245120"/>
            <a:ext cx="7895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o find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must first find 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we must inte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viou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order 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6480" y="537516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presented in Appendix H of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heatstone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5440" y="150660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4280" y="4246560"/>
            <a:ext cx="153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68240" y="1386000"/>
            <a:ext cx="46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irchhoff’s Voltage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05680" y="2038320"/>
            <a:ext cx="27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05680" y="2612880"/>
            <a:ext cx="270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10000" y="3222720"/>
            <a:ext cx="269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10000" y="3786120"/>
            <a:ext cx="286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8360" y="440388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1160" y="4956120"/>
            <a:ext cx="6347880" cy="1596960"/>
            <a:chOff x="191160" y="4956120"/>
            <a:chExt cx="6347880" cy="1596960"/>
          </a:xfrm>
        </p:grpSpPr>
        <p:sp>
          <p:nvSpPr>
            <p:cNvPr id="134" name=""/>
            <p:cNvSpPr/>
            <p:nvPr/>
          </p:nvSpPr>
          <p:spPr>
            <a:xfrm>
              <a:off x="191160" y="4956120"/>
              <a:ext cx="524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bining these equations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398680" y="5378400"/>
                  <a:ext cx="414036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623880" y="1552680"/>
            <a:ext cx="2757600" cy="1379520"/>
            <a:chOff x="623880" y="1552680"/>
            <a:chExt cx="2757600" cy="1379520"/>
          </a:xfrm>
        </p:grpSpPr>
        <p:sp>
          <p:nvSpPr>
            <p:cNvPr id="137" name=""/>
            <p:cNvSpPr/>
            <p:nvPr/>
          </p:nvSpPr>
          <p:spPr>
            <a:xfrm flipV="1">
              <a:off x="623880" y="1552680"/>
              <a:ext cx="1393920" cy="137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003400" y="1552680"/>
              <a:ext cx="1378080" cy="137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3880" y="2932200"/>
              <a:ext cx="2757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31800" y="2938320"/>
            <a:ext cx="2757600" cy="1379520"/>
            <a:chOff x="631800" y="2938320"/>
            <a:chExt cx="2757600" cy="1379520"/>
          </a:xfrm>
        </p:grpSpPr>
        <p:sp>
          <p:nvSpPr>
            <p:cNvPr id="141" name=""/>
            <p:cNvSpPr/>
            <p:nvPr/>
          </p:nvSpPr>
          <p:spPr>
            <a:xfrm flipH="1">
              <a:off x="1995480" y="2938320"/>
              <a:ext cx="1393920" cy="137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1800" y="2938320"/>
              <a:ext cx="1378080" cy="1379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1800" y="2938320"/>
              <a:ext cx="2757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62520" y="2100240"/>
            <a:ext cx="4003560" cy="284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1720" y="660240"/>
            <a:ext cx="42166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Wheat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equation i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is added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251960" y="1471680"/>
            <a:ext cx="1909080" cy="1852560"/>
            <a:chOff x="4251960" y="1471680"/>
            <a:chExt cx="1909080" cy="18525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4219200" y="199836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56080" y="270036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37160" y="167652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5360" y="147168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26760" y="3076560"/>
            <a:ext cx="362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/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6360" y="4334040"/>
            <a:ext cx="48117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olve, simply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e WB equation 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7280" y="514440"/>
            <a:ext cx="847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dvantage of using two resistors in parallel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eg of the WB is that the added resistor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remotely from the actual WB, such as in a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that resistor can serve as a sen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4003560" cy="28432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2437560" y="2487600"/>
            <a:ext cx="1909080" cy="1852560"/>
            <a:chOff x="2437560" y="2487600"/>
            <a:chExt cx="1909080" cy="185256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rcRect l="0" t="9336" r="0" b="68316"/>
            <a:stretch/>
          </p:blipFill>
          <p:spPr>
            <a:xfrm rot="19001400">
              <a:off x="2404800" y="3014280"/>
              <a:ext cx="15778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641680" y="371628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2760" y="2692440"/>
              <a:ext cx="62388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30960" y="2487600"/>
              <a:ext cx="99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8880" y="2438280"/>
            <a:ext cx="3746880" cy="2176560"/>
            <a:chOff x="578880" y="2438280"/>
            <a:chExt cx="3746880" cy="2176560"/>
          </a:xfrm>
        </p:grpSpPr>
        <p:sp>
          <p:nvSpPr>
            <p:cNvPr id="161" name=""/>
            <p:cNvSpPr/>
            <p:nvPr/>
          </p:nvSpPr>
          <p:spPr>
            <a:xfrm flipV="1">
              <a:off x="2162160" y="2438280"/>
              <a:ext cx="2163600" cy="2176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8880" y="4140360"/>
              <a:ext cx="16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889800">
              <a:off x="1536480" y="3482640"/>
              <a:ext cx="900000" cy="436680"/>
            </a:xfrm>
            <a:prstGeom prst="rightArrow">
              <a:avLst>
                <a:gd name="adj1" fmla="val 50000"/>
                <a:gd name="adj2" fmla="val 51525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, V Relations for R, L and C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able 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1701720"/>
          <a:ext cx="8528040" cy="4078440"/>
        </p:xfrm>
        <a:graphic>
          <a:graphicData uri="http://schemas.openxmlformats.org/drawingml/2006/table">
            <a:tbl>
              <a:tblPr/>
              <a:tblGrid>
                <a:gridCol w="1827000"/>
                <a:gridCol w="1468440"/>
                <a:gridCol w="2013120"/>
                <a:gridCol w="1944720"/>
                <a:gridCol w="12747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=con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t)/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(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V(t)/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C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/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/L)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I(t)/d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6" name=""/>
          <p:cNvGrpSpPr/>
          <p:nvPr/>
        </p:nvGrpSpPr>
        <p:grpSpPr>
          <a:xfrm>
            <a:off x="3730680" y="3919680"/>
            <a:ext cx="3663720" cy="1704960"/>
            <a:chOff x="3730680" y="3919680"/>
            <a:chExt cx="3663720" cy="1704960"/>
          </a:xfrm>
        </p:grpSpPr>
        <p:sp>
          <p:nvSpPr>
            <p:cNvPr id="47" name=""/>
            <p:cNvSpPr/>
            <p:nvPr/>
          </p:nvSpPr>
          <p:spPr>
            <a:xfrm>
              <a:off x="3730680" y="3919680"/>
              <a:ext cx="1697040" cy="711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97360" y="4913280"/>
              <a:ext cx="1697040" cy="711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732120" y="3954600"/>
            <a:ext cx="3765600" cy="1704960"/>
            <a:chOff x="3732120" y="3954600"/>
            <a:chExt cx="3765600" cy="1704960"/>
          </a:xfrm>
        </p:grpSpPr>
        <p:sp>
          <p:nvSpPr>
            <p:cNvPr id="50" name=""/>
            <p:cNvSpPr/>
            <p:nvPr/>
          </p:nvSpPr>
          <p:spPr>
            <a:xfrm>
              <a:off x="3732120" y="4933800"/>
              <a:ext cx="1871640" cy="7257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26080" y="3954600"/>
              <a:ext cx="1871640" cy="72540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, L and C Comb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8280" y="6045120"/>
            <a:ext cx="208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4.5 and 4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92280" y="1216080"/>
            <a:ext cx="2546280" cy="2346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34600" y="1822320"/>
            <a:ext cx="335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L and 1/C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5200" y="3963960"/>
            <a:ext cx="4503600" cy="157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34240" y="4435560"/>
            <a:ext cx="36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R, 1/L and C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1600" y="2869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Electronics – R, C and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600" y="1154160"/>
            <a:ext cx="55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, C, and L combinat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508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6360" y="2546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if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0760" y="312912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9000" y="2525760"/>
            <a:ext cx="49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t) = IR + (1/C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d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dI/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00" y="4122720"/>
            <a:ext cx="57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, C, and L combination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20" y="48038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Dif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680" y="587844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8240" y="5842080"/>
            <a:ext cx="52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(t) = V/R + CdV/dt + (1/L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d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48600" y="3092400"/>
            <a:ext cx="52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(t) = V/R = CdV/dt = (1/L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d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8840" y="5280120"/>
            <a:ext cx="49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t) = IR = (1/C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d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dI/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68316"/>
          <a:stretch/>
        </p:blipFill>
        <p:spPr>
          <a:xfrm>
            <a:off x="1849320" y="1662120"/>
            <a:ext cx="1578240" cy="754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67121" r="0" b="0"/>
          <a:stretch/>
        </p:blipFill>
        <p:spPr>
          <a:xfrm>
            <a:off x="3397320" y="1596960"/>
            <a:ext cx="1577880" cy="782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29883" r="0" b="35361"/>
          <a:stretch/>
        </p:blipFill>
        <p:spPr>
          <a:xfrm>
            <a:off x="4919760" y="1754280"/>
            <a:ext cx="1577880" cy="826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0" t="0" r="0" b="1801"/>
          <a:stretch/>
        </p:blipFill>
        <p:spPr>
          <a:xfrm>
            <a:off x="6853320" y="4049640"/>
            <a:ext cx="1577880" cy="233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67440" y="4122720"/>
            <a:ext cx="0" cy="23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08760" y="420840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24720" y="4259160"/>
            <a:ext cx="0" cy="21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24240" y="2103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0440" y="209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Electronics – R, C and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00" y="1746360"/>
            <a:ext cx="42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lated t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1760" y="4324320"/>
            <a:ext cx="7032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DC potential difference acr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ductors in parall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75000" y="5457960"/>
            <a:ext cx="575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(t) = 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/dt = [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(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]dI/d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252680" y="1733400"/>
            <a:ext cx="3614760" cy="475920"/>
            <a:chOff x="4252680" y="1733400"/>
            <a:chExt cx="3614760" cy="475920"/>
          </a:xfrm>
        </p:grpSpPr>
        <p:sp>
          <p:nvSpPr>
            <p:cNvPr id="84" name=""/>
            <p:cNvSpPr/>
            <p:nvPr/>
          </p:nvSpPr>
          <p:spPr>
            <a:xfrm>
              <a:off x="4252680" y="1749600"/>
              <a:ext cx="22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I(t) = dq/d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67600" y="173340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=C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34320" y="2444760"/>
            <a:ext cx="35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: direct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2920" y="24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3680" y="3105000"/>
            <a:ext cx="42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: alternating cur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46680" y="246852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/d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79320" y="3112920"/>
            <a:ext cx="18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/dt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931" t="1307" r="3308" b="2830"/>
          <a:stretch/>
        </p:blipFill>
        <p:spPr>
          <a:xfrm>
            <a:off x="2438280" y="609480"/>
            <a:ext cx="4362480" cy="5597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14840" y="6197760"/>
            <a:ext cx="1060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rchhoff’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89640" y="1473120"/>
            <a:ext cx="9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: a point in a circuit where any two of more elements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8000" y="2184480"/>
            <a:ext cx="91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: a closed path going from one circuit node back to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passing through any intermediate node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10520" y="3649680"/>
            <a:ext cx="893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chhoff’s first (or current) law: at a circuit node, the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into the node equals the current flow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rge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2000" y="5151600"/>
            <a:ext cx="85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chhoff’s second (or voltage) law: around a circuit loo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voltages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nergy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LC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1760" y="140004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RLC circuit used in your ‘Dynamic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’ laboratory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7240" y="5246640"/>
            <a:ext cx="780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Kirchoff’s Voltage Law, determine the gove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for this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7560" y="2641680"/>
            <a:ext cx="5248440" cy="2293920"/>
            <a:chOff x="1987560" y="2641680"/>
            <a:chExt cx="5248440" cy="22939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987560" y="265752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36760" y="264168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973160" y="217440"/>
            <a:ext cx="5248440" cy="2293920"/>
            <a:chOff x="1973160" y="217440"/>
            <a:chExt cx="5248440" cy="22939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973160" y="233280"/>
              <a:ext cx="524844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22360" y="21744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610000" y="1906560"/>
            <a:ext cx="1379520" cy="607320"/>
            <a:chOff x="2610000" y="1906560"/>
            <a:chExt cx="1379520" cy="607320"/>
          </a:xfrm>
        </p:grpSpPr>
        <p:sp>
          <p:nvSpPr>
            <p:cNvPr id="108" name=""/>
            <p:cNvSpPr/>
            <p:nvPr/>
          </p:nvSpPr>
          <p:spPr>
            <a:xfrm rot="5400000">
              <a:off x="3223440" y="1292760"/>
              <a:ext cx="152280" cy="137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9520"/>
                <a:gd name="textAreaBottom" fmla="*/ 1343880 h 137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2320" y="2054160"/>
              <a:ext cx="9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5400000">
            <a:off x="3921120" y="479160"/>
            <a:ext cx="407880" cy="4005360"/>
          </a:xfrm>
          <a:custGeom>
            <a:avLst/>
            <a:gdLst>
              <a:gd name="textAreaLeft" fmla="*/ 0 w 407880"/>
              <a:gd name="textAreaRight" fmla="*/ 286200 w 407880"/>
              <a:gd name="textAreaTop" fmla="*/ 166680 h 4005360"/>
              <a:gd name="textAreaBottom" fmla="*/ 3838680 h 400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3270240"/>
            <a:ext cx="44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, L and C are in s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4120" y="3586320"/>
                <a:ext cx="49291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77880" y="484200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I=dQ/d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51120" y="5437080"/>
                <a:ext cx="3666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816520" y="5487840"/>
            <a:ext cx="28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is a line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order 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 </cp:lastModifiedBy>
  <dcterms:modified xsi:type="dcterms:W3CDTF">2008-02-05T02:21:35Z</dcterms:modified>
  <cp:revision>191</cp:revision>
  <dc:subject/>
  <dc:title>Slide 1</dc:title>
</cp:coreProperties>
</file>