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919-61AA-4FD1-8857-43D98F68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4A3-ECD9-48A5-ABA2-6DF26210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539-8703-44AF-B923-705680E5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B92-26AA-4303-A1E7-D00EAD46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F44-0DB2-47C1-B0FE-38EABF77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541-AA7A-42E5-9A6F-0F365DBE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86B-7B13-4DAD-993A-879A92AE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714-C3D1-4C35-BCC1-043501CE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BC1-BF82-4409-8980-3D32EA0B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D2F-E18F-41EE-B499-4C0BA32A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A2D-CA62-4E29-8212-99639549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EA5-05D6-4E5C-A4C5-6D08EE7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B239-51AA-452D-835D-437593FF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4320" y="500040"/>
            <a:ext cx="671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0 Tacoma Narrows Bridge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 www.enm.bris.ac.uk/research/nonlinear/tacoma/tacoma.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75120" y="3992400"/>
            <a:ext cx="2979720" cy="1990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6080" y="4000680"/>
            <a:ext cx="2689200" cy="200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105520" y="1765440"/>
            <a:ext cx="2536560" cy="181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200240" y="1724040"/>
            <a:ext cx="27223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2440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l off (dB/deca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9600" y="1335240"/>
            <a:ext cx="6433920" cy="5175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46480" y="3127320"/>
            <a:ext cx="30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40-(-3)]/dec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37 dB/dec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r System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9000" y="936720"/>
            <a:ext cx="36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[F(t)=KA]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54200" y="1528920"/>
                <a:ext cx="2617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1"/>
          <a:srcRect l="0" t="0" r="48938" b="0"/>
          <a:stretch/>
        </p:blipFill>
        <p:spPr>
          <a:xfrm>
            <a:off x="333360" y="2160720"/>
            <a:ext cx="2962440" cy="4309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67080" y="1117440"/>
            <a:ext cx="0" cy="5342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55680" y="3722760"/>
                <a:ext cx="28497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159000" y="602784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/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192920" y="936720"/>
            <a:ext cx="4730400" cy="5743440"/>
            <a:chOff x="4192920" y="936720"/>
            <a:chExt cx="4730400" cy="5743440"/>
          </a:xfrm>
        </p:grpSpPr>
        <p:sp>
          <p:nvSpPr>
            <p:cNvPr id="118" name=""/>
            <p:cNvSpPr/>
            <p:nvPr/>
          </p:nvSpPr>
          <p:spPr>
            <a:xfrm>
              <a:off x="4192920" y="936720"/>
              <a:ext cx="45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"/>
                </a:rPr>
                <a:t>Sin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put [F(t)=KAsi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)]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91080" y="2220840"/>
              <a:ext cx="2736720" cy="21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4556160" y="4494240"/>
              <a:ext cx="2759040" cy="2185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381720" y="2805120"/>
                  <a:ext cx="230652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6132600" y="4957920"/>
                  <a:ext cx="279072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</m:e>
                      </m:d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4484520" y="1450800"/>
                  <a:ext cx="42814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A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7550280" y="5991120"/>
              <a:ext cx="8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23148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r System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9000" y="936720"/>
            <a:ext cx="36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[F(t)=KA]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117440"/>
            <a:ext cx="0" cy="5342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14640" y="5533920"/>
            <a:ext cx="893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4600" y="2365200"/>
            <a:ext cx="3855960" cy="3130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5840" y="1525680"/>
            <a:ext cx="313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(t) = f(K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92920" y="936720"/>
            <a:ext cx="4827240" cy="5787000"/>
            <a:chOff x="4192920" y="936720"/>
            <a:chExt cx="4827240" cy="5787000"/>
          </a:xfrm>
        </p:grpSpPr>
        <p:sp>
          <p:nvSpPr>
            <p:cNvPr id="132" name=""/>
            <p:cNvSpPr/>
            <p:nvPr/>
          </p:nvSpPr>
          <p:spPr>
            <a:xfrm>
              <a:off x="4192920" y="936720"/>
              <a:ext cx="45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"/>
                </a:rPr>
                <a:t>Sin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put [F(t)=KAsi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)]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4546440" y="2203560"/>
              <a:ext cx="279720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4465800" y="4411800"/>
              <a:ext cx="289368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34120" y="1531800"/>
              <a:ext cx="3341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(t) = f(KA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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51800" y="6005520"/>
              <a:ext cx="1285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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486480" y="2695680"/>
              <a:ext cx="2440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6192720" y="4527720"/>
              <a:ext cx="26244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6192720" y="4903920"/>
              <a:ext cx="2827440" cy="45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000" y="174600"/>
            <a:ext cx="87804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-Order Syste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93680" y="146988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expression for a 2nd-order syst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9520" y="2482920"/>
            <a:ext cx="8686800" cy="1504800"/>
            <a:chOff x="209520" y="2482920"/>
            <a:chExt cx="8686800" cy="1504800"/>
          </a:xfrm>
        </p:grpSpPr>
        <p:sp>
          <p:nvSpPr>
            <p:cNvPr id="50" name=""/>
            <p:cNvSpPr/>
            <p:nvPr/>
          </p:nvSpPr>
          <p:spPr>
            <a:xfrm>
              <a:off x="209520" y="2482920"/>
              <a:ext cx="868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a linear 2nd-order ODE, which can be rearranged 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2746440" y="2932200"/>
                  <a:ext cx="35892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  <m:acc>
                        <m:accPr>
                          <m:chr m:val="¨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ξ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acc>
                        <m:accPr>
                          <m:chr m:val="˙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" name=""/>
          <p:cNvGrpSpPr/>
          <p:nvPr/>
        </p:nvGrpSpPr>
        <p:grpSpPr>
          <a:xfrm>
            <a:off x="231840" y="4076640"/>
            <a:ext cx="8723160" cy="1449720"/>
            <a:chOff x="231840" y="4076640"/>
            <a:chExt cx="8723160" cy="1449720"/>
          </a:xfrm>
        </p:grpSpPr>
        <p:grpSp>
          <p:nvGrpSpPr>
            <p:cNvPr id="53" name=""/>
            <p:cNvGrpSpPr/>
            <p:nvPr/>
          </p:nvGrpSpPr>
          <p:grpSpPr>
            <a:xfrm>
              <a:off x="231840" y="4076640"/>
              <a:ext cx="8723160" cy="1449720"/>
              <a:chOff x="231840" y="4076640"/>
              <a:chExt cx="8723160" cy="1449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231840" y="4091040"/>
                <a:ext cx="8723160" cy="1435320"/>
                <a:chOff x="231840" y="4091040"/>
                <a:chExt cx="8723160" cy="14353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31840" y="4132080"/>
                  <a:ext cx="8723160" cy="139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spcBef>
                      <a:spcPts val="601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(=            ) is the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atural frequency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, which equal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r a RLC circuit and              for a spring-mass-damper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ystem.      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6" name=""/>
                    <p:cNvSpPr txBox="1"/>
                    <p:nvPr/>
                  </p:nvSpPr>
                  <p:spPr>
                    <a:xfrm>
                      <a:off x="1411200" y="4091040"/>
                      <a:ext cx="1136880" cy="568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7728120" y="4076640"/>
                    <a:ext cx="979200" cy="50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3621240" y="4483080"/>
                  <a:ext cx="100332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" name=""/>
          <p:cNvSpPr/>
          <p:nvPr/>
        </p:nvSpPr>
        <p:spPr>
          <a:xfrm>
            <a:off x="1170000" y="5943600"/>
            <a:ext cx="47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7160" y="5425920"/>
            <a:ext cx="8859240" cy="1598400"/>
            <a:chOff x="227160" y="5425920"/>
            <a:chExt cx="8859240" cy="159840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917640" y="5425920"/>
                  <a:ext cx="199692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2" name=""/>
            <p:cNvGrpSpPr/>
            <p:nvPr/>
          </p:nvGrpSpPr>
          <p:grpSpPr>
            <a:xfrm>
              <a:off x="227160" y="5425920"/>
              <a:ext cx="8859240" cy="1598400"/>
              <a:chOff x="227160" y="5425920"/>
              <a:chExt cx="8859240" cy="15984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27160" y="5425920"/>
                <a:ext cx="8859240" cy="1598400"/>
                <a:chOff x="227160" y="5425920"/>
                <a:chExt cx="8859240" cy="1598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27160" y="5467320"/>
                  <a:ext cx="85644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90520" indent="-290520"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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s the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amping ratio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, which equal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290520" indent="-2905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r a RLC circuit and               for a spring-mass-damp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290520" indent="-2905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ystem.            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5" name=""/>
                    <p:cNvSpPr txBox="1"/>
                    <p:nvPr/>
                  </p:nvSpPr>
                  <p:spPr>
                    <a:xfrm>
                      <a:off x="7646760" y="5425920"/>
                      <a:ext cx="1439640" cy="500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L</m:t>
                                      </m:r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rad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66" name=""/>
                  <p:cNvSpPr txBox="1"/>
                  <p:nvPr/>
                </p:nvSpPr>
                <p:spPr>
                  <a:xfrm>
                    <a:off x="3529080" y="5781600"/>
                    <a:ext cx="1229760" cy="53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γ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7040" y="137952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ep-input forcing, there are 3 specific solutions of the ODE because there are 3 different roots of the characteristic equation (see Appendix 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38520" y="3235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294120" y="4608360"/>
            <a:ext cx="8060760" cy="527040"/>
            <a:chOff x="294120" y="4608360"/>
            <a:chExt cx="8060760" cy="527040"/>
          </a:xfrm>
        </p:grpSpPr>
        <p:sp>
          <p:nvSpPr>
            <p:cNvPr id="73" name=""/>
            <p:cNvSpPr/>
            <p:nvPr/>
          </p:nvSpPr>
          <p:spPr>
            <a:xfrm>
              <a:off x="294120" y="4608360"/>
              <a:ext cx="80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wo initial conditions used are                and y(0)=0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371920" y="4626000"/>
                  <a:ext cx="12240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-166680" y="3281400"/>
            <a:ext cx="95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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itically dam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. Its solution is Eqn. 5.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54000" y="2649600"/>
            <a:ext cx="89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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derdam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. Its solution is Eqn. 5.5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54720" y="3841920"/>
            <a:ext cx="87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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dam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. Its solution is Eqn. 5.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38320" y="1117440"/>
            <a:ext cx="6459480" cy="524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9840" y="6251400"/>
            <a:ext cx="14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3840" y="1197000"/>
            <a:ext cx="6062400" cy="4896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60520" y="6254640"/>
            <a:ext cx="99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7468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325160"/>
            <a:ext cx="82296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ond-order system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 and a natural frequency equal to 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z is subjected to a step input of magnitude A. Determine the system’s time con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18760" y="3751200"/>
            <a:ext cx="6940800" cy="1649520"/>
            <a:chOff x="518760" y="3751200"/>
            <a:chExt cx="6940800" cy="1649520"/>
          </a:xfrm>
        </p:grpSpPr>
        <p:sp>
          <p:nvSpPr>
            <p:cNvPr id="88" name=""/>
            <p:cNvSpPr/>
            <p:nvPr/>
          </p:nvSpPr>
          <p:spPr>
            <a:xfrm>
              <a:off x="518760" y="3751200"/>
              <a:ext cx="46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or an underdamped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542960" y="4200480"/>
                  <a:ext cx="591660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ζ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rad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ϕ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81080" y="1192320"/>
            <a:ext cx="86868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nusoidal-input forcing, the solution typically is recast into expressions for M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(see Eqns. 5.62-5.64 and Appendix 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360" y="2712960"/>
            <a:ext cx="8739720" cy="3807000"/>
            <a:chOff x="99360" y="2712960"/>
            <a:chExt cx="8739720" cy="3807000"/>
          </a:xfrm>
        </p:grpSpPr>
        <p:grpSp>
          <p:nvGrpSpPr>
            <p:cNvPr id="93" name=""/>
            <p:cNvGrpSpPr/>
            <p:nvPr/>
          </p:nvGrpSpPr>
          <p:grpSpPr>
            <a:xfrm>
              <a:off x="257040" y="2712960"/>
              <a:ext cx="8582040" cy="3303720"/>
              <a:chOff x="257040" y="2712960"/>
              <a:chExt cx="8582040" cy="3303720"/>
            </a:xfrm>
          </p:grpSpPr>
          <p:pic>
            <p:nvPicPr>
              <p:cNvPr id="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040" y="2712960"/>
                <a:ext cx="4089240" cy="328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7960" y="2727360"/>
                <a:ext cx="4191120" cy="3289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"/>
            <p:cNvSpPr/>
            <p:nvPr/>
          </p:nvSpPr>
          <p:spPr>
            <a:xfrm>
              <a:off x="99360" y="624348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gures 5.9 and 5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9720" y="128124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RLC circuit (R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C = 0.5 F; L = 0.5 H) underdamped, critically damped, or overdampe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7760" y="2811600"/>
            <a:ext cx="82296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ine input forcing of 3sin2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1120" y="34844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s magnitude ratio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35520" y="3379680"/>
            <a:ext cx="4089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i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bel is defined in terms of a power (P) ratio, or base measurand ratio (Q), or magnitude ratio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7840" y="3708360"/>
            <a:ext cx="7875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-half power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 which the output pow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half of the input power, correspond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/2) dB = -3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36600" y="2592360"/>
                <a:ext cx="8691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91680" y="5153040"/>
            <a:ext cx="7375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rresponds to where M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(1/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r find M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y solving: -3 dB = 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2-27T13:52:29Z</dcterms:modified>
  <cp:revision>146</cp:revision>
  <dc:subject/>
  <dc:title>Slide 1</dc:title>
</cp:coreProperties>
</file>