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D3FB-42C1-440B-886B-9D5FF348E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DC03-F29C-4424-88E8-A110A7A7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2F51-2385-45E5-B17F-9BC693081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FD25-3728-45C9-9437-032DE7BE4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326D-C692-4B7E-9315-BED71CC4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69AA-38F6-4D21-B20B-89844061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ADA3-0F51-42EB-9EE5-3B5CDB3F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D447-5687-4178-9365-BE825AE2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C69F-4E10-4B15-89F8-CE71B94E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4299-3A2F-4F3E-B1A5-CBE17762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0EAC-5D9C-47FD-85F5-64642EFF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FC1C-7EFC-4547-A14A-904B6406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2E6F-D4FC-4E28-A530-FEF2FE5D4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d.edu/~pdunn/www.ame250/mometernr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ibration and Static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1523880"/>
            <a:ext cx="83818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ment systems and their individual components ‘respond’ to inputs by producing an output for a given in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utput can differ from the input by having a different frequency and amplitude, and also a phase lag (time dela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linear systems, the frequency is not altered. However, the outpu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an amplitude that is different than the input, and the outpu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ag the in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response can be subdivided into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dynam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spon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mplies invariant in time;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dynam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ariant in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atic Calib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80880" y="1600200"/>
            <a:ext cx="5410440" cy="4572000"/>
            <a:chOff x="380880" y="1600200"/>
            <a:chExt cx="5410440" cy="4572000"/>
          </a:xfrm>
        </p:grpSpPr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380880" y="1600200"/>
              <a:ext cx="541044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1248840" y="2122200"/>
              <a:ext cx="120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gure 5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172200" y="182880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lope of the static calibration curve is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siti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72200" y="304812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=K(x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 many different values of K for a given cur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72200" y="42354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tic sensitivity is desired (this leads to a lower  x-from-y uncertain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ibration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2160" y="1523880"/>
            <a:ext cx="66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ibration is the comparison of a measured value to a know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h more accurate value, known as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rue val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3800" y="2475000"/>
            <a:ext cx="79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bsolute err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difference between the measured and true valu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2000" y="3084480"/>
            <a:ext cx="73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lative err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ratio of the absolute error over the true va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7840" y="3809880"/>
            <a:ext cx="59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ccura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calibration equals 1 - relative err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8200" y="4456080"/>
            <a:ext cx="755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calibration consists of a number of comparisons, the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maximum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lative err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ten is used to characterize the calib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-Cla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1935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85800" y="3276720"/>
            <a:ext cx="7620120" cy="820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057400" y="4267080"/>
            <a:ext cx="501984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77960" y="2590920"/>
            <a:ext cx="7146720" cy="348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438280" y="503280"/>
            <a:ext cx="4038840" cy="1859040"/>
          </a:xfrm>
          <a:prstGeom prst="rect">
            <a:avLst/>
          </a:prstGeom>
          <a:ln w="0">
            <a:noFill/>
          </a:ln>
        </p:spPr>
      </p:pic>
      <p:grpSp>
        <p:nvGrpSpPr>
          <p:cNvPr id="62" name=""/>
          <p:cNvGrpSpPr/>
          <p:nvPr/>
        </p:nvGrpSpPr>
        <p:grpSpPr>
          <a:xfrm>
            <a:off x="838080" y="1600200"/>
            <a:ext cx="7010640" cy="2438280"/>
            <a:chOff x="838080" y="1600200"/>
            <a:chExt cx="7010640" cy="2438280"/>
          </a:xfrm>
        </p:grpSpPr>
        <p:sp>
          <p:nvSpPr>
            <p:cNvPr id="63" name=""/>
            <p:cNvSpPr/>
            <p:nvPr/>
          </p:nvSpPr>
          <p:spPr>
            <a:xfrm>
              <a:off x="4419720" y="3657600"/>
              <a:ext cx="3429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38080" y="4038480"/>
              <a:ext cx="2438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553080" y="160020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838080" y="4495680"/>
            <a:ext cx="7010640" cy="1143000"/>
            <a:chOff x="838080" y="4495680"/>
            <a:chExt cx="7010640" cy="1143000"/>
          </a:xfrm>
        </p:grpSpPr>
        <p:sp>
          <p:nvSpPr>
            <p:cNvPr id="67" name=""/>
            <p:cNvSpPr/>
            <p:nvPr/>
          </p:nvSpPr>
          <p:spPr>
            <a:xfrm>
              <a:off x="5334120" y="4495680"/>
              <a:ext cx="175248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514600" y="4876920"/>
              <a:ext cx="281952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0120" y="5257800"/>
              <a:ext cx="2286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38080" y="5638680"/>
              <a:ext cx="167652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838080" y="5638680"/>
            <a:ext cx="7010640" cy="457200"/>
            <a:chOff x="838080" y="5638680"/>
            <a:chExt cx="7010640" cy="457200"/>
          </a:xfrm>
        </p:grpSpPr>
        <p:sp>
          <p:nvSpPr>
            <p:cNvPr id="72" name=""/>
            <p:cNvSpPr/>
            <p:nvPr/>
          </p:nvSpPr>
          <p:spPr>
            <a:xfrm>
              <a:off x="5029200" y="5638680"/>
              <a:ext cx="2819520" cy="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38080" y="6095880"/>
              <a:ext cx="3581640" cy="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onse Character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480" y="1487520"/>
            <a:ext cx="9001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utput, y(t), of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ystem can be determin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olving the linear 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which the a’s are constant coefficients, n the order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, and F(t) the forcing func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673280" y="2387520"/>
            <a:ext cx="6280200" cy="9018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16440" y="4510080"/>
            <a:ext cx="801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(t) can represent a physical variable that varies in tim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 as pressure, temperature, velocity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3920" y="5638680"/>
            <a:ext cx="818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act ODE that describes the system is derived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servation l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First-Orde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>
            <a:hlinkClick r:id="rId1"/>
          </p:cNvPr>
          <p:cNvPicPr/>
          <p:nvPr/>
        </p:nvPicPr>
        <p:blipFill>
          <a:blip r:embed="rId2"/>
          <a:srcRect l="0" t="0" r="18189" b="65379"/>
          <a:stretch/>
        </p:blipFill>
        <p:spPr>
          <a:xfrm>
            <a:off x="5943600" y="1523880"/>
            <a:ext cx="2057400" cy="12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385200" y="1523880"/>
            <a:ext cx="49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the response of a bulb thermo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is immersed from room air into hot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3760" y="2286000"/>
            <a:ext cx="52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t is transferred from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ot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ater 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ss wall into the </a:t>
            </a:r>
            <a:r>
              <a:rPr b="0" lang="en-US" sz="1800" spc="-1" strike="noStrike">
                <a:solidFill>
                  <a:srgbClr val="0099ff"/>
                </a:solidFill>
                <a:latin typeface="Arial"/>
              </a:rPr>
              <a:t>cool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iquid inside the bul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066680" y="3581280"/>
                <a:ext cx="11430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2513160" y="3733920"/>
            <a:ext cx="55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= total energy (J); Q = heat transfer (J); t = time 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5560" y="3160800"/>
            <a:ext cx="800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thermal energy transfer is governed by the first law of thermodynam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4120" y="4343400"/>
            <a:ext cx="69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t is transferred convectively to the glass from the hot water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066680" y="4800600"/>
                <a:ext cx="198144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hA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w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3342240" y="4913280"/>
            <a:ext cx="41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= heat transfer coefficient (W / [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]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surface area of heat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994320" y="5410080"/>
            <a:ext cx="3288240" cy="901800"/>
            <a:chOff x="994320" y="5410080"/>
            <a:chExt cx="3288240" cy="901800"/>
          </a:xfrm>
        </p:grpSpPr>
        <p:sp>
          <p:nvSpPr>
            <p:cNvPr id="90" name=""/>
            <p:cNvSpPr/>
            <p:nvPr/>
          </p:nvSpPr>
          <p:spPr>
            <a:xfrm>
              <a:off x="994320" y="5943600"/>
              <a:ext cx="328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is is known as Fourier’s law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81080" y="5410080"/>
              <a:ext cx="1295640" cy="53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6760" y="722160"/>
            <a:ext cx="79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that all of the heat transferred from the hot water through the g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hes the liquid inside the bulb, thereby increasing the temperature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quid. Conservation of energy requires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295280" y="1905120"/>
                <a:ext cx="175284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3435120" y="1949400"/>
            <a:ext cx="50101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= mass of the liquid (kg);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specific heat 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 volume of the liquid (J / [kg K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280" y="2932200"/>
            <a:ext cx="43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ing the previous equations g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295280" y="3505320"/>
                <a:ext cx="228600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A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538920" y="4572000"/>
            <a:ext cx="793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linear, first-order ordinary differential equation, which is of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5181480"/>
                <a:ext cx="20574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3553920" y="5181480"/>
            <a:ext cx="4830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, y = T, K = 1,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h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F(t),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m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h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wer-Order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504000" y="1263600"/>
            <a:ext cx="6788880" cy="1267920"/>
            <a:chOff x="504000" y="1263600"/>
            <a:chExt cx="6788880" cy="1267920"/>
          </a:xfrm>
        </p:grpSpPr>
        <p:grpSp>
          <p:nvGrpSpPr>
            <p:cNvPr id="102" name=""/>
            <p:cNvGrpSpPr/>
            <p:nvPr/>
          </p:nvGrpSpPr>
          <p:grpSpPr>
            <a:xfrm>
              <a:off x="504000" y="1263600"/>
              <a:ext cx="6788880" cy="749520"/>
              <a:chOff x="504000" y="1263600"/>
              <a:chExt cx="6788880" cy="749520"/>
            </a:xfrm>
          </p:grpSpPr>
          <p:sp>
            <p:nvSpPr>
              <p:cNvPr id="103" name=""/>
              <p:cNvSpPr/>
              <p:nvPr/>
            </p:nvSpPr>
            <p:spPr>
              <a:xfrm>
                <a:off x="504000" y="1436760"/>
                <a:ext cx="461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90520" indent="-290520"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For a zero-order system (n=0)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" name="" descr=""/>
              <p:cNvPicPr/>
              <p:nvPr/>
            </p:nvPicPr>
            <p:blipFill>
              <a:blip r:embed="rId1">
                <a:lum contrast="6000"/>
              </a:blip>
              <a:stretch/>
            </p:blipFill>
            <p:spPr>
              <a:xfrm>
                <a:off x="5065560" y="1263600"/>
                <a:ext cx="2227320" cy="749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5" name=""/>
            <p:cNvSpPr/>
            <p:nvPr/>
          </p:nvSpPr>
          <p:spPr>
            <a:xfrm>
              <a:off x="889200" y="2071800"/>
              <a:ext cx="601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xamples: strain gage, pitot-static tub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78520" y="2925720"/>
            <a:ext cx="7894080" cy="1370880"/>
            <a:chOff x="578520" y="2925720"/>
            <a:chExt cx="7894080" cy="1370880"/>
          </a:xfrm>
        </p:grpSpPr>
        <p:sp>
          <p:nvSpPr>
            <p:cNvPr id="107" name=""/>
            <p:cNvSpPr/>
            <p:nvPr/>
          </p:nvSpPr>
          <p:spPr>
            <a:xfrm>
              <a:off x="578520" y="3125880"/>
              <a:ext cx="460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or a first-order system (n=1)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4998960" y="2925720"/>
              <a:ext cx="34736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889200" y="3836880"/>
              <a:ext cx="548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xamples: thermometer, RC circu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68440" y="4788000"/>
            <a:ext cx="8575560" cy="1627200"/>
            <a:chOff x="568440" y="4788000"/>
            <a:chExt cx="8575560" cy="1627200"/>
          </a:xfrm>
        </p:grpSpPr>
        <p:sp>
          <p:nvSpPr>
            <p:cNvPr id="111" name=""/>
            <p:cNvSpPr/>
            <p:nvPr/>
          </p:nvSpPr>
          <p:spPr>
            <a:xfrm>
              <a:off x="568440" y="4903920"/>
              <a:ext cx="500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or a second-order system (n=2)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" descr=""/>
            <p:cNvPicPr/>
            <p:nvPr/>
          </p:nvPicPr>
          <p:blipFill>
            <a:blip r:embed="rId3">
              <a:lum contrast="6000"/>
            </a:blip>
            <a:stretch/>
          </p:blipFill>
          <p:spPr>
            <a:xfrm>
              <a:off x="5530680" y="4788000"/>
              <a:ext cx="3613320" cy="70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902160" y="5589720"/>
              <a:ext cx="7252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90520" indent="-290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xamples: pressure transducer, accelerometer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90520" indent="-290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LC circu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15:15:57Z</dcterms:created>
  <dc:creator>Patrick Dunn</dc:creator>
  <dc:description/>
  <dc:language>en-US</dc:language>
  <cp:lastModifiedBy>Patrick Dunn</cp:lastModifiedBy>
  <dcterms:modified xsi:type="dcterms:W3CDTF">2008-02-18T20:35:45Z</dcterms:modified>
  <cp:revision>42</cp:revision>
  <dc:subject/>
  <dc:title>Intrinsically Linear Variables</dc:title>
</cp:coreProperties>
</file>