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AE9D-2D3D-45A0-99C4-6D72C683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11F9-DEF7-48AF-B53A-B40FD00F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0D8-415A-4353-A61E-EA1FA999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F3B1-6D73-4A6E-BFA5-BC55AE7B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521-AAEE-425C-8CBE-FC9F6F64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5D2A-B46E-43A1-B7CE-1F3F24F0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C88C-993B-45C5-9183-7D04BC10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3AA-12E5-441A-9EC0-09B01B93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4ED2-DDC5-477E-A213-F5B936B8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7C44-5B52-4CDB-A186-820B1C9B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067-513B-4CF4-A631-C55A554B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81C-69BE-4DA4-9DA0-2B9E6576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820B-721B-46C9-AB48-DEC0BFB74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er-Order System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600200"/>
            <a:ext cx="838188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measurement systems involve more than one instr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instruments in a measurement system are lin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inear systems comprised of more than one instrument, the overall system response can be determined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tic sensitivity is the               of all static sensi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gnitude ratio 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ll magnitude rat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hase lag 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ll phase l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5.5 in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07160" cy="236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2111400"/>
            <a:ext cx="7113600" cy="337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3886200"/>
            <a:ext cx="51818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43000" y="4343400"/>
            <a:ext cx="7010280" cy="380880"/>
            <a:chOff x="1143000" y="4343400"/>
            <a:chExt cx="7010280" cy="380880"/>
          </a:xfrm>
        </p:grpSpPr>
        <p:sp>
          <p:nvSpPr>
            <p:cNvPr id="48" name=""/>
            <p:cNvSpPr/>
            <p:nvPr/>
          </p:nvSpPr>
          <p:spPr>
            <a:xfrm>
              <a:off x="1143000" y="4343400"/>
              <a:ext cx="7010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43000" y="472428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3200400" y="4724280"/>
            <a:ext cx="3505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066680" y="4724280"/>
            <a:ext cx="7086600" cy="381240"/>
            <a:chOff x="1066680" y="4724280"/>
            <a:chExt cx="7086600" cy="381240"/>
          </a:xfrm>
        </p:grpSpPr>
        <p:sp>
          <p:nvSpPr>
            <p:cNvPr id="52" name=""/>
            <p:cNvSpPr/>
            <p:nvPr/>
          </p:nvSpPr>
          <p:spPr>
            <a:xfrm>
              <a:off x="7772400" y="4724280"/>
              <a:ext cx="38088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66680" y="5105520"/>
              <a:ext cx="472464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281720" cy="5881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48320" y="3200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2057400"/>
            <a:ext cx="243864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00400"/>
            <a:ext cx="243828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219320" y="5715000"/>
            <a:ext cx="7086600" cy="838080"/>
            <a:chOff x="1219320" y="5715000"/>
            <a:chExt cx="7086600" cy="838080"/>
          </a:xfrm>
        </p:grpSpPr>
        <p:sp>
          <p:nvSpPr>
            <p:cNvPr id="59" name=""/>
            <p:cNvSpPr/>
            <p:nvPr/>
          </p:nvSpPr>
          <p:spPr>
            <a:xfrm>
              <a:off x="4495680" y="5715000"/>
              <a:ext cx="3810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9320" y="6095880"/>
              <a:ext cx="7086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19320" y="655308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21:28:18Z</dcterms:created>
  <dc:creator>Patrick Dunn</dc:creator>
  <dc:description/>
  <dc:language>en-US</dc:language>
  <cp:lastModifiedBy>Patrick Dunn</cp:lastModifiedBy>
  <dcterms:modified xsi:type="dcterms:W3CDTF">2008-02-27T20:59:52Z</dcterms:modified>
  <cp:revision>10</cp:revision>
  <dc:subject/>
  <dc:title>Higher-Order System Repsonse</dc:title>
</cp:coreProperties>
</file>