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DD9-26F2-4FF1-8813-A3449BBA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7B3-38A0-4CCD-8493-D782957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BD2-0E77-4B67-B3E4-0660DB3D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781-1A95-4611-94B5-FBFA6D8A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779-C9BF-4688-BC54-F3866BF8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019-7D8B-4982-84D8-FE354FB4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425-304C-499A-B8B2-E5D81F45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5C9-1720-4242-ADCE-8F086216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E92-B02E-4032-A425-59BD064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52E-CD7B-45A1-8B4D-0657F89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A64-C614-45E9-A170-338D4E1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862-671E-40AA-A781-F6C60DC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289C-BC7F-40F2-A60F-EA12FE70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65360" y="1397160"/>
            <a:ext cx="6192720" cy="35607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085760" y="5160960"/>
            <a:ext cx="7042320" cy="1369800"/>
            <a:chOff x="1085760" y="5160960"/>
            <a:chExt cx="7042320" cy="1369800"/>
          </a:xfrm>
        </p:grpSpPr>
        <p:sp>
          <p:nvSpPr>
            <p:cNvPr id="43" name=""/>
            <p:cNvSpPr/>
            <p:nvPr/>
          </p:nvSpPr>
          <p:spPr>
            <a:xfrm>
              <a:off x="6051600" y="6049800"/>
              <a:ext cx="71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7696440" y="5243400"/>
                  <a:ext cx="3492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085760" y="5160960"/>
                  <a:ext cx="47016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1104840" y="5954400"/>
                  <a:ext cx="52092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7658280" y="5916600"/>
                  <a:ext cx="46980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8" name=""/>
            <p:cNvSpPr/>
            <p:nvPr/>
          </p:nvSpPr>
          <p:spPr>
            <a:xfrm>
              <a:off x="1537560" y="526716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rue me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9560" y="606888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rue varian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16520" y="531000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ample me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17160" y="6026040"/>
              <a:ext cx="19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ample varian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7320" y="274320"/>
            <a:ext cx="705456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vs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27000" y="165096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 and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7840" y="1652760"/>
            <a:ext cx="35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9640" y="232560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70000" y="317664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398772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590920" y="2361960"/>
            <a:ext cx="347976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466800" y="3441600"/>
            <a:ext cx="261612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705040" y="3403440"/>
            <a:ext cx="3340080" cy="2413080"/>
            <a:chOff x="2705040" y="3403440"/>
            <a:chExt cx="3340080" cy="2413080"/>
          </a:xfrm>
        </p:grpSpPr>
        <p:sp>
          <p:nvSpPr>
            <p:cNvPr id="116" name=""/>
            <p:cNvSpPr/>
            <p:nvPr/>
          </p:nvSpPr>
          <p:spPr>
            <a:xfrm>
              <a:off x="4762440" y="3403440"/>
              <a:ext cx="1282680" cy="81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05040" y="4203720"/>
              <a:ext cx="3314880" cy="1612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arameters and Sample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0280" y="1957320"/>
            <a:ext cx="47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9520" y="1919160"/>
            <a:ext cx="81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finite-member representation of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’-memb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tatistics include its sample mean, vari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ndard deviation (square root of the varianc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889360" y="4079880"/>
                <a:ext cx="33415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s Parameters and Sample Stat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0280" y="1957320"/>
            <a:ext cx="47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9320" y="1919160"/>
            <a:ext cx="81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arameters include its true mean, vari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ndard deviation (square root of the varianc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492280" y="2860560"/>
                <a:ext cx="410868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56400" y="5159520"/>
            <a:ext cx="840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tatistics with statistical inference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ir corresponding popu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thin an uncertai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7480" y="2743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Theory and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2880" y="1639800"/>
            <a:ext cx="841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between theory and experiment doe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y correc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-examp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theory agreeing with b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theory agreeing with good data by co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heory agreeing with bad data becaus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not considered or controlled in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4916520"/>
            <a:ext cx="714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information can be misused sel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s must be made within the contex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6520" y="5998680"/>
            <a:ext cx="1384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9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39880" y="1473120"/>
            <a:ext cx="5715000" cy="46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1280" y="765000"/>
            <a:ext cx="91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Graphical Comparison with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ure Are W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237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hysical process is quantified, uncertainties associated with describing the process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440" y="2602080"/>
            <a:ext cx="61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 resul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ri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3782880"/>
            <a:ext cx="372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72120" y="3773520"/>
            <a:ext cx="46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Model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Model Approx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and Random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9920" y="3446640"/>
            <a:ext cx="80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 are categorized as eit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ci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6320" y="4487760"/>
            <a:ext cx="70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certainty is assumed to be systematic if 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information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00" y="2795760"/>
            <a:ext cx="60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stimate of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8480" y="1805040"/>
            <a:ext cx="76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ifference between the measure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and Random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520" y="1335240"/>
            <a:ext cx="245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240" y="1830240"/>
            <a:ext cx="78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es from comparisons with standards (calib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240" y="2297160"/>
            <a:ext cx="71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no statistics; the number is given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240" y="2754360"/>
            <a:ext cx="644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the accuracy (‘to with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5680" y="3268800"/>
            <a:ext cx="21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1800" y="3782880"/>
            <a:ext cx="57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22080" y="4249800"/>
            <a:ext cx="4428360" cy="503280"/>
            <a:chOff x="622080" y="4249800"/>
            <a:chExt cx="4428360" cy="503280"/>
          </a:xfrm>
        </p:grpSpPr>
        <p:sp>
          <p:nvSpPr>
            <p:cNvPr id="86" name=""/>
            <p:cNvSpPr/>
            <p:nvPr/>
          </p:nvSpPr>
          <p:spPr>
            <a:xfrm>
              <a:off x="622080" y="4249800"/>
              <a:ext cx="44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volves statistics (   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568680" y="4295880"/>
                  <a:ext cx="1041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" name=""/>
          <p:cNvSpPr/>
          <p:nvPr/>
        </p:nvSpPr>
        <p:spPr>
          <a:xfrm>
            <a:off x="628560" y="4716360"/>
            <a:ext cx="50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the precision (sca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27840" y="5173560"/>
            <a:ext cx="5555520" cy="509760"/>
            <a:chOff x="627840" y="5173560"/>
            <a:chExt cx="5555520" cy="509760"/>
          </a:xfrm>
        </p:grpSpPr>
        <p:sp>
          <p:nvSpPr>
            <p:cNvPr id="90" name=""/>
            <p:cNvSpPr/>
            <p:nvPr/>
          </p:nvSpPr>
          <p:spPr>
            <a:xfrm>
              <a:off x="627840" y="5173560"/>
              <a:ext cx="45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one more measurem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4844880" y="5203800"/>
                  <a:ext cx="133848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629280" y="5619600"/>
            <a:ext cx="6015600" cy="504720"/>
            <a:chOff x="629280" y="5619600"/>
            <a:chExt cx="6015600" cy="504720"/>
          </a:xfrm>
        </p:grpSpPr>
        <p:sp>
          <p:nvSpPr>
            <p:cNvPr id="93" name=""/>
            <p:cNvSpPr/>
            <p:nvPr/>
          </p:nvSpPr>
          <p:spPr>
            <a:xfrm>
              <a:off x="629280" y="5621040"/>
              <a:ext cx="44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multiple measurement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4721040" y="5619600"/>
                  <a:ext cx="19238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ν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sub>
                      </m:sSub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46840" y="4911840"/>
            <a:ext cx="981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9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8880" y="1333440"/>
            <a:ext cx="8001000" cy="3505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5120" y="461880"/>
            <a:ext cx="85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and Random Uncertai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541520" y="2109600"/>
            <a:ext cx="1046160" cy="642960"/>
          </a:xfrm>
          <a:custGeom>
            <a:avLst/>
            <a:gdLst/>
            <a:ahLst/>
            <a:rect l="l" t="t" r="r" b="b"/>
            <a:pathLst>
              <a:path w="457" h="332">
                <a:moveTo>
                  <a:pt x="0" y="332"/>
                </a:moveTo>
                <a:cubicBezTo>
                  <a:pt x="38" y="319"/>
                  <a:pt x="77" y="307"/>
                  <a:pt x="101" y="277"/>
                </a:cubicBezTo>
                <a:cubicBezTo>
                  <a:pt x="125" y="247"/>
                  <a:pt x="131" y="189"/>
                  <a:pt x="146" y="149"/>
                </a:cubicBezTo>
                <a:cubicBezTo>
                  <a:pt x="161" y="109"/>
                  <a:pt x="177" y="63"/>
                  <a:pt x="192" y="40"/>
                </a:cubicBezTo>
                <a:cubicBezTo>
                  <a:pt x="207" y="17"/>
                  <a:pt x="218" y="0"/>
                  <a:pt x="238" y="12"/>
                </a:cubicBezTo>
                <a:cubicBezTo>
                  <a:pt x="258" y="24"/>
                  <a:pt x="293" y="73"/>
                  <a:pt x="311" y="113"/>
                </a:cubicBezTo>
                <a:cubicBezTo>
                  <a:pt x="329" y="153"/>
                  <a:pt x="333" y="217"/>
                  <a:pt x="348" y="250"/>
                </a:cubicBezTo>
                <a:cubicBezTo>
                  <a:pt x="363" y="283"/>
                  <a:pt x="384" y="300"/>
                  <a:pt x="402" y="314"/>
                </a:cubicBezTo>
                <a:cubicBezTo>
                  <a:pt x="420" y="328"/>
                  <a:pt x="451" y="329"/>
                  <a:pt x="457" y="3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2080" y="3200400"/>
            <a:ext cx="4838400" cy="2734200"/>
            <a:chOff x="82080" y="3200400"/>
            <a:chExt cx="4838400" cy="2734200"/>
          </a:xfrm>
        </p:grpSpPr>
        <p:sp>
          <p:nvSpPr>
            <p:cNvPr id="100" name=""/>
            <p:cNvSpPr/>
            <p:nvPr/>
          </p:nvSpPr>
          <p:spPr>
            <a:xfrm>
              <a:off x="82080" y="5230800"/>
              <a:ext cx="48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based upon comparison betwe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sample and true (population) me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476080" y="3200400"/>
              <a:ext cx="1314360" cy="204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790800" y="2171880"/>
            <a:ext cx="3967920" cy="3508920"/>
            <a:chOff x="3790800" y="2171880"/>
            <a:chExt cx="3967920" cy="3508920"/>
          </a:xfrm>
        </p:grpSpPr>
        <p:sp>
          <p:nvSpPr>
            <p:cNvPr id="103" name=""/>
            <p:cNvSpPr/>
            <p:nvPr/>
          </p:nvSpPr>
          <p:spPr>
            <a:xfrm>
              <a:off x="4601520" y="5240160"/>
              <a:ext cx="315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based upon N and S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0800" y="2171880"/>
              <a:ext cx="2448000" cy="31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64040" y="2031840"/>
            <a:ext cx="4636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106800"/>
            <a:ext cx="479520" cy="2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1-22T16:33:44Z</dcterms:modified>
  <cp:revision>116</cp:revision>
  <dc:subject/>
  <dc:title>Slide 1</dc:title>
</cp:coreProperties>
</file>