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F784-E269-48C2-987E-46A5CE21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0D4B-CEC5-4724-9419-8E3C4718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0B42-E646-41CB-A02D-4E17E8FA0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2582-BD1F-48B9-B85C-C5F797755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35B3-BC4C-4B51-ABD8-DFCA7808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9C16-B012-4FE2-B581-957E8416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E89A-02E4-4FBE-8777-3D4AB6DB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6EEB-ED30-46D5-8851-DEFA70FA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AA29-D93A-4740-AAE9-3336C2C4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62C0-C960-4F80-A416-B3EFB0AF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8B51-EDA5-41CD-8809-650D0287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4495-30C8-4D35-9C78-E88B9F12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C708-1067-4967-9F56-89627BD3A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mertz@nd.edu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76212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TECHNICAL COMMUNIC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3657600"/>
            <a:ext cx="472428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n Mert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ssert B025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mertz@nd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33720" y="624852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31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fic Technical Writ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295280"/>
            <a:ext cx="76201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l Variables/Symbols Identified 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3886200"/>
            <a:ext cx="8991720" cy="27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“y = mx+b” for a calibration equation but not saying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any of these variables me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defining common variables (e.g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, for velocit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Using the same variable for two different th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ot defining variables in append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ot italicizing quantity symb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3124080"/>
            <a:ext cx="6095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ommon Mist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2286000"/>
            <a:ext cx="76197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Bernoulli equation (Equation 1)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pressure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velocity, and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dens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fic Technical Writ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44792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l Variable’s Units Presented (in correct form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27672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er Number of Significant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stems of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294560" y="5257800"/>
            <a:ext cx="1243080" cy="779760"/>
            <a:chOff x="1294560" y="5257800"/>
            <a:chExt cx="1243080" cy="779760"/>
          </a:xfrm>
        </p:grpSpPr>
        <p:sp>
          <p:nvSpPr>
            <p:cNvPr id="84" name=""/>
            <p:cNvSpPr/>
            <p:nvPr/>
          </p:nvSpPr>
          <p:spPr>
            <a:xfrm>
              <a:off x="1294560" y="5638680"/>
              <a:ext cx="12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Preferr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52480" y="5257800"/>
              <a:ext cx="304920" cy="380880"/>
            </a:xfrm>
            <a:prstGeom prst="upArrow">
              <a:avLst>
                <a:gd name="adj1" fmla="val 50000"/>
                <a:gd name="adj2" fmla="val 3122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885120" y="5257800"/>
            <a:ext cx="1680480" cy="779760"/>
            <a:chOff x="3885120" y="5257800"/>
            <a:chExt cx="1680480" cy="779760"/>
          </a:xfrm>
        </p:grpSpPr>
        <p:sp>
          <p:nvSpPr>
            <p:cNvPr id="87" name=""/>
            <p:cNvSpPr/>
            <p:nvPr/>
          </p:nvSpPr>
          <p:spPr>
            <a:xfrm>
              <a:off x="3885120" y="5638680"/>
              <a:ext cx="168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Inconsistent 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5257800"/>
              <a:ext cx="304560" cy="380880"/>
            </a:xfrm>
            <a:prstGeom prst="upArrow">
              <a:avLst>
                <a:gd name="adj1" fmla="val 50000"/>
                <a:gd name="adj2" fmla="val 3126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478920" y="5257800"/>
            <a:ext cx="1946880" cy="779760"/>
            <a:chOff x="6478920" y="5257800"/>
            <a:chExt cx="1946880" cy="779760"/>
          </a:xfrm>
        </p:grpSpPr>
        <p:sp>
          <p:nvSpPr>
            <p:cNvPr id="90" name=""/>
            <p:cNvSpPr/>
            <p:nvPr/>
          </p:nvSpPr>
          <p:spPr>
            <a:xfrm>
              <a:off x="6478920" y="5638680"/>
              <a:ext cx="194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Still Used in 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67480" y="5257800"/>
              <a:ext cx="304920" cy="380880"/>
            </a:xfrm>
            <a:prstGeom prst="upArrow">
              <a:avLst>
                <a:gd name="adj1" fmla="val 50000"/>
                <a:gd name="adj2" fmla="val 3122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" descr=""/>
          <p:cNvPicPr/>
          <p:nvPr/>
        </p:nvPicPr>
        <p:blipFill>
          <a:blip r:embed="rId1">
            <a:lum contrast="6000"/>
          </a:blip>
          <a:srcRect l="5823" t="17516" r="1944" b="3219"/>
          <a:stretch/>
        </p:blipFill>
        <p:spPr>
          <a:xfrm>
            <a:off x="457200" y="1676520"/>
            <a:ext cx="830592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086600" y="304920"/>
            <a:ext cx="1571760" cy="6248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2280" y="1523880"/>
            <a:ext cx="678204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decimal prefixes with a number’s units, keeping its numerical value between 0.1 and 1000, such as 1.05 MJ instead of either 1.0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or 1.05E6 J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using unacceptable abbreviations such as sec for second, cc for cubic centimeter, l for liter or ppm for parts per million.  For example, express 7 ppm as 7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/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Unit Mist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les of Significant Fig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7680" y="1611360"/>
            <a:ext cx="8016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-significant dig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msd) is the leftmost, nonzero dig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st-significant dig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sd) is the rightmost, nonzero* digi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IF there is a decimal point, then the lsd also includes z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significant figu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quals the number of figur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and including the least-significant digit and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-significant dig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use more significant figures than you are certain abou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because a computer program can produce 13 significa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s, that does not mean you should use all of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5181480"/>
            <a:ext cx="7619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significant figures are there in each of the following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58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58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5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058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fic Technical Writ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447920"/>
            <a:ext cx="84582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certainties for Every Measured and Predict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27672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l Figures and Tables Explained 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426708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ements like “the calibration plot can be seen a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gure 1,” by themselves ar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noug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ots and tables in appendices should referenced in bo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fic Technical Writ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44792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umerical Results Presented in Proper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2666880"/>
            <a:ext cx="8991720" cy="40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 to include value, uncertainty, and confi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fidence can be omitted if stated earlier in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more than three digits on either side of the decimal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int put a space (not comm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sure to put a space between the number and it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its (this includes 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expressing ranges of values, use “to” rather than “-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quoting composite expressions (like volume) includ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its for each number (for example, 3 m x 4 m x 5 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fic Technical Writ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44792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rrect Format for Figure/Table Lab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2590920"/>
            <a:ext cx="8991720" cy="35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beled with a number in sequential order based on th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der in which they appear in the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ent numbering for figures and t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bels g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elow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igures and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bov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able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tle should be a stand-alone description of the content of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table/fig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i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fic Technical Writ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44792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l Figure Axes Properly Labe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2590920"/>
            <a:ext cx="899172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antity/Symb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not spell out Greek letters (for example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not rh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its in brackets or parenthe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e tick ma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bels big enough to be easily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fic Technical Writ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4792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ferences in Proper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2590920"/>
            <a:ext cx="899172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bered in consecutive or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e any references that are not cited in th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dy of the memo/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format from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Chicago Manual of Styl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1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648320"/>
            <a:ext cx="91440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ferences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1]   2003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Chicago Manual of Style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5th ed. Chicago: The University of Chicago P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6094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do engineers need to know how to write good technical memos/repor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133720"/>
            <a:ext cx="8610480" cy="29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 to communicate with pe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-disciplinary pro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ves can depend on clearly communicating technical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case studies from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echnical Writing Styl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rse webs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rt witness in court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5410080"/>
            <a:ext cx="86104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O GET A GOOD GRADE IN THIS CLAS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46128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]   D. Jones. 1998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chnical Writing Styl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ston: Allyn and Bac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fic Technical Writ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295280"/>
            <a:ext cx="9144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rrect Grammar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rrect Sp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chnical Deliver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44792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ackground/Methodology Expl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2590920"/>
            <a:ext cx="899172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ained in enough detail so that an engineer at you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l can critique your method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e goals of the experi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ain any important physics or governing equ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py and paste from hand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chnical Deliver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44792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ppropriate Plots (presence and qua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2590920"/>
            <a:ext cx="899172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lab will have different required plots (make sure to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hem in your memo/repor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all plots are present, but the formatting i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tremely bad a score of zero will be give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od P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01028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orrect P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 rot="10800000">
            <a:off x="151920" y="1142640"/>
            <a:ext cx="899172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orrect P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10800000">
            <a:off x="533160" y="837360"/>
            <a:ext cx="800100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orrect P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chnical Deliver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14300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certainty Calc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2133720"/>
            <a:ext cx="8305920" cy="40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will need to do uncertainty calculations for all of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lab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culations should be placed in Appendi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uld be easy to follow log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rules about units and variable description used fo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dy of memo/report apply to Appendix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e how uncertainties were found (for example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olution of certain equipment displa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ful to see how each source of uncertainty affec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all uncertain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chnical Deliver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4300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arison of Measured and Theoretical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2133720"/>
            <a:ext cx="8305920" cy="40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will be asked to compare measured and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oretical values frequ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quantitative comparis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 and Y differed by Z 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 NOT use words such as “good”, “reasonable”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acceptable”, or “significant”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can talk about values being within measuremen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certain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ativ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ison will receive a score of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ero for this s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chnical Deliver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91440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cientifically Viable Conclusions/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905120"/>
            <a:ext cx="830592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d measurements and theoretical results agre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results did not agree give an explanation w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uman error” or “uncertainty i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asurements” are 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ceptabl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plan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ck up with simple sample calcu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t have scientific meri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conspiracy theo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scous effects of air will not significantly affect th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ural frequency of a vibrating be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594400" cy="455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52480" y="457200"/>
            <a:ext cx="58914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chnical Deliver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9072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cientifically Viable Conclusions/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2362320"/>
            <a:ext cx="830556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mmary of what was accomplished in the la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e major find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not discus anything new or make any new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er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uncertainty is high, suggest ways to reduce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entrate on greatest sources of uncertain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did you learn during this lab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osing Com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2286000"/>
            <a:ext cx="8305920" cy="24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chnical writing is a learned skill that takes prac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od technical writing is diffic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3 in textbook is an excellent resource (check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often when writ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grading sheet should help in writing a good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o/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14240" y="255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t Mistakes “Quiz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7040" y="1581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ny format errors in the follo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– 3 m/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temperature, T, equals 98.6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º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ft. equals 12 in. exac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,23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000 p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72520" y="2158920"/>
            <a:ext cx="31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 m/s to 3 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40240" y="2652840"/>
            <a:ext cx="167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2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63360" y="3124080"/>
            <a:ext cx="27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T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98.6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º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4200" y="3683160"/>
            <a:ext cx="19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.1 m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41480" y="4205160"/>
            <a:ext cx="106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36040" y="4714920"/>
            <a:ext cx="20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5 233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95960" y="5237280"/>
            <a:ext cx="401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 mL/L or 4 mg/g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les for Number Round O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1600200"/>
            <a:ext cx="6934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ound off a number, truncate the number to its desir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gth and make the remainder a decimal f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fraction &gt; ½, round up the number’s l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fraction &lt; ½. leave the number’s lsd as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fraction = ½, round up the lsd IF it is o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Significant Figur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27280" y="1930320"/>
            <a:ext cx="21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27.084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3360" y="3868560"/>
            <a:ext cx="636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significant figure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0120" y="5059440"/>
            <a:ext cx="769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nded off to 5 significant figures 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96880" y="2838600"/>
            <a:ext cx="199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281400" y="2395440"/>
            <a:ext cx="666720" cy="5223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09840" y="2824200"/>
            <a:ext cx="18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S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5472000" y="2351160"/>
            <a:ext cx="449280" cy="581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22800" y="3884760"/>
            <a:ext cx="10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116480" y="5059440"/>
            <a:ext cx="210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7.0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Interesting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6720" y="140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ess the common units for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5200" y="2057400"/>
            <a:ext cx="64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of seed to sow an acre of 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8000" y="2732040"/>
            <a:ext cx="45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from head to w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4760" y="3349800"/>
            <a:ext cx="45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an arrow would 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7920" y="4010040"/>
            <a:ext cx="53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walked on foot in 1 h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7560" y="4662360"/>
            <a:ext cx="47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a shout would ca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0080" y="5300640"/>
            <a:ext cx="72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seen when squatting beneath a h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966280" y="2071800"/>
            <a:ext cx="17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ush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57640" y="2730600"/>
            <a:ext cx="11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57640" y="3354480"/>
            <a:ext cx="20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owsh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25880" y="40212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ot-h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32600" y="4660920"/>
            <a:ext cx="31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oup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é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 (Fren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12920" y="5299200"/>
            <a:ext cx="18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5840" y="5931000"/>
            <a:ext cx="68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you can see to the horizon in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2200" y="59119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.2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√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(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chnical Wri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to 3 pages plus append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enough to thoroughly explain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762120"/>
            <a:ext cx="1371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5000" y="762120"/>
            <a:ext cx="16765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362320"/>
            <a:ext cx="403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comprehensive explanation of theoretical or experimental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2438280"/>
            <a:ext cx="4038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esentation of a topic including background and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809880"/>
            <a:ext cx="4191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Summary, Findings, References, and Append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3886200"/>
            <a:ext cx="4114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Title Sheet, Abstract, Table of Contents, Introduction, Approach, Results, Discussion, Conclusions, References, and Append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all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1523880"/>
            <a:ext cx="8610480" cy="49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e technical documents in third per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past tense throughout docu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mit the length of sentences.  Break long sentenc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o shorter on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gment ideas into paragraphs such that the reader i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through the presentation in a smooth and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ffortless fash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pages numbered consecutively except cover sh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correct English.  Be careful not to confuse thing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ke “its” and “it’s” or “effect” and “affect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nctuate equations like they were part of the sent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685800"/>
            <a:ext cx="6095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chnical Writing 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all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828800"/>
            <a:ext cx="861048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necessary sections inclu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well the information is organ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the plots are placed in the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itions from one subject to an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ropriate material covered in each s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es Append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in doubt, refer to tex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990720"/>
            <a:ext cx="6095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er Format and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tions of a Me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685800"/>
            <a:ext cx="8610480" cy="62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paragraph lo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gnificant results and conclu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LF CONTAINED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Find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erial necessary to support conclu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e most important plots/t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ality not quant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Referenc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more details to co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Appendi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ing information not in bo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his class, appendices may be hand-writte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y are neat and leg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all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685800"/>
            <a:ext cx="6095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er Format and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514600"/>
            <a:ext cx="8991360" cy="35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putting results in Summary/Abstrac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tting overly detailed instructions when discussing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ology (no step-by-step instructio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presenting ranges of parameters or other importan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tion about experi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tting new or unsupported claims in Conclu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tting raw data in Appendices without explan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including technical background for equ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1828800"/>
            <a:ext cx="60962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ommon Mist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all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523880"/>
            <a:ext cx="8610480" cy="45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technical documents should be typ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ck a word processing software and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arn to use it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ffectivel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 to know how to handle text, tables, figures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equ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sketches are neatly draw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quations should not use “*” for multiplication and, i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l, fractions should be oriented vert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bles and Figures are well organized within tex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ld your tables/figures/equations appear in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xtbook or journal artic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685800"/>
            <a:ext cx="6095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fessional Appea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20:19:31Z</dcterms:created>
  <dc:creator>pdunn</dc:creator>
  <dc:description/>
  <dc:language>en-US</dc:language>
  <cp:lastModifiedBy>Ben Mertz</cp:lastModifiedBy>
  <dcterms:modified xsi:type="dcterms:W3CDTF">2008-01-23T17:08:11Z</dcterms:modified>
  <cp:revision>82</cp:revision>
  <dc:subject/>
  <dc:title>Chapter 2: UNITS &amp; SIGNIFICANT FIGUR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38843151</vt:r8>
  </property>
  <property fmtid="{D5CDD505-2E9C-101B-9397-08002B2CF9AE}" pid="3" name="_AuthorEmail">
    <vt:lpwstr>bmertz@nd.edu</vt:lpwstr>
  </property>
  <property fmtid="{D5CDD505-2E9C-101B-9397-08002B2CF9AE}" pid="4" name="_AuthorEmailDisplayName">
    <vt:lpwstr>Ben Mertz</vt:lpwstr>
  </property>
  <property fmtid="{D5CDD505-2E9C-101B-9397-08002B2CF9AE}" pid="5" name="_EmailSubject">
    <vt:lpwstr>Lecture 6 Slides v.2</vt:lpwstr>
  </property>
</Properties>
</file>