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5BD-42A3-4186-BE9C-AE38F222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133-4B1B-4145-9BF8-0BA2EB87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0A2-ACD6-4BC7-922E-4DDE4B45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8F0-8DCF-4E6C-95B0-A35A9504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17E5-9303-47BC-93B9-FBFEF774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C9A7-E8FA-4AE2-A150-BA3B54B1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669-F4A8-4DD5-AFC7-55F5BAFE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D2D-2198-40B1-9DA3-594282DE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798-7182-4026-B58B-3BB0AA06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169-089D-4AA5-B753-82EEFC19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C1C-D7E1-4787-B3E5-5F9015EC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D6E-8C67-4F74-927D-30B83647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73BD-D026-43C8-9511-F259D1FB7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xper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336680" y="1522440"/>
            <a:ext cx="6472080" cy="4400640"/>
            <a:chOff x="1336680" y="1522440"/>
            <a:chExt cx="6472080" cy="4400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466640" y="1620720"/>
              <a:ext cx="6194160" cy="430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336680" y="1522440"/>
              <a:ext cx="6472080" cy="4340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n Experi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7040" y="1763640"/>
            <a:ext cx="8042400" cy="1184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168560" y="2786040"/>
            <a:ext cx="20062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xperi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6440" y="1606680"/>
            <a:ext cx="707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ing the number of students entering the NW door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artolo Hall at 9:25 AM on Tu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280" y="3138480"/>
            <a:ext cx="707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ing the number of students entering the NW door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artolo Hall at 9:25 AM on Tu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3040" y="4662360"/>
            <a:ext cx="711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ing the number of students entering the NW door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artolo Hall at 9:25 AM on Tuesday, when you open, then close one of the doors every 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488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ole Of Experi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89680" y="2967120"/>
            <a:ext cx="3211200" cy="298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800" y="1521000"/>
            <a:ext cx="790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s serve to advance the understanding of our world. This understanding is advanced by both experiment and theory and the constant interplay between them. Experiments help u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20720" y="671400"/>
            <a:ext cx="6193080" cy="3560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53120" y="5381640"/>
            <a:ext cx="71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488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fication of Experi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280" y="1461960"/>
            <a:ext cx="69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s can be classified according to their purpose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5720" y="230364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5000" y="318924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5360" y="4103640"/>
            <a:ext cx="17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ag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7960" y="5060880"/>
            <a:ext cx="17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5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al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7080" y="1519200"/>
            <a:ext cx="68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physical quantity of a process that can a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utcome of the experiment. Variables are classifi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29120" y="2579760"/>
            <a:ext cx="182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488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fy the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6080" y="1490760"/>
            <a:ext cx="722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: determine the coefficient of restitution, e, of a rub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 over a range of impact velo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200" y="2449440"/>
            <a:ext cx="675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: vary drop height,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easure return height,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00240" y="3279600"/>
            <a:ext cx="290520" cy="290520"/>
          </a:xfrm>
          <a:prstGeom prst="ellipse">
            <a:avLst/>
          </a:prstGeom>
          <a:solidFill>
            <a:srgbClr val="f8fd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71720" y="5864400"/>
            <a:ext cx="1828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73520" y="342576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57160" y="3000240"/>
            <a:ext cx="405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381480" y="3759120"/>
            <a:ext cx="0" cy="209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93920" y="3349800"/>
            <a:ext cx="405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autoRev="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Motion origin="layout" path="M 0 0 L 0 0.33295 E">
                                      <p:cBhvr>
                                        <p:cTn id="20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fy the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4880" y="1628640"/>
            <a:ext cx="70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1:28:36Z</dcterms:created>
  <dc:creator> </dc:creator>
  <dc:description/>
  <dc:language>en-US</dc:language>
  <cp:lastModifiedBy>Patrick Dunn</cp:lastModifiedBy>
  <dcterms:modified xsi:type="dcterms:W3CDTF">2008-01-08T18:15:31Z</dcterms:modified>
  <cp:revision>32</cp:revision>
  <dc:subject/>
  <dc:title>Slide 1</dc:title>
</cp:coreProperties>
</file>