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9D0-B74E-457E-A7E1-A8A9EC96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2CB-251B-4D1E-90CE-359AA262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D3C-6BDD-461A-8C29-19490BC9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602-0B5D-4B6C-AB99-AAF1B5E0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10C-1094-4D3B-A7F4-D2817D7F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4D1-AC14-4A07-90D9-88DB08A2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D72-8FBB-40CF-B08D-D62BAD1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769-D459-4355-8553-0BC95AF8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7AC-0562-4965-B201-2421E1F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CB0-2B7E-4FD2-8356-64F12ED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813-E3CB-431F-81C4-69829622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066-9966-47F1-84CB-239FC35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5252-9FBD-41EB-803C-D4DEB534F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plifiers and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4602240" cy="48765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914400" y="4267080"/>
            <a:ext cx="7318800" cy="838440"/>
            <a:chOff x="914400" y="4267080"/>
            <a:chExt cx="7318800" cy="838440"/>
          </a:xfrm>
        </p:grpSpPr>
        <p:sp>
          <p:nvSpPr>
            <p:cNvPr id="44" name=""/>
            <p:cNvSpPr/>
            <p:nvPr/>
          </p:nvSpPr>
          <p:spPr>
            <a:xfrm>
              <a:off x="914400" y="4267080"/>
              <a:ext cx="4648320" cy="8384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5720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3680" y="4495680"/>
              <a:ext cx="182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mplifiers, fil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Distortion of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334120" cy="446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400" y="60958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870160" y="1371600"/>
            <a:ext cx="3102480" cy="1657440"/>
            <a:chOff x="5870160" y="1371600"/>
            <a:chExt cx="3102480" cy="1657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873760" y="2666880"/>
                  <a:ext cx="3098880" cy="3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Δt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5870160" y="1371600"/>
              <a:ext cx="2794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filter alters the signal 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ro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phase 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56120" y="3465360"/>
            <a:ext cx="3070080" cy="881280"/>
            <a:chOff x="5856120" y="3465360"/>
            <a:chExt cx="3070080" cy="881280"/>
          </a:xfrm>
        </p:grpSpPr>
        <p:sp>
          <p:nvSpPr>
            <p:cNvPr id="108" name=""/>
            <p:cNvSpPr/>
            <p:nvPr/>
          </p:nvSpPr>
          <p:spPr>
            <a:xfrm>
              <a:off x="5856120" y="3465360"/>
              <a:ext cx="307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a magnitude atten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943600" y="3962520"/>
                  <a:ext cx="16002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019920" y="4572000"/>
            <a:ext cx="2819520" cy="458640"/>
            <a:chOff x="6019920" y="4572000"/>
            <a:chExt cx="2819520" cy="4586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6019920" y="4572000"/>
                  <a:ext cx="158256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7759440" y="460836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-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19920" y="5181480"/>
            <a:ext cx="2971800" cy="482760"/>
            <a:chOff x="6019920" y="5181480"/>
            <a:chExt cx="2971800" cy="48276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6019920" y="5181480"/>
                  <a:ext cx="1887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816680" y="5257800"/>
              <a:ext cx="11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p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84680" y="632448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ular frequency for this 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4320" y="59436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yclic frequency for this 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63244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= 2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 = ~ 1 rad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3400" y="594360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 = ~1 cycle / 6.4 s = ~0.16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1725480"/>
            <a:ext cx="7317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pl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lectronic component that sc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a signal from its input value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ts output value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64800" y="3211560"/>
            <a:ext cx="6856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ly, this can be expressed as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[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f is some amplification oper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4440" y="4383000"/>
            <a:ext cx="74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G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5160" y="5211720"/>
            <a:ext cx="59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er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log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9680" y="6179760"/>
            <a:ext cx="62866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4: The LM124 Series Op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2400" y="1057320"/>
            <a:ext cx="7239240" cy="466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2840" y="37944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 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al Amplif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48000" y="2705040"/>
            <a:ext cx="4341600" cy="1419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4120" y="2617920"/>
            <a:ext cx="127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1920" y="1278000"/>
            <a:ext cx="71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 circuit of the op amp can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‘black box’ having two voltage inputs and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560" y="4468680"/>
            <a:ext cx="33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jor attribut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74680" y="49896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put impedance (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Ω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68920" y="540864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 impedance (&lt; 100 Ω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1240" y="582768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high internal open-loop gain (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5840" y="338040"/>
            <a:ext cx="61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l Op Amp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7480" y="1230480"/>
            <a:ext cx="42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rchoff’s First Law can be applied to determine the a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 for this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31485" r="51066" b="29226"/>
          <a:stretch/>
        </p:blipFill>
        <p:spPr>
          <a:xfrm>
            <a:off x="5267160" y="1533600"/>
            <a:ext cx="3132360" cy="34369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704880" y="2523960"/>
            <a:ext cx="5800680" cy="808560"/>
            <a:chOff x="704880" y="2523960"/>
            <a:chExt cx="5800680" cy="808560"/>
          </a:xfrm>
        </p:grpSpPr>
        <p:sp>
          <p:nvSpPr>
            <p:cNvPr id="67" name=""/>
            <p:cNvSpPr/>
            <p:nvPr/>
          </p:nvSpPr>
          <p:spPr>
            <a:xfrm>
              <a:off x="704880" y="2523960"/>
              <a:ext cx="4552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node 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/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0)/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57880" y="2933640"/>
              <a:ext cx="2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33320" y="2228760"/>
            <a:ext cx="5762880" cy="2202840"/>
            <a:chOff x="733320" y="2228760"/>
            <a:chExt cx="5762880" cy="2202840"/>
          </a:xfrm>
        </p:grpSpPr>
        <p:sp>
          <p:nvSpPr>
            <p:cNvPr id="70" name=""/>
            <p:cNvSpPr/>
            <p:nvPr/>
          </p:nvSpPr>
          <p:spPr>
            <a:xfrm>
              <a:off x="6248520" y="2228760"/>
              <a:ext cx="2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3320" y="3990960"/>
              <a:ext cx="4552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 node 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/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(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/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7680" y="5573880"/>
            <a:ext cx="7932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voltage difference between the input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(a consequence of the op amp’s high internal open-loop ga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ng the two expressions yields the desired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0804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66840" y="2968560"/>
                <a:ext cx="25448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76200" y="4483080"/>
                <a:ext cx="34419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6520" y="6199200"/>
            <a:ext cx="130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5080" y="276120"/>
            <a:ext cx="46260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4880" y="1219320"/>
            <a:ext cx="64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ter removes a signal’s unwanted frequency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0120" y="4648320"/>
            <a:ext cx="64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ter alters bo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ig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480" y="53341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 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simple RC filter equals RC. A unit balanc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= R (V/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C (C/V) = (C/A) = (C / [C/s]) =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50770" r="0" b="0"/>
          <a:stretch/>
        </p:blipFill>
        <p:spPr>
          <a:xfrm>
            <a:off x="4648320" y="1752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0" b="50770"/>
          <a:stretch/>
        </p:blipFill>
        <p:spPr>
          <a:xfrm>
            <a:off x="914400" y="18288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37720" y="1523880"/>
            <a:ext cx="5791680" cy="4449960"/>
            <a:chOff x="837720" y="1523880"/>
            <a:chExt cx="5791680" cy="4449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066680" y="1523880"/>
              <a:ext cx="556272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37720" y="569736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6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90920" y="3808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81080" y="4572000"/>
            <a:ext cx="5946840" cy="914400"/>
            <a:chOff x="1981080" y="4572000"/>
            <a:chExt cx="5946840" cy="914400"/>
          </a:xfrm>
        </p:grpSpPr>
        <p:sp>
          <p:nvSpPr>
            <p:cNvPr id="89" name=""/>
            <p:cNvSpPr/>
            <p:nvPr/>
          </p:nvSpPr>
          <p:spPr>
            <a:xfrm>
              <a:off x="1981080" y="5181480"/>
              <a:ext cx="3808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4240" y="5181480"/>
              <a:ext cx="3812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5480" y="4800600"/>
              <a:ext cx="2971800" cy="45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9800" y="45720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cut-off frequ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873400" y="5029200"/>
            <a:ext cx="2977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or simple filters,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1/R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r f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= 1/(2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C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43720" y="1600200"/>
            <a:ext cx="28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ass Fil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low-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s high-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9680" y="4495680"/>
            <a:ext cx="28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ass Fil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high-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s low-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4720" y="1295280"/>
            <a:ext cx="4215960" cy="4893120"/>
            <a:chOff x="684720" y="1295280"/>
            <a:chExt cx="4215960" cy="4893120"/>
          </a:xfrm>
        </p:grpSpPr>
        <p:sp>
          <p:nvSpPr>
            <p:cNvPr id="98" name=""/>
            <p:cNvSpPr/>
            <p:nvPr/>
          </p:nvSpPr>
          <p:spPr>
            <a:xfrm>
              <a:off x="684720" y="591192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gure 6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295280" y="1295280"/>
              <a:ext cx="36054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6:22:41Z</dcterms:created>
  <dc:creator>pdunn</dc:creator>
  <dc:description/>
  <dc:language>en-US</dc:language>
  <cp:lastModifiedBy>Patrick Dunn</cp:lastModifiedBy>
  <dcterms:modified xsi:type="dcterms:W3CDTF">2008-02-06T21:22:52Z</dcterms:modified>
  <cp:revision>65</cp:revision>
  <dc:subject/>
  <dc:title>Measurement Systems</dc:title>
</cp:coreProperties>
</file>