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2442-E401-420D-A757-6BACFFEF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3A71-193A-400F-9489-7EBFFB58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A39C-58EC-4A3B-AF22-AAE652B96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205F-1E41-4D7C-96E0-56725B260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7000-D354-4BD5-8FFF-8B1D9F63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EE38-EE50-4099-BEB9-71124939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760D-CB00-4C90-A12F-A3B0139E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179A-8BCE-49F0-90B4-F05BFA0C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1B93-9662-4E6A-836A-33081F32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D423-38E9-46B0-BF48-EDF9509D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7BEA-3263-441E-B986-EFACAA55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6FF3-2465-4F16-9A8F-1C1E2AC3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14D9-82C6-418E-8748-DBBE20CF0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00280" y="622440"/>
            <a:ext cx="749268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istical Param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62120" y="1028880"/>
            <a:ext cx="5934240" cy="5553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00040" y="614664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1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-Cla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9200" y="1328760"/>
            <a:ext cx="772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mean and variance of x(t) = 3sin(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) for one peri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1.5 peri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0800" y="2255760"/>
            <a:ext cx="37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period of 3sin(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)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62560" y="2690640"/>
            <a:ext cx="736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ne period equals one cycl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→ determine the tim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for one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70480" y="3119400"/>
            <a:ext cx="67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requency = 4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radians/s = (x cycles/s)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• (2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radians/cyc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13000" y="3529080"/>
            <a:ext cx="364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x = 2 cycles/s → 0.5 s/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52120" y="3973680"/>
            <a:ext cx="555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o, one period = 0.5 s and 1.5 periods = 0.75 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7640" y="47480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428840" y="4533840"/>
                <a:ext cx="157464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558360" y="557388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ne perio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298600" y="5423040"/>
                <a:ext cx="588024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π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πt</m:t>
                    </m:r>
                    <m:sSubSup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-Cla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2040" y="15825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1.5 perio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279520" y="1447920"/>
                <a:ext cx="609300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sup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π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πt</m:t>
                    </m:r>
                    <m:sSubSup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431280" y="249696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628640" y="2286000"/>
                <a:ext cx="233676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Pr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limUpp>
                              <m:e/>
                              <m:lim/>
                            </m:limUp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469440" y="351648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ne perio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2040" y="45165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1.5 perio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095560" y="3365640"/>
                <a:ext cx="56894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π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d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πt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t xml:space="preserve">8</m:t>
                            </m:r>
                            <m:r>
                              <m:t xml:space="preserve">π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236680" y="4381560"/>
                <a:ext cx="35006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π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π</m:t>
                                    </m:r>
                                  </m:den>
                                </m:f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089480" y="5978160"/>
            <a:ext cx="16254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11240" y="2890800"/>
            <a:ext cx="5624640" cy="3416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346040" y="263520"/>
            <a:ext cx="617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oot-Mean-Square (rm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028160" y="1155600"/>
            <a:ext cx="3143880" cy="1381320"/>
            <a:chOff x="1028160" y="1155600"/>
            <a:chExt cx="3143880" cy="1381320"/>
          </a:xfrm>
        </p:grpSpPr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1052640" y="1609560"/>
                  <a:ext cx="3119400" cy="92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≡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</m:nary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70" name=""/>
            <p:cNvSpPr/>
            <p:nvPr/>
          </p:nvSpPr>
          <p:spPr>
            <a:xfrm>
              <a:off x="1028160" y="1155600"/>
              <a:ext cx="31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 a continuous waveform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4802040" y="1123920"/>
            <a:ext cx="2838240" cy="1424160"/>
            <a:chOff x="4802040" y="1123920"/>
            <a:chExt cx="2838240" cy="1424160"/>
          </a:xfrm>
        </p:grpSpPr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5148360" y="1481040"/>
                  <a:ext cx="2192400" cy="106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≡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nary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>
              <a:off x="4802040" y="1123920"/>
              <a:ext cx="283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 a discrete waveform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7072200" y="4160880"/>
                <a:ext cx="140040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≥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-Class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7880" y="1328760"/>
            <a:ext cx="670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the rms for 3 cycles of the ramp function y(t) = At/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857240" y="1886040"/>
          <a:ext cx="5486400" cy="192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240" y="1886040"/>
                    <a:ext cx="5486400" cy="19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1055520" y="280836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441920" y="3519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16280" y="2322360"/>
            <a:ext cx="115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35400" y="2111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08480" y="3751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03280" y="37814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83160" y="378144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33960" y="376704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7280" y="4710240"/>
            <a:ext cx="30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kind of signal is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03920" y="471024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eriod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0160" y="5521320"/>
            <a:ext cx="61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periods must be considered for this wavefor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196040" y="5508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-Class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804960" y="1274760"/>
                <a:ext cx="367668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446120" y="2378160"/>
                <a:ext cx="3048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449360" y="3541680"/>
                <a:ext cx="301644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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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460520" y="4662360"/>
                <a:ext cx="235908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96" name=""/>
          <p:cNvGrpSpPr/>
          <p:nvPr/>
        </p:nvGrpSpPr>
        <p:grpSpPr>
          <a:xfrm>
            <a:off x="3913200" y="4745160"/>
            <a:ext cx="3096360" cy="966600"/>
            <a:chOff x="3913200" y="4745160"/>
            <a:chExt cx="3096360" cy="966600"/>
          </a:xfrm>
        </p:grpSpPr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3913200" y="4745160"/>
                  <a:ext cx="838080" cy="96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8" name=""/>
            <p:cNvSpPr/>
            <p:nvPr/>
          </p:nvSpPr>
          <p:spPr>
            <a:xfrm>
              <a:off x="4925520" y="5024160"/>
              <a:ext cx="208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 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= 0 and 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= 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766800" y="6075360"/>
            <a:ext cx="34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mean value of y(t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69120" y="60595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5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-Cla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9520" y="1392120"/>
            <a:ext cx="598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rms of x(t) = 3sin(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) for one peri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85800" y="2165400"/>
                <a:ext cx="734544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3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4</m:t>
                                    </m:r>
                                    <m:r>
                                      <m:t xml:space="preserve">π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  <m:r>
                                  <m:t xml:space="preserve">π</m:t>
                                </m:r>
                              </m:den>
                            </m:f>
                          </m:e>
                        </m:d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π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8</m:t>
                                </m:r>
                                <m:r>
                                  <m:t xml:space="preserve">π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e/>
                      <m:e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2563200" y="365616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6:23:58Z</dcterms:created>
  <dc:creator>pdunn</dc:creator>
  <dc:description/>
  <dc:language>en-US</dc:language>
  <cp:lastModifiedBy>Patrick Dunn</cp:lastModifiedBy>
  <dcterms:modified xsi:type="dcterms:W3CDTF">2008-03-27T21:36:16Z</dcterms:modified>
  <cp:revision>49</cp:revision>
  <dc:subject/>
  <dc:title>Signal Characteristics</dc:title>
</cp:coreProperties>
</file>