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C21-8FC1-4912-963A-5D250A12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2AD-73C7-4CF2-9D83-05C2D13D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163-93B8-49C6-B4D6-E02F2354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333-5958-4B0C-934F-6529746A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BBB-66B5-4BE4-A920-C15E526C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FE4-2664-4D29-8F81-69DCC2CD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C94-94B3-4EA2-B2FE-3A897D82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405-4D76-4A26-8945-3ED1BF19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C1C-883A-4C61-8B42-D2BBABDF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8CA-E20A-49EC-B944-D216786E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F39-2F51-4200-AB6A-718AF5F0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2CF5-2040-4DD2-98E8-236F6FB5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82C5-ACA6-4B09-9CAA-5A1E3376D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38280" y="422280"/>
            <a:ext cx="4116600" cy="6054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79840" y="3174840"/>
            <a:ext cx="3555720" cy="54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981600" y="3975120"/>
            <a:ext cx="1955520" cy="838080"/>
            <a:chOff x="3981600" y="3975120"/>
            <a:chExt cx="1955520" cy="838080"/>
          </a:xfrm>
        </p:grpSpPr>
        <p:sp>
          <p:nvSpPr>
            <p:cNvPr id="44" name=""/>
            <p:cNvSpPr/>
            <p:nvPr/>
          </p:nvSpPr>
          <p:spPr>
            <a:xfrm>
              <a:off x="3981600" y="39751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89240" y="4813200"/>
              <a:ext cx="1847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711520" y="5518080"/>
            <a:ext cx="34923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679840" y="5530680"/>
            <a:ext cx="3492360" cy="615960"/>
            <a:chOff x="2679840" y="5530680"/>
            <a:chExt cx="3492360" cy="615960"/>
          </a:xfrm>
        </p:grpSpPr>
        <p:sp>
          <p:nvSpPr>
            <p:cNvPr id="48" name=""/>
            <p:cNvSpPr/>
            <p:nvPr/>
          </p:nvSpPr>
          <p:spPr>
            <a:xfrm>
              <a:off x="2679840" y="5530680"/>
              <a:ext cx="3492360" cy="615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79840" y="5886360"/>
              <a:ext cx="253800" cy="139680"/>
            </a:xfrm>
            <a:prstGeom prst="rect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4600" y="141084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that a student will score between 75 and 90 on an exam, assuming that the scores are based on 9 students, with a mean of 60 and a standard deviation of 15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24840" y="3525840"/>
            <a:ext cx="908424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75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(75-60)/15 = 1 and t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9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(90-60)/15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o-sided t-table for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8 &gt;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75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0.6534 and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9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0.9195 (better use Table 8.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gt;&gt;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75 to 9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[0.9195 – 0.6534]/2 = 0.13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66680" y="361440"/>
            <a:ext cx="56466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es Made Using 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8520" y="149868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ifferent statistical estimates can be made using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1] the value of the next sample value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400560" y="3090960"/>
                <a:ext cx="23778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26" name=""/>
          <p:cNvGrpSpPr/>
          <p:nvPr/>
        </p:nvGrpSpPr>
        <p:grpSpPr>
          <a:xfrm>
            <a:off x="734400" y="4289400"/>
            <a:ext cx="5538960" cy="1657440"/>
            <a:chOff x="734400" y="4289400"/>
            <a:chExt cx="5538960" cy="165744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3216240" y="4815000"/>
                  <a:ext cx="2745000" cy="11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ν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734400" y="4289400"/>
              <a:ext cx="553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[2] the value of the true mean, x‘, w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8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3560" y="1627200"/>
            <a:ext cx="3059280" cy="4033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06560" y="2340000"/>
                <a:ext cx="10825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949320" y="2755800"/>
                <a:ext cx="1241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740760" y="1023840"/>
            <a:ext cx="49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1] p range that contains the next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P = 9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049720" y="1619280"/>
                <a:ext cx="3743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,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,</m:t>
                            </m:r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723480" y="26640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2] same but for N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776760" y="3094200"/>
                <a:ext cx="50464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723480" y="382572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3] for N = 19 and P = 5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778200" y="4343400"/>
                <a:ext cx="5089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8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725640" y="5146560"/>
            <a:ext cx="41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4] p range that contains the true me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812960" y="5664240"/>
                <a:ext cx="702612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6</m:t>
                        </m:r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8170920" y="2568600"/>
            <a:ext cx="625320" cy="3730680"/>
            <a:chOff x="8170920" y="2568600"/>
            <a:chExt cx="625320" cy="3730680"/>
          </a:xfrm>
        </p:grpSpPr>
        <p:sp>
          <p:nvSpPr>
            <p:cNvPr id="142" name=""/>
            <p:cNvSpPr/>
            <p:nvPr/>
          </p:nvSpPr>
          <p:spPr>
            <a:xfrm>
              <a:off x="8186760" y="256860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70920" y="3556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29600" y="4789440"/>
              <a:ext cx="550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8040" y="6299280"/>
              <a:ext cx="52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MATLA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3080" y="1459080"/>
            <a:ext cx="82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pdf(t,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s the value of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63600" y="2298600"/>
            <a:ext cx="8480520" cy="777960"/>
            <a:chOff x="363600" y="2298600"/>
            <a:chExt cx="8480520" cy="77796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627440" y="2298600"/>
                  <a:ext cx="257508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∗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363600" y="2408400"/>
              <a:ext cx="8480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mm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df(t*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g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57120" y="3360600"/>
            <a:ext cx="856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v(P,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from the cd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1000" y="4224240"/>
            <a:ext cx="856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v([1-P]/2,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s 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2960" y="5130720"/>
            <a:ext cx="856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v([1+P]/2,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s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96280" y="6021360"/>
            <a:ext cx="1379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8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55840" y="2382840"/>
            <a:ext cx="6092640" cy="4224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77240" y="365040"/>
            <a:ext cx="77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Standard Deviation of the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" y="1509840"/>
            <a:ext cx="18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5800" y="1095480"/>
            <a:ext cx="83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deviation of the me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SDOM) is the standard deviation of the means determined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ts of finite data, each consistin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ples of a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DOM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85920" y="1525680"/>
            <a:ext cx="6511680" cy="469080"/>
            <a:chOff x="385920" y="1525680"/>
            <a:chExt cx="6511680" cy="469080"/>
          </a:xfrm>
        </p:grpSpPr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6154560" y="1525680"/>
                  <a:ext cx="34884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385920" y="1535040"/>
              <a:ext cx="651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DOM allows us to estimate x' from    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14280" y="6234120"/>
            <a:ext cx="844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5920" y="2619360"/>
            <a:ext cx="8432640" cy="1400040"/>
            <a:chOff x="385920" y="2619360"/>
            <a:chExt cx="8432640" cy="1400040"/>
          </a:xfrm>
        </p:grpSpPr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427560" y="3357720"/>
                  <a:ext cx="209520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/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62" name=""/>
            <p:cNvSpPr/>
            <p:nvPr/>
          </p:nvSpPr>
          <p:spPr>
            <a:xfrm>
              <a:off x="385920" y="2619360"/>
              <a:ext cx="8432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 can be shown that the SDOM is related to the standard     deviation of any one sample b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28760" y="4229280"/>
            <a:ext cx="84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DOM follow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istribution centered about the mean of the mean values, even if the sampled population is no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DOM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8880" y="1400040"/>
            <a:ext cx="808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DOM can be used to infer the true mean from the sample m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630520" y="2154240"/>
                <a:ext cx="3530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4586400" y="2119320"/>
            <a:ext cx="1393560" cy="2060640"/>
            <a:chOff x="4586400" y="2119320"/>
            <a:chExt cx="1393560" cy="2060640"/>
          </a:xfrm>
        </p:grpSpPr>
        <p:sp>
          <p:nvSpPr>
            <p:cNvPr id="68" name=""/>
            <p:cNvSpPr/>
            <p:nvPr/>
          </p:nvSpPr>
          <p:spPr>
            <a:xfrm>
              <a:off x="4586400" y="2119320"/>
              <a:ext cx="1393560" cy="8398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08400" y="3164040"/>
              <a:ext cx="378000" cy="609480"/>
            </a:xfrm>
            <a:prstGeom prst="upArrow">
              <a:avLst>
                <a:gd name="adj1" fmla="val 50000"/>
                <a:gd name="adj2" fmla="val 4031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59280" y="38116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D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88880" y="4549680"/>
            <a:ext cx="83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 that the sample mean approaches the true mean of the population as the sample size, N, becomes very larg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379600" y="2828880"/>
            <a:ext cx="2120760" cy="1365120"/>
            <a:chOff x="2379600" y="2828880"/>
            <a:chExt cx="2120760" cy="1365120"/>
          </a:xfrm>
        </p:grpSpPr>
        <p:sp>
          <p:nvSpPr>
            <p:cNvPr id="73" name=""/>
            <p:cNvSpPr/>
            <p:nvPr/>
          </p:nvSpPr>
          <p:spPr>
            <a:xfrm flipV="1">
              <a:off x="3686040" y="2828880"/>
              <a:ext cx="493560" cy="930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79600" y="3825720"/>
              <a:ext cx="21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dent’s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t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’s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8520" y="1296720"/>
            <a:ext cx="843264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iam Gosset, Guinness brewer and statistician, derived Student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ion, publishing under the pseudonym ‘Student’ in 19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8520" y="2617920"/>
            <a:ext cx="83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dent’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istribution describes how the members of a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m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mple selected randomly from a normal distribution ar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98520" y="3940200"/>
            <a:ext cx="8461440" cy="2182680"/>
            <a:chOff x="398520" y="3940200"/>
            <a:chExt cx="8461440" cy="2182680"/>
          </a:xfrm>
        </p:grpSpPr>
        <p:sp>
          <p:nvSpPr>
            <p:cNvPr id="79" name=""/>
            <p:cNvSpPr/>
            <p:nvPr/>
          </p:nvSpPr>
          <p:spPr>
            <a:xfrm>
              <a:off x="398520" y="3940200"/>
              <a:ext cx="846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 are an infinite number of Stude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istributions, one for each valu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s specified b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187720" y="4903920"/>
                  <a:ext cx="5243400" cy="121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,</m:t>
                      </m:r>
                      <m:r>
                        <m:t xml:space="preserve">ν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Γ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(</m:t>
                              </m:r>
                              <m:r>
                                <m:t xml:space="preserve">ν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πν</m:t>
                              </m:r>
                            </m:e>
                          </m:rad>
                          <m:r>
                            <m:t xml:space="preserve">Γ</m:t>
                          </m:r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ν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)</m:t>
                          </m:r>
                        </m:den>
                      </m:f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ν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ν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15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’s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Normal Distrib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3080" y="1128600"/>
            <a:ext cx="6118200" cy="506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9360" y="630720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960720" y="1130400"/>
            <a:ext cx="4942080" cy="4313160"/>
            <a:chOff x="3960720" y="1130400"/>
            <a:chExt cx="4942080" cy="4313160"/>
          </a:xfrm>
        </p:grpSpPr>
        <p:sp>
          <p:nvSpPr>
            <p:cNvPr id="85" name=""/>
            <p:cNvSpPr/>
            <p:nvPr/>
          </p:nvSpPr>
          <p:spPr>
            <a:xfrm>
              <a:off x="6615000" y="1130400"/>
              <a:ext cx="22878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small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Student’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derestimates the normal in the center, and overestimates it on the wing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3960720" y="1944720"/>
              <a:ext cx="2671920" cy="404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427720" y="2887560"/>
              <a:ext cx="1249200" cy="255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990600" y="1857240"/>
            <a:ext cx="4842360" cy="3540960"/>
            <a:chOff x="3990600" y="1857240"/>
            <a:chExt cx="4842360" cy="3540960"/>
          </a:xfrm>
        </p:grpSpPr>
        <p:sp>
          <p:nvSpPr>
            <p:cNvPr id="89" name=""/>
            <p:cNvSpPr/>
            <p:nvPr/>
          </p:nvSpPr>
          <p:spPr>
            <a:xfrm>
              <a:off x="6629400" y="4084560"/>
              <a:ext cx="22035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large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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tudent’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pproaches the norm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990600" y="1857240"/>
              <a:ext cx="2700360" cy="240984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99960" y="201240"/>
            <a:ext cx="54277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82440" y="613404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ure 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5040" y="1297080"/>
            <a:ext cx="5844960" cy="4771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04720" y="2141640"/>
            <a:ext cx="315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son of difference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s (probabilities)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0 to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293840" y="2546280"/>
            <a:ext cx="7731720" cy="3084480"/>
            <a:chOff x="1293840" y="2546280"/>
            <a:chExt cx="7731720" cy="3084480"/>
          </a:xfrm>
        </p:grpSpPr>
        <p:grpSp>
          <p:nvGrpSpPr>
            <p:cNvPr id="96" name=""/>
            <p:cNvGrpSpPr/>
            <p:nvPr/>
          </p:nvGrpSpPr>
          <p:grpSpPr>
            <a:xfrm>
              <a:off x="6388200" y="2546280"/>
              <a:ext cx="2637360" cy="2997360"/>
              <a:chOff x="6388200" y="2546280"/>
              <a:chExt cx="2637360" cy="2997360"/>
            </a:xfrm>
          </p:grpSpPr>
          <p:sp>
            <p:nvSpPr>
              <p:cNvPr id="97" name=""/>
              <p:cNvSpPr/>
              <p:nvPr/>
            </p:nvSpPr>
            <p:spPr>
              <a:xfrm>
                <a:off x="6581520" y="2546280"/>
                <a:ext cx="2444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fference &lt; 1 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≥ 4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6388200" y="3395520"/>
                <a:ext cx="1247760" cy="214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293840" y="5283000"/>
              <a:ext cx="378000" cy="3477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70200" y="6324120"/>
            <a:ext cx="955800" cy="2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8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92800" y="1569960"/>
            <a:ext cx="1955880" cy="1612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97920" y="220680"/>
            <a:ext cx="36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udent’s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84080" y="1494000"/>
            <a:ext cx="5189760" cy="5162400"/>
            <a:chOff x="784080" y="1494000"/>
            <a:chExt cx="5189760" cy="516240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792000" y="1494000"/>
              <a:ext cx="5181840" cy="51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84080" y="1798560"/>
              <a:ext cx="149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77960" y="90504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s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a giv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P % confidenc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773520" y="1901880"/>
            <a:ext cx="4770360" cy="4527360"/>
            <a:chOff x="3773520" y="1901880"/>
            <a:chExt cx="4770360" cy="4527360"/>
          </a:xfrm>
        </p:grpSpPr>
        <p:sp>
          <p:nvSpPr>
            <p:cNvPr id="108" name=""/>
            <p:cNvSpPr/>
            <p:nvPr/>
          </p:nvSpPr>
          <p:spPr>
            <a:xfrm>
              <a:off x="5847120" y="334476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amine P = 95 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73520" y="1901880"/>
              <a:ext cx="739800" cy="4527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640120" y="3956040"/>
            <a:ext cx="30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N = 12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414680" y="3817440"/>
            <a:ext cx="4056120" cy="2368440"/>
            <a:chOff x="4414680" y="3817440"/>
            <a:chExt cx="4056120" cy="2368440"/>
          </a:xfrm>
        </p:grpSpPr>
        <p:sp>
          <p:nvSpPr>
            <p:cNvPr id="112" name=""/>
            <p:cNvSpPr/>
            <p:nvPr/>
          </p:nvSpPr>
          <p:spPr>
            <a:xfrm>
              <a:off x="5924880" y="4578480"/>
              <a:ext cx="25459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 = 1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gt;&gt;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N – 1 = 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1,95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2.2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4414680" y="3817440"/>
              <a:ext cx="1828800" cy="1930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ties for Values of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,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9400" y="618336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ble 8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08120" y="2282760"/>
          <a:ext cx="5284440" cy="3556080"/>
        </p:xfrm>
        <a:graphic>
          <a:graphicData uri="http://schemas.openxmlformats.org/drawingml/2006/table">
            <a:tbl>
              <a:tblPr/>
              <a:tblGrid>
                <a:gridCol w="1258560"/>
                <a:gridCol w="1258920"/>
                <a:gridCol w="1258920"/>
                <a:gridCol w="1508040"/>
              </a:tblGrid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,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P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P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=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P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=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6469560" y="2492280"/>
            <a:ext cx="1468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=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68.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95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99.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99.9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0960" y="1425600"/>
            <a:ext cx="71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, getting %P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0:08:15Z</dcterms:created>
  <dc:creator> </dc:creator>
  <dc:description/>
  <dc:language>en-US</dc:language>
  <cp:lastModifiedBy>Patrick Dunn</cp:lastModifiedBy>
  <dcterms:modified xsi:type="dcterms:W3CDTF">2008-03-25T17:33:15Z</dcterms:modified>
  <cp:revision>78</cp:revision>
  <dc:subject/>
  <dc:title>Slide 1</dc:title>
</cp:coreProperties>
</file>