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621-BA0C-4963-8950-0D6E07BD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376-02FD-4E18-AADC-60769C0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898-4524-4C71-9C02-D2B1498F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2BB-08F2-4414-A1FC-E5911EE1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D88-5292-472D-9A6F-C91C5C8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92A-F6B0-4946-978E-D014DDD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D7C-0F33-42F7-8D96-9C0C13D4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D65-6EE9-4D5B-AC1B-F618B97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5DC-376D-465D-935F-F2F8444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3B7-C821-4AE6-A382-3D0FF68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81B-B88A-492A-BC29-61CA879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2B4-0CB8-48DD-B3BB-A738B737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F3BF-B84F-43D0-A0C8-AB9A5522B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d.edu/~pdunn/www.ame250/mometern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80" y="1487520"/>
            <a:ext cx="900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, y(t), of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 can be determ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olving the linear 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the a’s are constant coefficients, n the order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, and F(t) the forcing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First-Ord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0" t="0" r="18189" b="65379"/>
          <a:stretch/>
        </p:blipFill>
        <p:spPr>
          <a:xfrm>
            <a:off x="5943600" y="1523880"/>
            <a:ext cx="2057400" cy="12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5200" y="1523880"/>
            <a:ext cx="49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response of a bulb 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immersed from room air into hot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3760" y="2286000"/>
            <a:ext cx="52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is transferred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 wall into the 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coo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quid inside the bul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560" y="3160800"/>
            <a:ext cx="80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hermal energy transfer is governed by the first law of thermo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4120" y="4343400"/>
            <a:ext cx="69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is transferred convectively to the glass from the hot wate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6760" y="722160"/>
            <a:ext cx="79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all of the heat transferred from the hot water through the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liquid inside the bulb, thereby increasing the temperatur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. Conservation of energy requi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280" y="2932200"/>
            <a:ext cx="43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the previous equations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8920" y="4572000"/>
            <a:ext cx="79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linear, first-order ordinary differential equation, which is of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-Ord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2800" y="1468440"/>
            <a:ext cx="46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zero-order system (n=0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7640" y="210348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strain gage, pitot-static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8520" y="3125880"/>
            <a:ext cx="46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irst-order system (n=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9200" y="3836880"/>
            <a:ext cx="54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thermometer, R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8440" y="4903920"/>
            <a:ext cx="50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econd-order system (n=2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2160" y="5589720"/>
            <a:ext cx="72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pressure transducer, accelerome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C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15:57Z</dcterms:created>
  <dc:creator>Patrick Dunn</dc:creator>
  <dc:description/>
  <dc:language>en-US</dc:language>
  <cp:lastModifiedBy>Patrick Dunn</cp:lastModifiedBy>
  <dcterms:modified xsi:type="dcterms:W3CDTF">2008-02-18T20:42:55Z</dcterms:modified>
  <cp:revision>44</cp:revision>
  <dc:subject/>
  <dc:title>Intrinsically Linear Variables</dc:title>
</cp:coreProperties>
</file>