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CE6-C364-46CA-A29F-F7FEFC7D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D27-E67F-4763-93FD-1A922EF9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81E-C770-4F9F-8146-633E6A86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6FA-5AF3-417D-B76A-9747E52A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CB7-608B-484C-878B-A1549BFF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ADF-E1A6-4877-B72C-4C78AB75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A6E-D6A5-4F7A-8B82-820D67CE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5E9-C47F-41C6-91D5-7C17EE37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CBF-9921-4611-BFB9-613DBE29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4AC-0C15-4855-8801-E840F960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1B4-4971-43E7-B47A-E511D69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2F4-B65D-4ADC-9AF1-EA702DD8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1D39-F4C0-47F1-9688-24EFBE118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etermines an Appropriate Fit between Theory and Da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5436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09800" y="52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7295" t="21130" r="0" b="7611"/>
          <a:stretch/>
        </p:blipFill>
        <p:spPr>
          <a:xfrm>
            <a:off x="1828800" y="1030320"/>
            <a:ext cx="5079960" cy="5370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Correct, if Eith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an Appropriate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05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a ‘fit’ between two variables (x and y), one must consider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s of the uncertain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x and y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underlying physical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43000" y="2895480"/>
          <a:ext cx="4876560" cy="3554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219320"/>
                <a:gridCol w="1523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 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80880" y="2286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6 possibilities to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1066320"/>
            <a:ext cx="4038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;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 incorrect f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model: E=0.5k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8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6520" y="1066320"/>
            <a:ext cx="4038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;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correct f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4864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1066320"/>
            <a:ext cx="4038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33412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2000" y="23223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calexey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3:06:21Z</dcterms:created>
  <dc:creator>Patrick Dunn</dc:creator>
  <dc:description/>
  <dc:language>en-US</dc:language>
  <cp:lastModifiedBy>Patrick Dunn</cp:lastModifiedBy>
  <dcterms:modified xsi:type="dcterms:W3CDTF">2008-01-16T19:48:53Z</dcterms:modified>
  <cp:revision>15</cp:revision>
  <dc:subject/>
  <dc:title>Determining an Appropriate Fit</dc:title>
</cp:coreProperties>
</file>