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8C3-A65A-4C0B-8FCE-D8DBA605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E5F-1941-4311-A3B3-E26152D4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A1B-57C7-459A-B26B-FED9A8C0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454-F3D7-4D3D-97F3-36C4EC1F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9CB-6414-46C5-88CA-6CA08251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678-EBE5-436B-8C97-0D3E60E7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1B9-2D4B-4E16-B909-05BD8C77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663-EA59-4996-AFD0-B0B4D6C6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B64-50A3-4587-A677-6E70152B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1B7-86C7-4450-B5F5-87F17C09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1F4-397C-479E-AE9E-866EF35C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ACA6-BF32-43D4-BCF6-717C2232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4F05-8C84-44F2-BCEF-CE6F9B625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7: PROB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331632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48320" y="1752480"/>
            <a:ext cx="4038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deal in large numbers, probabilities are the same as certainties. I wouldn’t bet my life on the toss of a single coin, but I would, with great confidence, bet on heads appearing between 49 % and 51 % of the throws of a coin if the number of tosses was 1 bill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an Silver, 1998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scent of Sci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xford University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20160" y="5940360"/>
            <a:ext cx="36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ld English Text MT"/>
              </a:rPr>
              <a:t>Sir Francis Galton’s Quincun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ing Population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81280" cy="289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504960" cy="2892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7160" y="4648320"/>
            <a:ext cx="76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digital values: 1.5, 1.0, 2.5, 4.0, 3.5, 2.0, 2.5, 3.0, 2.5 and 0.5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5720" y="510552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rted in order: 0.5, 1.0, 1.5, 2.0, 2.5, 2.5, 3.0, 3.5, 4.0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99480" y="12952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129528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4640" y="5562720"/>
            <a:ext cx="660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9 occurrences; j = 8 cells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occurrences in j-th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oice of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4876920" cy="3909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88800" y="3581280"/>
            <a:ext cx="29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←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made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using 3histos.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8000" y="1371600"/>
            <a:ext cx="735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oice of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is critical to the interpretation of the hist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x Ch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724280" cy="379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89560" y="1306440"/>
            <a:ext cx="64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we construct equal-width-interval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togram Construction Rul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7680" y="1459080"/>
            <a:ext cx="801684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struct equal-width histogra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minimum and maximum values of x and its range wher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K class intervals (usually use K = 1.15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j = 1 to K) in each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nterval. No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∑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ck that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gt; 5 an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nj versus x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where x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idpoint value of each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5329080" cy="4432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012800" y="62485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7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quency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990720"/>
            <a:ext cx="7696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plot of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N versus magnitu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y similar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hist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51640" y="480060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←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made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using hf.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ty Density Function Con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-2180" b="0"/>
          <a:stretch/>
        </p:blipFill>
        <p:spPr>
          <a:xfrm>
            <a:off x="1143000" y="1752480"/>
            <a:ext cx="7086600" cy="3556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41200" y="2133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7120" y="1295280"/>
            <a:ext cx="40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signal that varies i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8920" y="5562720"/>
            <a:ext cx="76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bability that the signal at a future time will reside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nd x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ty Density Function (pd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446360" cy="868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162920" y="2438280"/>
            <a:ext cx="1600200" cy="868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295280" y="3733920"/>
            <a:ext cx="6404040" cy="969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11640" y="137160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09480" y="2133720"/>
            <a:ext cx="6354720" cy="1199880"/>
            <a:chOff x="609480" y="2133720"/>
            <a:chExt cx="6354720" cy="1199880"/>
          </a:xfrm>
        </p:grpSpPr>
        <p:pic>
          <p:nvPicPr>
            <p:cNvPr id="80" name="" descr=""/>
            <p:cNvPicPr/>
            <p:nvPr/>
          </p:nvPicPr>
          <p:blipFill>
            <a:blip r:embed="rId4"/>
            <a:stretch/>
          </p:blipFill>
          <p:spPr>
            <a:xfrm>
              <a:off x="762120" y="2514600"/>
              <a:ext cx="620208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09480" y="2133720"/>
              <a:ext cx="112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x(t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87600" y="4952880"/>
            <a:ext cx="7080120" cy="1444680"/>
            <a:chOff x="687600" y="4952880"/>
            <a:chExt cx="7080120" cy="1444680"/>
          </a:xfrm>
        </p:grpSpPr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1295280" y="5334120"/>
              <a:ext cx="647244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87600" y="4952880"/>
              <a:ext cx="22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n occurrenc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20:19:31Z</dcterms:created>
  <dc:creator>pdunn</dc:creator>
  <dc:description/>
  <dc:language>en-US</dc:language>
  <cp:lastModifiedBy>Patrick Dunn</cp:lastModifiedBy>
  <dcterms:modified xsi:type="dcterms:W3CDTF">2008-03-25T17:18:15Z</dcterms:modified>
  <cp:revision>79</cp:revision>
  <dc:subject/>
  <dc:title>Chapter 2: UNITS &amp; SIGNIFICANT FIGURES</dc:title>
</cp:coreProperties>
</file>