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4A2-6C18-4256-B1AB-15E582E4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A08-1D99-40F5-98B0-DAECFCF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B52-C4F7-4503-A297-8990D218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AF2-E4F6-4229-A721-7068DD5B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7B6-941F-4117-8C36-77C023C2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51C-C8BA-4483-86C9-8C628525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CA3-A785-47EB-BA1D-AC72DBD9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394-8DED-4E1E-AAD9-EEB4E963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80A-1EFC-4774-B27B-61B4C98A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B8BF-9050-42AC-A66F-B55074A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1C7-2FE5-4577-B3F7-268F8BD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F9C-D778-4D11-AABB-412F987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DAC-8C64-42A5-B776-F1775C47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4320" y="500040"/>
            <a:ext cx="671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0 Tacoma Narrows Bridge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www.enm.bris.ac.uk/research/nonlinear/tacoma/tacoma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75120" y="3992400"/>
            <a:ext cx="2979720" cy="199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6080" y="4000680"/>
            <a:ext cx="2689200" cy="200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105520" y="1765440"/>
            <a:ext cx="2536560" cy="181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200240" y="1724040"/>
            <a:ext cx="27223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440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l off (dB/deca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9600" y="1335240"/>
            <a:ext cx="6433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54360" y="2954160"/>
            <a:ext cx="4866840" cy="459720"/>
            <a:chOff x="54360" y="2954160"/>
            <a:chExt cx="4866840" cy="459720"/>
          </a:xfrm>
        </p:grpSpPr>
        <p:sp>
          <p:nvSpPr>
            <p:cNvPr id="131" name=""/>
            <p:cNvSpPr/>
            <p:nvPr/>
          </p:nvSpPr>
          <p:spPr>
            <a:xfrm flipH="1" flipV="1">
              <a:off x="2076480" y="3163680"/>
              <a:ext cx="2844720" cy="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12920" y="3164040"/>
              <a:ext cx="552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360" y="2954160"/>
              <a:ext cx="14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 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89640" y="5710320"/>
            <a:ext cx="1700640" cy="459720"/>
            <a:chOff x="-89640" y="5710320"/>
            <a:chExt cx="1700640" cy="459720"/>
          </a:xfrm>
        </p:grpSpPr>
        <p:sp>
          <p:nvSpPr>
            <p:cNvPr id="135" name=""/>
            <p:cNvSpPr/>
            <p:nvPr/>
          </p:nvSpPr>
          <p:spPr>
            <a:xfrm flipH="1">
              <a:off x="1190160" y="5973840"/>
              <a:ext cx="420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89640" y="5710320"/>
              <a:ext cx="165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40 d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35600" y="1617840"/>
            <a:ext cx="2828880" cy="459720"/>
            <a:chOff x="4935600" y="1617840"/>
            <a:chExt cx="2828880" cy="459720"/>
          </a:xfrm>
        </p:grpSpPr>
        <p:sp>
          <p:nvSpPr>
            <p:cNvPr id="138" name=""/>
            <p:cNvSpPr/>
            <p:nvPr/>
          </p:nvSpPr>
          <p:spPr>
            <a:xfrm>
              <a:off x="4935600" y="1654200"/>
              <a:ext cx="2828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7840" y="1617840"/>
              <a:ext cx="176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935600" y="3178080"/>
            <a:ext cx="2828880" cy="2801880"/>
            <a:chOff x="4935600" y="3178080"/>
            <a:chExt cx="2828880" cy="2801880"/>
          </a:xfrm>
        </p:grpSpPr>
        <p:sp>
          <p:nvSpPr>
            <p:cNvPr id="141" name=""/>
            <p:cNvSpPr/>
            <p:nvPr/>
          </p:nvSpPr>
          <p:spPr>
            <a:xfrm>
              <a:off x="4935600" y="3178080"/>
              <a:ext cx="2828880" cy="280188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732640" y="3598920"/>
              <a:ext cx="566640" cy="334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46480" y="3127320"/>
            <a:ext cx="30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40-(-3)]/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37 dB/dec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r System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9000" y="936720"/>
            <a:ext cx="36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[F(t)=KA]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54200" y="1528920"/>
                <a:ext cx="2617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1"/>
          <a:srcRect l="0" t="0" r="48938" b="0"/>
          <a:stretch/>
        </p:blipFill>
        <p:spPr>
          <a:xfrm>
            <a:off x="333360" y="2160720"/>
            <a:ext cx="2962440" cy="43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267080" y="1117440"/>
            <a:ext cx="0" cy="5342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55680" y="3722760"/>
                <a:ext cx="28497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159000" y="602784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/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192920" y="936720"/>
            <a:ext cx="4730400" cy="5743440"/>
            <a:chOff x="4192920" y="936720"/>
            <a:chExt cx="4730400" cy="5743440"/>
          </a:xfrm>
        </p:grpSpPr>
        <p:sp>
          <p:nvSpPr>
            <p:cNvPr id="152" name=""/>
            <p:cNvSpPr/>
            <p:nvPr/>
          </p:nvSpPr>
          <p:spPr>
            <a:xfrm>
              <a:off x="4192920" y="936720"/>
              <a:ext cx="45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Si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put [F(t)=KAsi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)]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4591080" y="2220840"/>
              <a:ext cx="2736720" cy="21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4556160" y="4494240"/>
              <a:ext cx="2759040" cy="2185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6381720" y="2805120"/>
                  <a:ext cx="23065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6132600" y="4957920"/>
                  <a:ext cx="27907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sSup>
                        <m:e>
                          <m:r>
                            <m:t xml:space="preserve">(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</m:e>
                      </m: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4484520" y="1450800"/>
                  <a:ext cx="42814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7550280" y="599112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23148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r System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9000" y="936720"/>
            <a:ext cx="36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[F(t)=KA]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117440"/>
            <a:ext cx="0" cy="5342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4640" y="5533920"/>
            <a:ext cx="893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4600" y="2365200"/>
            <a:ext cx="3855960" cy="3130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5840" y="1525680"/>
            <a:ext cx="313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) = f(KA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92920" y="936720"/>
            <a:ext cx="4827240" cy="5787000"/>
            <a:chOff x="4192920" y="936720"/>
            <a:chExt cx="4827240" cy="5787000"/>
          </a:xfrm>
        </p:grpSpPr>
        <p:sp>
          <p:nvSpPr>
            <p:cNvPr id="166" name=""/>
            <p:cNvSpPr/>
            <p:nvPr/>
          </p:nvSpPr>
          <p:spPr>
            <a:xfrm>
              <a:off x="4192920" y="936720"/>
              <a:ext cx="45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"/>
                </a:rPr>
                <a:t>Sin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put [F(t)=KAsi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)]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4546440" y="2203560"/>
              <a:ext cx="279720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465800" y="4411800"/>
              <a:ext cx="289368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434120" y="1531800"/>
              <a:ext cx="3341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(t) = f(KA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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1800" y="6005520"/>
              <a:ext cx="1285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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486480" y="2695680"/>
              <a:ext cx="2440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6192720" y="4527720"/>
              <a:ext cx="262440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6192720" y="4903920"/>
              <a:ext cx="2827440" cy="45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9000" y="174600"/>
            <a:ext cx="878040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-Order Syste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ynamic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93680" y="146988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xpression for a 2nd-order syst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108240" y="1974960"/>
                <a:ext cx="27748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" name=""/>
          <p:cNvGrpSpPr/>
          <p:nvPr/>
        </p:nvGrpSpPr>
        <p:grpSpPr>
          <a:xfrm>
            <a:off x="209520" y="2482920"/>
            <a:ext cx="8686800" cy="1504800"/>
            <a:chOff x="209520" y="2482920"/>
            <a:chExt cx="8686800" cy="1504800"/>
          </a:xfrm>
        </p:grpSpPr>
        <p:sp>
          <p:nvSpPr>
            <p:cNvPr id="51" name=""/>
            <p:cNvSpPr/>
            <p:nvPr/>
          </p:nvSpPr>
          <p:spPr>
            <a:xfrm>
              <a:off x="209520" y="2482920"/>
              <a:ext cx="868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a linear 2nd-order ODE, which can be rearranged 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746440" y="2932200"/>
                  <a:ext cx="358920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  <m:acc>
                        <m:accPr>
                          <m:chr m:val="¨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ξ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231840" y="4076640"/>
            <a:ext cx="8723160" cy="1449720"/>
            <a:chOff x="231840" y="4076640"/>
            <a:chExt cx="8723160" cy="1449720"/>
          </a:xfrm>
        </p:grpSpPr>
        <p:grpSp>
          <p:nvGrpSpPr>
            <p:cNvPr id="54" name=""/>
            <p:cNvGrpSpPr/>
            <p:nvPr/>
          </p:nvGrpSpPr>
          <p:grpSpPr>
            <a:xfrm>
              <a:off x="231840" y="4076640"/>
              <a:ext cx="8723160" cy="1449720"/>
              <a:chOff x="231840" y="4076640"/>
              <a:chExt cx="8723160" cy="144972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231840" y="4091040"/>
                <a:ext cx="8723160" cy="1435320"/>
                <a:chOff x="231840" y="4091040"/>
                <a:chExt cx="8723160" cy="14353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231840" y="4132080"/>
                  <a:ext cx="8723160" cy="139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spcBef>
                      <a:spcPts val="601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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(=            ) is the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atural frequency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, which equal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r a RLC circuit and              for a spring-mass-damper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ystem.     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7" name=""/>
                    <p:cNvSpPr txBox="1"/>
                    <p:nvPr/>
                  </p:nvSpPr>
                  <p:spPr>
                    <a:xfrm>
                      <a:off x="1411200" y="4091040"/>
                      <a:ext cx="1136880" cy="568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7728120" y="4076640"/>
                    <a:ext cx="979200" cy="50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3621240" y="4483080"/>
                  <a:ext cx="100332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170000" y="5943600"/>
            <a:ext cx="47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7160" y="5425920"/>
            <a:ext cx="8859240" cy="1598400"/>
            <a:chOff x="227160" y="5425920"/>
            <a:chExt cx="8859240" cy="159840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17640" y="5425920"/>
                  <a:ext cx="1996920" cy="57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" name=""/>
            <p:cNvGrpSpPr/>
            <p:nvPr/>
          </p:nvGrpSpPr>
          <p:grpSpPr>
            <a:xfrm>
              <a:off x="227160" y="5425920"/>
              <a:ext cx="8859240" cy="1598400"/>
              <a:chOff x="227160" y="5425920"/>
              <a:chExt cx="8859240" cy="15984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227160" y="5425920"/>
                <a:ext cx="8859240" cy="1598400"/>
                <a:chOff x="227160" y="5425920"/>
                <a:chExt cx="8859240" cy="15984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27160" y="5467320"/>
                  <a:ext cx="856440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90520" indent="-290520"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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s the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amping ratio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, which equal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290520" indent="-2905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r a RLC circuit and               for a spring-mass-damp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290520" indent="-2905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ystem.           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6" name=""/>
                    <p:cNvSpPr txBox="1"/>
                    <p:nvPr/>
                  </p:nvSpPr>
                  <p:spPr>
                    <a:xfrm>
                      <a:off x="7646760" y="5425920"/>
                      <a:ext cx="1439640" cy="500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L</m:t>
                                      </m:r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rad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529080" y="5781600"/>
                    <a:ext cx="1229760" cy="5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γ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040" y="137952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ep-input forcing, there are 3 specific solutions of the ODE because there are 3 different roots of the characteristic equation (see Appendix 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294120" y="4608360"/>
            <a:ext cx="8060760" cy="527040"/>
            <a:chOff x="294120" y="4608360"/>
            <a:chExt cx="8060760" cy="527040"/>
          </a:xfrm>
        </p:grpSpPr>
        <p:sp>
          <p:nvSpPr>
            <p:cNvPr id="74" name=""/>
            <p:cNvSpPr/>
            <p:nvPr/>
          </p:nvSpPr>
          <p:spPr>
            <a:xfrm>
              <a:off x="294120" y="4608360"/>
              <a:ext cx="80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wo initial conditions used are                and y(0)=0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5371920" y="4626000"/>
                  <a:ext cx="12240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-166680" y="3281400"/>
            <a:ext cx="95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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tically dam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. Its solution is Eqn. 5.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54000" y="2649600"/>
            <a:ext cx="89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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derdam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. Its solution is Eqn. 5.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54720" y="3841920"/>
            <a:ext cx="87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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damp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. Its solution is Eqn. 5.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38320" y="1117440"/>
            <a:ext cx="6459480" cy="5243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9840" y="625140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1800" y="6067440"/>
            <a:ext cx="450720" cy="347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3840" y="1197000"/>
            <a:ext cx="6062400" cy="489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60520" y="6254640"/>
            <a:ext cx="99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68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38920" y="2492280"/>
                <a:ext cx="18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615000" y="3206880"/>
                <a:ext cx="2471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46280" y="1411200"/>
            <a:ext cx="3098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5920" y="132516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ond-order system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 and a natural frequency equal to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z is subjected to a step input of magnitude A. Determine the system’s time con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6880" y="2746440"/>
            <a:ext cx="6067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(1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Hz = (1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cycles/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(1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cycles/s x 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ad/cycle = 2 rad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8760" y="3751200"/>
            <a:ext cx="6940800" cy="1649520"/>
            <a:chOff x="518760" y="3751200"/>
            <a:chExt cx="6940800" cy="1649520"/>
          </a:xfrm>
        </p:grpSpPr>
        <p:sp>
          <p:nvSpPr>
            <p:cNvPr id="94" name=""/>
            <p:cNvSpPr/>
            <p:nvPr/>
          </p:nvSpPr>
          <p:spPr>
            <a:xfrm>
              <a:off x="518760" y="3751200"/>
              <a:ext cx="46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or an underdamped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42960" y="4200480"/>
                  <a:ext cx="59166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ζ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rad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  <m:r>
                                <m:t xml:space="preserve">+</m:t>
                              </m:r>
                              <m:r>
                                <m:t xml:space="preserve">ϕ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" name=""/>
          <p:cNvGrpSpPr/>
          <p:nvPr/>
        </p:nvGrpSpPr>
        <p:grpSpPr>
          <a:xfrm>
            <a:off x="996840" y="4454640"/>
            <a:ext cx="5694840" cy="1819800"/>
            <a:chOff x="996840" y="4454640"/>
            <a:chExt cx="5694840" cy="1819800"/>
          </a:xfrm>
        </p:grpSpPr>
        <p:sp>
          <p:nvSpPr>
            <p:cNvPr id="97" name=""/>
            <p:cNvSpPr/>
            <p:nvPr/>
          </p:nvSpPr>
          <p:spPr>
            <a:xfrm>
              <a:off x="3311640" y="4454640"/>
              <a:ext cx="581040" cy="434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249640" y="4890960"/>
              <a:ext cx="1247760" cy="857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96840" y="5764320"/>
              <a:ext cx="569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&gt;&gt;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= 1/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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= 1/[(0.5)(2 rad/s)] = 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1080" y="1192320"/>
            <a:ext cx="86868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nusoidal-input forcing, the solution typically is recast into expressions for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see Eqns. 5.62-5.64 and Appendix 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9360" y="2712960"/>
            <a:ext cx="8739720" cy="3807000"/>
            <a:chOff x="99360" y="2712960"/>
            <a:chExt cx="8739720" cy="3807000"/>
          </a:xfrm>
        </p:grpSpPr>
        <p:grpSp>
          <p:nvGrpSpPr>
            <p:cNvPr id="103" name=""/>
            <p:cNvGrpSpPr/>
            <p:nvPr/>
          </p:nvGrpSpPr>
          <p:grpSpPr>
            <a:xfrm>
              <a:off x="257040" y="2712960"/>
              <a:ext cx="8582040" cy="3303720"/>
              <a:chOff x="257040" y="2712960"/>
              <a:chExt cx="8582040" cy="330372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040" y="2712960"/>
                <a:ext cx="4089240" cy="328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7960" y="2727360"/>
                <a:ext cx="4191120" cy="328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"/>
            <p:cNvSpPr/>
            <p:nvPr/>
          </p:nvSpPr>
          <p:spPr>
            <a:xfrm>
              <a:off x="99360" y="624348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s 5.9 and 5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98480" y="3797280"/>
            <a:ext cx="6684480" cy="1225440"/>
            <a:chOff x="798480" y="3797280"/>
            <a:chExt cx="6684480" cy="1225440"/>
          </a:xfrm>
        </p:grpSpPr>
        <p:sp>
          <p:nvSpPr>
            <p:cNvPr id="108" name=""/>
            <p:cNvSpPr/>
            <p:nvPr/>
          </p:nvSpPr>
          <p:spPr>
            <a:xfrm>
              <a:off x="798480" y="4776840"/>
              <a:ext cx="261720" cy="245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21240" y="3797280"/>
              <a:ext cx="261720" cy="245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92400" y="5834160"/>
            <a:ext cx="5014440" cy="241200"/>
            <a:chOff x="2192400" y="5834160"/>
            <a:chExt cx="5014440" cy="241200"/>
          </a:xfrm>
        </p:grpSpPr>
        <p:sp>
          <p:nvSpPr>
            <p:cNvPr id="111" name=""/>
            <p:cNvSpPr/>
            <p:nvPr/>
          </p:nvSpPr>
          <p:spPr>
            <a:xfrm>
              <a:off x="2192400" y="5834160"/>
              <a:ext cx="566280" cy="2332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40200" y="5842080"/>
              <a:ext cx="566640" cy="2332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720" y="128124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RLC circuit (R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 = 0.5 F; L = 0.5 H) underdamped, critically damped, or overdampe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06360" y="2208240"/>
            <a:ext cx="59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R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√(4L/C) = 1 &gt;&gt; critically da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2811600"/>
            <a:ext cx="82296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ine input forcing of 3sin2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1120" y="34844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magnitude rati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3880" y="4108320"/>
            <a:ext cx="37760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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√(1/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(2)(0.5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gt;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 = 1/(2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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0.5 (see eqn [5.6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35520" y="3379680"/>
            <a:ext cx="40892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5216400" y="4687920"/>
            <a:ext cx="1814400" cy="1638000"/>
            <a:chOff x="5216400" y="4687920"/>
            <a:chExt cx="1814400" cy="1638000"/>
          </a:xfrm>
        </p:grpSpPr>
        <p:sp>
          <p:nvSpPr>
            <p:cNvPr id="121" name=""/>
            <p:cNvSpPr/>
            <p:nvPr/>
          </p:nvSpPr>
          <p:spPr>
            <a:xfrm flipH="1">
              <a:off x="5216400" y="4687920"/>
              <a:ext cx="18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030800" y="4696920"/>
              <a:ext cx="0" cy="162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i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bel is defined in terms of a power (P) ratio, or base measurand ratio (Q), or magnitude ratio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3708360"/>
            <a:ext cx="7875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-half power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 which the output pow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half of the input power, correspond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/2) dB = -3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6600" y="2592360"/>
                <a:ext cx="8691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1680" y="5153040"/>
            <a:ext cx="7375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rresponds to where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1/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r find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y solving: -3 dB = 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7-11-06T17:56:12Z</dcterms:modified>
  <cp:revision>145</cp:revision>
  <dc:subject/>
  <dc:title>Slide 1</dc:title>
</cp:coreProperties>
</file>