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4B7-189D-4892-B5D3-F3E7328E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56F-C8A5-446A-8855-E977252F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F1A-1E0E-406E-97A9-F51AB2AE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4DF-8B28-4D80-9892-60444547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39E-7D2F-4D65-9181-CD0E09DD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E4E-E41C-4477-BB5C-48A5BEBD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8BB-B6E4-4A60-8D98-BD8C8BAF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B1C-5E29-4C47-9530-1C4E4530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B78-F7C1-4FA7-A26B-66039284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9E4-68E4-46FF-81F7-3C7CC44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A59-19C2-4050-AA8B-293AB13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EF4-968A-4874-AEF9-6BD6BE93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9468-DD37-4FFC-9F5D-3E783B2A9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xperi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336680" y="1522440"/>
            <a:ext cx="6472080" cy="4400640"/>
            <a:chOff x="1336680" y="1522440"/>
            <a:chExt cx="6472080" cy="4400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466640" y="1620720"/>
              <a:ext cx="6194160" cy="43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336680" y="1522440"/>
              <a:ext cx="6472080" cy="4340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n Experi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7040" y="1763640"/>
            <a:ext cx="8042400" cy="118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84680" y="397188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periment is an act in which 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tively interve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process under investigation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68560" y="2786040"/>
            <a:ext cx="20062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1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xperi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440" y="1606680"/>
            <a:ext cx="70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ing the number of students entering the NW door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artolo Hall at 9:25 AM on 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6280" y="3138480"/>
            <a:ext cx="707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ing the number of students entering the NW door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artolo Hall at 9:25 AM on Tu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4662360"/>
            <a:ext cx="71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ing the number of students entering the NW door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artolo Hall at 9:25 AM on Tuesday, when you open, then close one of the doors every 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0720" y="23479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4600" y="40384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54120" y="58104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488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ole Of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89680" y="2967120"/>
            <a:ext cx="3211200" cy="2989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4800" y="1521000"/>
            <a:ext cx="79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s serve to advance the understanding of our world. This understanding is advanced by both experiment and theory and the constant interplay between them. Experiments help u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1240" y="285120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e at laws and theories based upon their results (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ductiv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7280" y="4017960"/>
            <a:ext cx="343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validity of a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abil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7280" y="4983120"/>
            <a:ext cx="366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e something in n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ventional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20720" y="671400"/>
            <a:ext cx="6193080" cy="3560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53120" y="5381640"/>
            <a:ext cx="71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797960" y="4575240"/>
                <a:ext cx="3492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187280" y="4492800"/>
                <a:ext cx="470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206360" y="5286240"/>
                <a:ext cx="520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759800" y="5248440"/>
                <a:ext cx="469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639080" y="4599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ue 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11080" y="5400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ue vari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18040" y="46418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mple 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18680" y="535788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mple vari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488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ication of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280" y="1461960"/>
            <a:ext cx="69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s can be classified according to their purpos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5720" y="230364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000" y="318924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5360" y="4103640"/>
            <a:ext cx="17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ag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960" y="506088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7400" y="2289240"/>
            <a:ext cx="52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uantify mathematical relationships between experiment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3680" y="320364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lidate a specific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66400" y="4118040"/>
            <a:ext cx="39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ach or demonstrate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92680" y="5048280"/>
            <a:ext cx="537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lore an idea or theory (usually based 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‘simple’ theory or previous fin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5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al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7080" y="1519200"/>
            <a:ext cx="685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hysical quantity of a process that can a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come of the experiment. Variables are classifi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29120" y="2579760"/>
            <a:ext cx="182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87440" y="259560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rolled by the experiment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90320" y="351000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ffected by a change in experiment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80960" y="44146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xed during th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66920" y="53402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8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y th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6080" y="1490760"/>
            <a:ext cx="72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determine the coefficient of restitution, e, of a 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 over a range of impact velo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0" y="2449440"/>
            <a:ext cx="675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: vary drop height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easure return height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00240" y="3279600"/>
            <a:ext cx="290520" cy="290520"/>
          </a:xfrm>
          <a:prstGeom prst="ellipse">
            <a:avLst/>
          </a:prstGeom>
          <a:solidFill>
            <a:srgbClr val="f8fd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1720" y="5864400"/>
            <a:ext cx="1828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73520" y="342576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57160" y="300024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81480" y="3759120"/>
            <a:ext cx="0" cy="209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93920" y="334980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51400" y="3116160"/>
            <a:ext cx="238104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m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 e = [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75880" y="5367240"/>
            <a:ext cx="356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: m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,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autoRev="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Motion origin="layout" path="M 0 0 L 0 0.33295 E">
                                      <p:cBhvr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fy the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4880" y="1628640"/>
            <a:ext cx="70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17280" y="16192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43200" y="2509920"/>
            <a:ext cx="15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45360" y="33814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,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73800" y="423864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1:28:36Z</dcterms:created>
  <dc:creator> </dc:creator>
  <dc:description/>
  <dc:language>en-US</dc:language>
  <cp:lastModifiedBy>Patrick Dunn</cp:lastModifiedBy>
  <dcterms:modified xsi:type="dcterms:W3CDTF">2008-01-08T18:16:25Z</dcterms:modified>
  <cp:revision>33</cp:revision>
  <dc:subject/>
  <dc:title>Slide 1</dc:title>
</cp:coreProperties>
</file>