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BB0A-E9C8-479B-BD7E-495C0390D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C70F-91E9-4447-859C-1FD94220B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EBC1-1113-452D-8DB4-D6247061C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C4FB-E078-4CF3-B29E-A4BFDBF44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FE5E-6277-438E-94E2-75C49041F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4A1F-5FA4-4632-9E37-D9465529C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2791-D456-4D5B-9B76-CEF221220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41F1-55F3-460F-8F85-8C5693554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AE3F-BCA5-455C-BA0B-64166949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612C-C78A-45CB-87A3-F40815FE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7BE3-33EF-4DA4-B37D-3EBCF7503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EA08-44A6-4E5D-AEC0-D4DA5415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DF0E-46F4-4C89-ADB8-CE6C29E4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8782-E04D-449B-931B-090BA903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85DE-9753-4027-A191-2B9825E1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B060-3864-488E-AF08-327A0470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DF6B-CC8C-4CDA-AEE0-A7698232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0728-9105-409B-98CF-1B5F9E17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B069-6C6A-4DE9-A486-527AE110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EBE2-086B-4007-81B8-B6202CB48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 Analysis and Found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.-II  Logic and Set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002x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" descr="A002x001.jpg"/>
          <p:cNvPicPr/>
          <p:nvPr/>
        </p:nvPicPr>
        <p:blipFill>
          <a:blip r:embed="rId1"/>
          <a:stretch/>
        </p:blipFill>
        <p:spPr>
          <a:xfrm>
            <a:off x="1708200" y="762120"/>
            <a:ext cx="57276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002x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A002x002.jpg"/>
          <p:cNvPicPr/>
          <p:nvPr/>
        </p:nvPicPr>
        <p:blipFill>
          <a:blip r:embed="rId1"/>
          <a:stretch/>
        </p:blipFill>
        <p:spPr>
          <a:xfrm>
            <a:off x="1579680" y="762120"/>
            <a:ext cx="59846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002x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" descr="A002x003.jpg"/>
          <p:cNvPicPr/>
          <p:nvPr/>
        </p:nvPicPr>
        <p:blipFill>
          <a:blip r:embed="rId1"/>
          <a:stretch/>
        </p:blipFill>
        <p:spPr>
          <a:xfrm>
            <a:off x="1650960" y="762120"/>
            <a:ext cx="58420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002x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A002x004.jpg"/>
          <p:cNvPicPr/>
          <p:nvPr/>
        </p:nvPicPr>
        <p:blipFill>
          <a:blip r:embed="rId1"/>
          <a:stretch/>
        </p:blipFill>
        <p:spPr>
          <a:xfrm>
            <a:off x="1143000" y="993600"/>
            <a:ext cx="6858000" cy="48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002x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" descr="A002x005.jpg"/>
          <p:cNvPicPr/>
          <p:nvPr/>
        </p:nvPicPr>
        <p:blipFill>
          <a:blip r:embed="rId1"/>
          <a:stretch/>
        </p:blipFill>
        <p:spPr>
          <a:xfrm>
            <a:off x="1709640" y="762120"/>
            <a:ext cx="57247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7T09:06:09Z</dcterms:created>
  <dc:creator>Pawan Sharma</dc:creator>
  <dc:description/>
  <dc:language>en-US</dc:language>
  <cp:lastModifiedBy>Pawan Sharma</cp:lastModifiedBy>
  <dcterms:modified xsi:type="dcterms:W3CDTF">2013-05-21T12:44:03Z</dcterms:modified>
  <cp:revision>56</cp:revision>
  <dc:subject/>
  <dc:title>001x001</dc:title>
</cp:coreProperties>
</file>