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6538-85C7-4E50-983D-DD5A96559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5A03-765A-450C-BDD2-1DD2B06A3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0514-61EA-4554-9B10-7ED8D08E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DA5A-8B9F-40CD-824D-BD41252D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B524-2542-4950-9DAA-9387DBD04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D5A5-595D-4161-84A3-21B3DCD70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7E37-86C8-4A39-85EE-57E077B61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0004-0436-4F64-A02C-6EBD5C237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9244-40FD-47AB-9246-698DE13A4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3B35-0FF7-4F90-AD70-E06301A01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164D-5526-4741-B8E6-A2A14EA0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E8F-EF62-416A-92AE-DFF355F44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219-DFC5-4D5B-9D71-9B1793C6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8DC-F6F3-4E24-899B-D137D6E7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BE33-DFC7-400B-A7B5-76B6EBA6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A23C-3944-42E4-B7C5-50991ADA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C0BE-E0C2-456D-90AF-6A02788F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9590-E2E7-411F-8D75-016F0C4F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2DB-727A-47E6-9F5A-A77E237B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007-09FA-43F4-BE8D-27F4E9CD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E01-BAFB-4B4B-8DAC-1A81FF2F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1FD-60AF-484C-ABCF-83C917BE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2C3D-6181-4D0A-BBEF-3704793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3B33-6303-4A96-B09E-CEED7F74F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parametric Methods in Statistics with SAS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 Nonparametric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umbered-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un_004x009.jpg"/>
          <p:cNvPicPr/>
          <p:nvPr/>
        </p:nvPicPr>
        <p:blipFill>
          <a:blip r:embed="rId1"/>
          <a:stretch/>
        </p:blipFill>
        <p:spPr>
          <a:xfrm>
            <a:off x="1143000" y="1803240"/>
            <a:ext cx="6858000" cy="32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umbered-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un_004x001.jpg"/>
          <p:cNvPicPr/>
          <p:nvPr/>
        </p:nvPicPr>
        <p:blipFill>
          <a:blip r:embed="rId1"/>
          <a:stretch/>
        </p:blipFill>
        <p:spPr>
          <a:xfrm>
            <a:off x="1143000" y="1849320"/>
            <a:ext cx="685800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umbered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un_004x002.jpg"/>
          <p:cNvPicPr/>
          <p:nvPr/>
        </p:nvPicPr>
        <p:blipFill>
          <a:blip r:embed="rId1"/>
          <a:stretch/>
        </p:blipFill>
        <p:spPr>
          <a:xfrm>
            <a:off x="1143000" y="137160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umbered-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un_004x003.jpg"/>
          <p:cNvPicPr/>
          <p:nvPr/>
        </p:nvPicPr>
        <p:blipFill>
          <a:blip r:embed="rId1"/>
          <a:stretch/>
        </p:blipFill>
        <p:spPr>
          <a:xfrm>
            <a:off x="1143000" y="1838160"/>
            <a:ext cx="68580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umbered-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un_004x004.jpg"/>
          <p:cNvPicPr/>
          <p:nvPr/>
        </p:nvPicPr>
        <p:blipFill>
          <a:blip r:embed="rId1"/>
          <a:stretch/>
        </p:blipFill>
        <p:spPr>
          <a:xfrm>
            <a:off x="1143000" y="1620720"/>
            <a:ext cx="6858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umbered-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un_004x005.jpg"/>
          <p:cNvPicPr/>
          <p:nvPr/>
        </p:nvPicPr>
        <p:blipFill>
          <a:blip r:embed="rId1"/>
          <a:stretch/>
        </p:blipFill>
        <p:spPr>
          <a:xfrm>
            <a:off x="1143000" y="2009880"/>
            <a:ext cx="68580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umbered-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un_004x006.jpg"/>
          <p:cNvPicPr/>
          <p:nvPr/>
        </p:nvPicPr>
        <p:blipFill>
          <a:blip r:embed="rId1"/>
          <a:stretch/>
        </p:blipFill>
        <p:spPr>
          <a:xfrm>
            <a:off x="1143000" y="1954080"/>
            <a:ext cx="68580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umbered-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un_004x007.jpg"/>
          <p:cNvPicPr/>
          <p:nvPr/>
        </p:nvPicPr>
        <p:blipFill>
          <a:blip r:embed="rId1"/>
          <a:stretch/>
        </p:blipFill>
        <p:spPr>
          <a:xfrm>
            <a:off x="1143000" y="1689120"/>
            <a:ext cx="68580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umbered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un_004x008.jpg"/>
          <p:cNvPicPr/>
          <p:nvPr/>
        </p:nvPicPr>
        <p:blipFill>
          <a:blip r:embed="rId1"/>
          <a:stretch/>
        </p:blipFill>
        <p:spPr>
          <a:xfrm>
            <a:off x="1143000" y="1693800"/>
            <a:ext cx="685800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09:06:09Z</dcterms:created>
  <dc:creator>Pawan Sharma</dc:creator>
  <dc:description/>
  <dc:language>en-US</dc:language>
  <cp:lastModifiedBy>Pawan Sharma</cp:lastModifiedBy>
  <dcterms:modified xsi:type="dcterms:W3CDTF">2013-07-24T12:03:51Z</dcterms:modified>
  <cp:revision>54</cp:revision>
  <dc:subject/>
  <dc:title>001x001</dc:title>
</cp:coreProperties>
</file>