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872-1231-4700-8BF1-DFCD213C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0B0-3031-430F-80A1-9C02682A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771-358D-4CF7-B095-95DE7BF8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874-EA7B-4F45-AC43-839E3366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D523-ECF5-4116-85E7-8718AC7B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4ECF-D504-4BE7-A324-532E6930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92FD-C0BF-4ADE-8A11-742CCB7F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1025-C4B6-4A9D-9AD8-BDA721E2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2DE1-0827-45D2-B346-966BCF81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4EA9-9CD3-42FA-89B2-E37FCA6A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8632-27AF-4D5C-8E17-287A9345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D9A-1AF4-44DB-B011-4480183D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B890-4F86-4390-85BE-EF25CC7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2966-AC74-4177-9A77-A403207A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82B0-00D9-4FB9-B373-6E1DC13C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2988-E903-4230-BDED-46C2300B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FF00-13F3-436C-99F3-E83ABB34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F38-411A-4568-9158-E12CF556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568-6505-46B7-A16B-246C5499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A97-C283-4ED8-A903-D757ED5E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0FA-3EE3-41C6-8ED9-183CABA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C4C-3D27-4B56-937A-C8AEC42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25F-8C39-4EA6-8D73-45234B81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7F3-F735-4360-A3C8-7F597AC8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7524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0920" y="6324480"/>
            <a:ext cx="3124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A460-9B4B-48EF-8060-A29AAD6D1E3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7524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535A-5B29-41E1-9C89-0C95D2545A8D}" type="slidenum">
              <a:rPr b="0" lang="en-CA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3141720"/>
            <a:ext cx="4464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"/>
                <a:ea typeface="Arial"/>
              </a:rPr>
              <a:t>Chapter 2: Situational Crime Prevention</a:t>
            </a:r>
            <a:endParaRPr b="0" lang="en-US" sz="36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76720" y="501336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209680" y="404640"/>
            <a:ext cx="69343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cc66"/>
                </a:solidFill>
                <a:latin typeface="Arial"/>
                <a:ea typeface="Arial"/>
              </a:rPr>
              <a:t>Crime Prevention: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cc66"/>
                </a:solidFill>
                <a:latin typeface="Arial"/>
                <a:ea typeface="Arial"/>
              </a:rPr>
              <a:t>Theory and Practic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Picture 8" descr="Lockit"/>
          <p:cNvPicPr/>
          <p:nvPr/>
        </p:nvPicPr>
        <p:blipFill>
          <a:blip r:embed="rId1"/>
          <a:stretch/>
        </p:blipFill>
        <p:spPr>
          <a:xfrm>
            <a:off x="6300720" y="2852640"/>
            <a:ext cx="257328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rebuchet MS"/>
                <a:ea typeface="Times New Roman"/>
              </a:rPr>
              <a:t>Broken Windows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443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inor incivilities, if unchecked &amp; uncontrolled, will promote more serious crim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‘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civilities’ act as the catalyst: they represent signs of disorder &amp; signify that no one cares, that the environment lacks regul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olution: stop &amp; reverse the cycle of decline in its earliest stages by a focus on “order maintenance” &amp; aggressive policing of incivili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4" descr="Window1"/>
          <p:cNvPicPr/>
          <p:nvPr/>
        </p:nvPicPr>
        <p:blipFill>
          <a:blip r:embed="rId1"/>
          <a:stretch/>
        </p:blipFill>
        <p:spPr>
          <a:xfrm>
            <a:off x="5991120" y="1916280"/>
            <a:ext cx="2482920" cy="34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SCP Definition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Situational crime prevention involv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measures directed at </a:t>
            </a: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s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pecific forms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of crime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which involve the management, design or manipulation of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immediate environment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in which these crimes occur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so as to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reduce the opportunities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for these crimes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as perceived by </a:t>
            </a:r>
            <a:r>
              <a:rPr b="1" lang="en-CA" sz="2000" spc="-1" strike="noStrike">
                <a:solidFill>
                  <a:srgbClr val="eaeaea"/>
                </a:solidFill>
                <a:latin typeface="Trebuchet MS"/>
              </a:rPr>
              <a:t>a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broad range of potential offenders</a:t>
            </a: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Source: Clarke, 1997,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educing Opportunity, Pt. I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Criminal opportunity is reduced by: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Increasing </a:t>
            </a: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the effort</a:t>
            </a:r>
            <a:r>
              <a:rPr b="1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volved in crime by making the targets harder to get at or hindering the commission of crime (e.g., target hardening, access control, exit &amp; entrance screening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Increasing the risks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, whether real or perceived, of detection &amp; apprehension (e.g., surveillance, screening, profiling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ducing the rewards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(e.g., target removal, property marking, merchandise ink-tag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ducing provocations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at may lead to criminal or violent behavi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educing Opportunity, Pt. II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Opportunity for crime can be reduced directly &amp; indirectly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Trebuchet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Directl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: “organizing” the immediate physical environment (e.g., target hardening, access control, target removal, etc.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Trebuchet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Indirectl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: “organizing” people to foster or reinforce their individual &amp; collective behaviour to minimize their vulnerability to crime (e.g., CPTED, Neighbourhood Wat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cc66"/>
                </a:solidFill>
                <a:latin typeface="Trebuchet MS"/>
              </a:rPr>
              <a:t>25 Opportunity Reduction Techniques</a:t>
            </a:r>
            <a:endParaRPr b="0" lang="en-US" sz="3200" spc="-1" strike="noStrike">
              <a:solidFill>
                <a:srgbClr val="ffcc66"/>
              </a:solidFill>
              <a:latin typeface="Trebuchet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397160"/>
          <a:ext cx="7224840" cy="5260680"/>
        </p:xfrm>
        <a:graphic>
          <a:graphicData uri="http://schemas.openxmlformats.org/drawingml/2006/table">
            <a:tbl>
              <a:tblPr/>
              <a:tblGrid>
                <a:gridCol w="1608120"/>
                <a:gridCol w="561672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crease the Effort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Harden target (deadbolt locks, fences, window ba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Access control (entry phones,  prickly shrubs, psychological barrie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eflect offenders (bus stop placement, tavern location, road closur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rol crime facilitators (gun control, plastic cups, caller ID, credit card photo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137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crease the Risk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ural surveillance (CPTED, Neighborhood Watch,  street lighting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veillance by employees (undercover security, raised kiosk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tentional surveillance (security mirrors, CCTV, security guards, citizen patrol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Entry / Exit screening (airport metal detectors, retail theft exit controls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Guardianship (being at home, carrying a cell phone, police, security guard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lace managers (apartment manager, bus driver, teacher, flight attendant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anonymity (school uniforms, taxi id badges, “how’s my driving truck” decal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77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the Reward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roperty marking (engraving valuable electronics, automobile VIN, cattle branding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move / conceal targets (removable car stereo, move items to car trunk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eny benefits (ink merchandise tags, security codes for electronics, graffiti removal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isrupt markets for stolen goods (regulate/crack down on pawn shops, street vendo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Provocation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frustration &amp; stress (providing needed information to agitated people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Avoid disputes (standardized taxi fares from airport to city centre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uce arousal &amp; temptation (gender-neutral listings, restricting jobs for pedophil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Neutralize peer pressure (“Friends don't let friends drink &amp; drive” ad campaign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iscourage imitation (regulate violence in movies, remove graffiti &amp; vandalism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98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move Excuse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t rules (government laws, code of conduct regulations in taverns &amp; public plac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imulate conscience (roadside speedometers, “Shoplifting is stealing” sign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Facilitate compliance (easy library checkout, public lavatories, public trash bin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Control disinhibitors (no liquor after a certain time, V-chip, ignition lock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ost instructions (road signs, code of conduct signs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Critiques of SCP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752480" y="1447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676520" y="1523880"/>
            <a:ext cx="68580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nly addresses the symptoms of crime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Does not prevent crime, may displace it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ffenders do not always act rational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versimplifies relationship between physical environment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&amp; human behavi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veremphasizes property crime (e.g., ignores domestic violenc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ay undermine informal social contr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urveillance can be intrusive &amp; may infringe upon privacy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oncentrates crime in poor areas/may be socially divisive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cc66"/>
                </a:solidFill>
                <a:latin typeface="Trebuchet MS"/>
              </a:rPr>
              <a:t>Situational vs. Social Development</a:t>
            </a:r>
            <a:endParaRPr b="0" lang="en-US" sz="3800" spc="-1" strike="noStrike">
              <a:solidFill>
                <a:srgbClr val="ffcc66"/>
              </a:solidFill>
              <a:latin typeface="Trebuchet MS"/>
            </a:endParaRPr>
          </a:p>
        </p:txBody>
      </p:sp>
      <p:grpSp>
        <p:nvGrpSpPr>
          <p:cNvPr id="127" name="Group 101"/>
          <p:cNvGrpSpPr/>
          <p:nvPr/>
        </p:nvGrpSpPr>
        <p:grpSpPr>
          <a:xfrm>
            <a:off x="1371600" y="1371600"/>
            <a:ext cx="7238520" cy="4876920"/>
            <a:chOff x="1371600" y="1371600"/>
            <a:chExt cx="7238520" cy="4876920"/>
          </a:xfrm>
        </p:grpSpPr>
        <p:grpSp>
          <p:nvGrpSpPr>
            <p:cNvPr id="128" name="Group 99"/>
            <p:cNvGrpSpPr/>
            <p:nvPr/>
          </p:nvGrpSpPr>
          <p:grpSpPr>
            <a:xfrm>
              <a:off x="1375200" y="1373760"/>
              <a:ext cx="7230600" cy="4872240"/>
              <a:chOff x="1375200" y="1373760"/>
              <a:chExt cx="7230600" cy="4872240"/>
            </a:xfrm>
          </p:grpSpPr>
          <p:grpSp>
            <p:nvGrpSpPr>
              <p:cNvPr id="129" name="Group 38"/>
              <p:cNvGrpSpPr/>
              <p:nvPr/>
            </p:nvGrpSpPr>
            <p:grpSpPr>
              <a:xfrm>
                <a:off x="1375200" y="1373760"/>
                <a:ext cx="1432440" cy="414360"/>
                <a:chOff x="1375200" y="1373760"/>
                <a:chExt cx="1432440" cy="41436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1451160" y="137376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37"/>
                <p:cNvSpPr/>
                <p:nvPr/>
              </p:nvSpPr>
              <p:spPr>
                <a:xfrm>
                  <a:off x="1375200" y="137376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40"/>
              <p:cNvGrpSpPr/>
              <p:nvPr/>
            </p:nvGrpSpPr>
            <p:grpSpPr>
              <a:xfrm>
                <a:off x="2808000" y="1373760"/>
                <a:ext cx="2759040" cy="414360"/>
                <a:chOff x="2808000" y="1373760"/>
                <a:chExt cx="2759040" cy="414360"/>
              </a:xfrm>
            </p:grpSpPr>
            <p:sp>
              <p:nvSpPr>
                <p:cNvPr id="133" name="Rectangle 7"/>
                <p:cNvSpPr/>
                <p:nvPr/>
              </p:nvSpPr>
              <p:spPr>
                <a:xfrm>
                  <a:off x="2883600" y="137376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ituational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39"/>
                <p:cNvSpPr/>
                <p:nvPr/>
              </p:nvSpPr>
              <p:spPr>
                <a:xfrm>
                  <a:off x="2808000" y="137376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42"/>
              <p:cNvGrpSpPr/>
              <p:nvPr/>
            </p:nvGrpSpPr>
            <p:grpSpPr>
              <a:xfrm>
                <a:off x="5567400" y="1373760"/>
                <a:ext cx="3038400" cy="414360"/>
                <a:chOff x="5567400" y="1373760"/>
                <a:chExt cx="3038400" cy="414360"/>
              </a:xfrm>
            </p:grpSpPr>
            <p:sp>
              <p:nvSpPr>
                <p:cNvPr id="136" name="Rectangle 8"/>
                <p:cNvSpPr/>
                <p:nvPr/>
              </p:nvSpPr>
              <p:spPr>
                <a:xfrm>
                  <a:off x="5643360" y="137376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ocial Development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41"/>
                <p:cNvSpPr/>
                <p:nvPr/>
              </p:nvSpPr>
              <p:spPr>
                <a:xfrm>
                  <a:off x="5567400" y="137376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44"/>
              <p:cNvGrpSpPr/>
              <p:nvPr/>
            </p:nvGrpSpPr>
            <p:grpSpPr>
              <a:xfrm>
                <a:off x="1375200" y="1788120"/>
                <a:ext cx="1432440" cy="1243800"/>
                <a:chOff x="1375200" y="1788120"/>
                <a:chExt cx="1432440" cy="1243800"/>
              </a:xfrm>
            </p:grpSpPr>
            <p:sp>
              <p:nvSpPr>
                <p:cNvPr id="139" name="Rectangle 9"/>
                <p:cNvSpPr/>
                <p:nvPr/>
              </p:nvSpPr>
              <p:spPr>
                <a:xfrm>
                  <a:off x="1451160" y="1788120"/>
                  <a:ext cx="1280160" cy="12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Foci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43"/>
                <p:cNvSpPr/>
                <p:nvPr/>
              </p:nvSpPr>
              <p:spPr>
                <a:xfrm>
                  <a:off x="1375200" y="1788120"/>
                  <a:ext cx="1432440" cy="1243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Group 46"/>
              <p:cNvGrpSpPr/>
              <p:nvPr/>
            </p:nvGrpSpPr>
            <p:grpSpPr>
              <a:xfrm>
                <a:off x="2808000" y="1788120"/>
                <a:ext cx="2759040" cy="414720"/>
                <a:chOff x="2808000" y="1788120"/>
                <a:chExt cx="2759040" cy="414720"/>
              </a:xfrm>
            </p:grpSpPr>
            <p:sp>
              <p:nvSpPr>
                <p:cNvPr id="142" name="Rectangle 10"/>
                <p:cNvSpPr/>
                <p:nvPr/>
              </p:nvSpPr>
              <p:spPr>
                <a:xfrm>
                  <a:off x="2883600" y="178812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Criminal opport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45"/>
                <p:cNvSpPr/>
                <p:nvPr/>
              </p:nvSpPr>
              <p:spPr>
                <a:xfrm>
                  <a:off x="2808000" y="178812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5567400" y="1788120"/>
                <a:ext cx="3038400" cy="414720"/>
                <a:chOff x="5567400" y="1788120"/>
                <a:chExt cx="3038400" cy="414720"/>
              </a:xfrm>
            </p:grpSpPr>
            <p:sp>
              <p:nvSpPr>
                <p:cNvPr id="145" name="Rectangle 11"/>
                <p:cNvSpPr/>
                <p:nvPr/>
              </p:nvSpPr>
              <p:spPr>
                <a:xfrm>
                  <a:off x="5643360" y="178812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Root cases of cri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47"/>
                <p:cNvSpPr/>
                <p:nvPr/>
              </p:nvSpPr>
              <p:spPr>
                <a:xfrm>
                  <a:off x="5567400" y="178812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50"/>
              <p:cNvGrpSpPr/>
              <p:nvPr/>
            </p:nvGrpSpPr>
            <p:grpSpPr>
              <a:xfrm>
                <a:off x="2808000" y="2203200"/>
                <a:ext cx="2759040" cy="414360"/>
                <a:chOff x="2808000" y="2203200"/>
                <a:chExt cx="2759040" cy="414360"/>
              </a:xfrm>
            </p:grpSpPr>
            <p:sp>
              <p:nvSpPr>
                <p:cNvPr id="148" name="Rectangle 12"/>
                <p:cNvSpPr/>
                <p:nvPr/>
              </p:nvSpPr>
              <p:spPr>
                <a:xfrm>
                  <a:off x="2883600" y="220320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ce (criminal act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49"/>
                <p:cNvSpPr/>
                <p:nvPr/>
              </p:nvSpPr>
              <p:spPr>
                <a:xfrm>
                  <a:off x="2808000" y="220320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52"/>
              <p:cNvGrpSpPr/>
              <p:nvPr/>
            </p:nvGrpSpPr>
            <p:grpSpPr>
              <a:xfrm>
                <a:off x="5567400" y="2203200"/>
                <a:ext cx="3038400" cy="414360"/>
                <a:chOff x="5567400" y="2203200"/>
                <a:chExt cx="3038400" cy="414360"/>
              </a:xfrm>
            </p:grpSpPr>
            <p:sp>
              <p:nvSpPr>
                <p:cNvPr id="151" name="Rectangle 13"/>
                <p:cNvSpPr/>
                <p:nvPr/>
              </p:nvSpPr>
              <p:spPr>
                <a:xfrm>
                  <a:off x="5643360" y="220320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ding (criminogenic characteristics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51"/>
                <p:cNvSpPr/>
                <p:nvPr/>
              </p:nvSpPr>
              <p:spPr>
                <a:xfrm>
                  <a:off x="5567400" y="220320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54"/>
              <p:cNvGrpSpPr/>
              <p:nvPr/>
            </p:nvGrpSpPr>
            <p:grpSpPr>
              <a:xfrm>
                <a:off x="2808000" y="2617560"/>
                <a:ext cx="2759040" cy="414360"/>
                <a:chOff x="2808000" y="2617560"/>
                <a:chExt cx="2759040" cy="414360"/>
              </a:xfrm>
            </p:grpSpPr>
            <p:sp>
              <p:nvSpPr>
                <p:cNvPr id="154" name="Rectangle 14"/>
                <p:cNvSpPr/>
                <p:nvPr/>
              </p:nvSpPr>
              <p:spPr>
                <a:xfrm>
                  <a:off x="2883600" y="261756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(Potential) victim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Rectangle 53"/>
                <p:cNvSpPr/>
                <p:nvPr/>
              </p:nvSpPr>
              <p:spPr>
                <a:xfrm>
                  <a:off x="2808000" y="261756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56"/>
              <p:cNvGrpSpPr/>
              <p:nvPr/>
            </p:nvGrpSpPr>
            <p:grpSpPr>
              <a:xfrm>
                <a:off x="5567400" y="2617560"/>
                <a:ext cx="3038400" cy="414360"/>
                <a:chOff x="5567400" y="2617560"/>
                <a:chExt cx="3038400" cy="414360"/>
              </a:xfrm>
            </p:grpSpPr>
            <p:sp>
              <p:nvSpPr>
                <p:cNvPr id="157" name="Rectangle 15"/>
                <p:cNvSpPr/>
                <p:nvPr/>
              </p:nvSpPr>
              <p:spPr>
                <a:xfrm>
                  <a:off x="5643360" y="261756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de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55"/>
                <p:cNvSpPr/>
                <p:nvPr/>
              </p:nvSpPr>
              <p:spPr>
                <a:xfrm>
                  <a:off x="5567400" y="261756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58"/>
              <p:cNvGrpSpPr/>
              <p:nvPr/>
            </p:nvGrpSpPr>
            <p:grpSpPr>
              <a:xfrm>
                <a:off x="1375200" y="3032280"/>
                <a:ext cx="1432440" cy="518400"/>
                <a:chOff x="1375200" y="3032280"/>
                <a:chExt cx="1432440" cy="518400"/>
              </a:xfrm>
            </p:grpSpPr>
            <p:sp>
              <p:nvSpPr>
                <p:cNvPr id="160" name="Rectangle 16"/>
                <p:cNvSpPr/>
                <p:nvPr/>
              </p:nvSpPr>
              <p:spPr>
                <a:xfrm>
                  <a:off x="1451160" y="3032280"/>
                  <a:ext cx="12801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Crime problem addressed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57"/>
                <p:cNvSpPr/>
                <p:nvPr/>
              </p:nvSpPr>
              <p:spPr>
                <a:xfrm>
                  <a:off x="1375200" y="3032280"/>
                  <a:ext cx="14324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60"/>
              <p:cNvGrpSpPr/>
              <p:nvPr/>
            </p:nvGrpSpPr>
            <p:grpSpPr>
              <a:xfrm>
                <a:off x="2808000" y="3032280"/>
                <a:ext cx="2759040" cy="518400"/>
                <a:chOff x="2808000" y="3032280"/>
                <a:chExt cx="2759040" cy="518400"/>
              </a:xfrm>
            </p:grpSpPr>
            <p:sp>
              <p:nvSpPr>
                <p:cNvPr id="163" name="Rectangle 17"/>
                <p:cNvSpPr/>
                <p:nvPr/>
              </p:nvSpPr>
              <p:spPr>
                <a:xfrm>
                  <a:off x="2883600" y="3032280"/>
                  <a:ext cx="2607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roperty crime; strategy geared toward specific type of cri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59"/>
                <p:cNvSpPr/>
                <p:nvPr/>
              </p:nvSpPr>
              <p:spPr>
                <a:xfrm>
                  <a:off x="2808000" y="3032280"/>
                  <a:ext cx="27590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62"/>
              <p:cNvGrpSpPr/>
              <p:nvPr/>
            </p:nvGrpSpPr>
            <p:grpSpPr>
              <a:xfrm>
                <a:off x="5567400" y="3032280"/>
                <a:ext cx="3038400" cy="518400"/>
                <a:chOff x="5567400" y="3032280"/>
                <a:chExt cx="3038400" cy="518400"/>
              </a:xfrm>
            </p:grpSpPr>
            <p:sp>
              <p:nvSpPr>
                <p:cNvPr id="166" name="Rectangle 18"/>
                <p:cNvSpPr/>
                <p:nvPr/>
              </p:nvSpPr>
              <p:spPr>
                <a:xfrm>
                  <a:off x="5643360" y="3032280"/>
                  <a:ext cx="2886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No particular focus: all underlying causes of any potential anti-social behaviou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61"/>
                <p:cNvSpPr/>
                <p:nvPr/>
              </p:nvSpPr>
              <p:spPr>
                <a:xfrm>
                  <a:off x="5567400" y="3032280"/>
                  <a:ext cx="303840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64"/>
              <p:cNvGrpSpPr/>
              <p:nvPr/>
            </p:nvGrpSpPr>
            <p:grpSpPr>
              <a:xfrm>
                <a:off x="1375200" y="3550680"/>
                <a:ext cx="1432440" cy="518400"/>
                <a:chOff x="1375200" y="3550680"/>
                <a:chExt cx="1432440" cy="518400"/>
              </a:xfrm>
            </p:grpSpPr>
            <p:sp>
              <p:nvSpPr>
                <p:cNvPr id="169" name="Rectangle 19"/>
                <p:cNvSpPr/>
                <p:nvPr/>
              </p:nvSpPr>
              <p:spPr>
                <a:xfrm>
                  <a:off x="1451160" y="3550680"/>
                  <a:ext cx="12801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Understanding of causes of crime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63"/>
                <p:cNvSpPr/>
                <p:nvPr/>
              </p:nvSpPr>
              <p:spPr>
                <a:xfrm>
                  <a:off x="1375200" y="3550680"/>
                  <a:ext cx="14324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66"/>
              <p:cNvGrpSpPr/>
              <p:nvPr/>
            </p:nvGrpSpPr>
            <p:grpSpPr>
              <a:xfrm>
                <a:off x="2808000" y="3550680"/>
                <a:ext cx="2759040" cy="518400"/>
                <a:chOff x="2808000" y="3550680"/>
                <a:chExt cx="2759040" cy="518400"/>
              </a:xfrm>
            </p:grpSpPr>
            <p:sp>
              <p:nvSpPr>
                <p:cNvPr id="172" name="Rectangle 20"/>
                <p:cNvSpPr/>
                <p:nvPr/>
              </p:nvSpPr>
              <p:spPr>
                <a:xfrm>
                  <a:off x="2883600" y="3550680"/>
                  <a:ext cx="2607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pportunity, motivated offender, unguarded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65"/>
                <p:cNvSpPr/>
                <p:nvPr/>
              </p:nvSpPr>
              <p:spPr>
                <a:xfrm>
                  <a:off x="2808000" y="3550680"/>
                  <a:ext cx="27590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68"/>
              <p:cNvGrpSpPr/>
              <p:nvPr/>
            </p:nvGrpSpPr>
            <p:grpSpPr>
              <a:xfrm>
                <a:off x="5567400" y="3550680"/>
                <a:ext cx="3038400" cy="518400"/>
                <a:chOff x="5567400" y="3550680"/>
                <a:chExt cx="3038400" cy="518400"/>
              </a:xfrm>
            </p:grpSpPr>
            <p:sp>
              <p:nvSpPr>
                <p:cNvPr id="175" name="Rectangle 21"/>
                <p:cNvSpPr/>
                <p:nvPr/>
              </p:nvSpPr>
              <p:spPr>
                <a:xfrm>
                  <a:off x="5643360" y="3550680"/>
                  <a:ext cx="2886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ersonal, social, economic, cultural factor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67"/>
                <p:cNvSpPr/>
                <p:nvPr/>
              </p:nvSpPr>
              <p:spPr>
                <a:xfrm>
                  <a:off x="5567400" y="3550680"/>
                  <a:ext cx="303840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70"/>
              <p:cNvGrpSpPr/>
              <p:nvPr/>
            </p:nvGrpSpPr>
            <p:grpSpPr>
              <a:xfrm>
                <a:off x="1375200" y="4069080"/>
                <a:ext cx="1432440" cy="518040"/>
                <a:chOff x="1375200" y="4069080"/>
                <a:chExt cx="1432440" cy="518040"/>
              </a:xfrm>
            </p:grpSpPr>
            <p:sp>
              <p:nvSpPr>
                <p:cNvPr id="178" name="Rectangle 22"/>
                <p:cNvSpPr/>
                <p:nvPr/>
              </p:nvSpPr>
              <p:spPr>
                <a:xfrm>
                  <a:off x="1451160" y="4069080"/>
                  <a:ext cx="128016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Basic approach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69"/>
                <p:cNvSpPr/>
                <p:nvPr/>
              </p:nvSpPr>
              <p:spPr>
                <a:xfrm>
                  <a:off x="1375200" y="4069080"/>
                  <a:ext cx="143244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Group 72"/>
              <p:cNvGrpSpPr/>
              <p:nvPr/>
            </p:nvGrpSpPr>
            <p:grpSpPr>
              <a:xfrm>
                <a:off x="2808000" y="4069080"/>
                <a:ext cx="2759040" cy="518040"/>
                <a:chOff x="2808000" y="4069080"/>
                <a:chExt cx="2759040" cy="518040"/>
              </a:xfrm>
            </p:grpSpPr>
            <p:sp>
              <p:nvSpPr>
                <p:cNvPr id="181" name="Rectangle 23"/>
                <p:cNvSpPr/>
                <p:nvPr/>
              </p:nvSpPr>
              <p:spPr>
                <a:xfrm>
                  <a:off x="2883600" y="4069080"/>
                  <a:ext cx="260712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Alteration to physical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71"/>
                <p:cNvSpPr/>
                <p:nvPr/>
              </p:nvSpPr>
              <p:spPr>
                <a:xfrm>
                  <a:off x="2808000" y="4069080"/>
                  <a:ext cx="275904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Group 74"/>
              <p:cNvGrpSpPr/>
              <p:nvPr/>
            </p:nvGrpSpPr>
            <p:grpSpPr>
              <a:xfrm>
                <a:off x="5567400" y="4069080"/>
                <a:ext cx="3038400" cy="518040"/>
                <a:chOff x="5567400" y="4069080"/>
                <a:chExt cx="3038400" cy="518040"/>
              </a:xfrm>
            </p:grpSpPr>
            <p:sp>
              <p:nvSpPr>
                <p:cNvPr id="184" name="Rectangle 24"/>
                <p:cNvSpPr/>
                <p:nvPr/>
              </p:nvSpPr>
              <p:spPr>
                <a:xfrm>
                  <a:off x="5643360" y="4069080"/>
                  <a:ext cx="288612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Alteration of potential offender, including his/her family &amp; social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73"/>
                <p:cNvSpPr/>
                <p:nvPr/>
              </p:nvSpPr>
              <p:spPr>
                <a:xfrm>
                  <a:off x="5567400" y="4069080"/>
                  <a:ext cx="303840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Group 76"/>
              <p:cNvGrpSpPr/>
              <p:nvPr/>
            </p:nvGrpSpPr>
            <p:grpSpPr>
              <a:xfrm>
                <a:off x="1375200" y="4587480"/>
                <a:ext cx="1432440" cy="414720"/>
                <a:chOff x="1375200" y="4587480"/>
                <a:chExt cx="1432440" cy="414720"/>
              </a:xfrm>
            </p:grpSpPr>
            <p:sp>
              <p:nvSpPr>
                <p:cNvPr id="187" name="Rectangle 25"/>
                <p:cNvSpPr/>
                <p:nvPr/>
              </p:nvSpPr>
              <p:spPr>
                <a:xfrm>
                  <a:off x="1451160" y="4587480"/>
                  <a:ext cx="12801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hilosophy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75"/>
                <p:cNvSpPr/>
                <p:nvPr/>
              </p:nvSpPr>
              <p:spPr>
                <a:xfrm>
                  <a:off x="1375200" y="4587480"/>
                  <a:ext cx="14324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Group 78"/>
              <p:cNvGrpSpPr/>
              <p:nvPr/>
            </p:nvGrpSpPr>
            <p:grpSpPr>
              <a:xfrm>
                <a:off x="2808000" y="4587480"/>
                <a:ext cx="2759040" cy="414720"/>
                <a:chOff x="2808000" y="4587480"/>
                <a:chExt cx="2759040" cy="414720"/>
              </a:xfrm>
            </p:grpSpPr>
            <p:sp>
              <p:nvSpPr>
                <p:cNvPr id="190" name="Rectangle 26"/>
                <p:cNvSpPr/>
                <p:nvPr/>
              </p:nvSpPr>
              <p:spPr>
                <a:xfrm>
                  <a:off x="2883600" y="458748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ragmatic, realistic (manage risk) 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77"/>
                <p:cNvSpPr/>
                <p:nvPr/>
              </p:nvSpPr>
              <p:spPr>
                <a:xfrm>
                  <a:off x="2808000" y="458748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Group 80"/>
              <p:cNvGrpSpPr/>
              <p:nvPr/>
            </p:nvGrpSpPr>
            <p:grpSpPr>
              <a:xfrm>
                <a:off x="5567400" y="4587480"/>
                <a:ext cx="3038400" cy="414720"/>
                <a:chOff x="5567400" y="4587480"/>
                <a:chExt cx="3038400" cy="414720"/>
              </a:xfrm>
            </p:grpSpPr>
            <p:sp>
              <p:nvSpPr>
                <p:cNvPr id="193" name="Rectangle 27"/>
                <p:cNvSpPr/>
                <p:nvPr/>
              </p:nvSpPr>
              <p:spPr>
                <a:xfrm>
                  <a:off x="5643360" y="458748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Idealistic (improve lives, society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79"/>
                <p:cNvSpPr/>
                <p:nvPr/>
              </p:nvSpPr>
              <p:spPr>
                <a:xfrm>
                  <a:off x="5567400" y="458748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82"/>
              <p:cNvGrpSpPr/>
              <p:nvPr/>
            </p:nvGrpSpPr>
            <p:grpSpPr>
              <a:xfrm>
                <a:off x="1375200" y="5002200"/>
                <a:ext cx="1432440" cy="414360"/>
                <a:chOff x="1375200" y="5002200"/>
                <a:chExt cx="1432440" cy="414360"/>
              </a:xfrm>
            </p:grpSpPr>
            <p:sp>
              <p:nvSpPr>
                <p:cNvPr id="196" name="Rectangle 28"/>
                <p:cNvSpPr/>
                <p:nvPr/>
              </p:nvSpPr>
              <p:spPr>
                <a:xfrm>
                  <a:off x="1451160" y="500220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Major actors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81"/>
                <p:cNvSpPr/>
                <p:nvPr/>
              </p:nvSpPr>
              <p:spPr>
                <a:xfrm>
                  <a:off x="1375200" y="500220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Group 84"/>
              <p:cNvGrpSpPr/>
              <p:nvPr/>
            </p:nvGrpSpPr>
            <p:grpSpPr>
              <a:xfrm>
                <a:off x="2808000" y="5002200"/>
                <a:ext cx="2759040" cy="414360"/>
                <a:chOff x="2808000" y="5002200"/>
                <a:chExt cx="2759040" cy="414360"/>
              </a:xfrm>
            </p:grpSpPr>
            <p:sp>
              <p:nvSpPr>
                <p:cNvPr id="199" name="Rectangle 29"/>
                <p:cNvSpPr/>
                <p:nvPr/>
              </p:nvSpPr>
              <p:spPr>
                <a:xfrm>
                  <a:off x="2883600" y="500220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otential victim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83"/>
                <p:cNvSpPr/>
                <p:nvPr/>
              </p:nvSpPr>
              <p:spPr>
                <a:xfrm>
                  <a:off x="2808000" y="500220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86"/>
              <p:cNvGrpSpPr/>
              <p:nvPr/>
            </p:nvGrpSpPr>
            <p:grpSpPr>
              <a:xfrm>
                <a:off x="5567400" y="5002200"/>
                <a:ext cx="3038400" cy="414360"/>
                <a:chOff x="5567400" y="5002200"/>
                <a:chExt cx="3038400" cy="414360"/>
              </a:xfrm>
            </p:grpSpPr>
            <p:sp>
              <p:nvSpPr>
                <p:cNvPr id="202" name="Rectangle 30"/>
                <p:cNvSpPr/>
                <p:nvPr/>
              </p:nvSpPr>
              <p:spPr>
                <a:xfrm>
                  <a:off x="5643360" y="500220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Government, communities, famili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85"/>
                <p:cNvSpPr/>
                <p:nvPr/>
              </p:nvSpPr>
              <p:spPr>
                <a:xfrm>
                  <a:off x="5567400" y="500220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88"/>
              <p:cNvGrpSpPr/>
              <p:nvPr/>
            </p:nvGrpSpPr>
            <p:grpSpPr>
              <a:xfrm>
                <a:off x="1375200" y="5416920"/>
                <a:ext cx="1432440" cy="414360"/>
                <a:chOff x="1375200" y="5416920"/>
                <a:chExt cx="1432440" cy="414360"/>
              </a:xfrm>
            </p:grpSpPr>
            <p:sp>
              <p:nvSpPr>
                <p:cNvPr id="205" name="Rectangle 31"/>
                <p:cNvSpPr/>
                <p:nvPr/>
              </p:nvSpPr>
              <p:spPr>
                <a:xfrm>
                  <a:off x="1451160" y="541692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Institutions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87"/>
                <p:cNvSpPr/>
                <p:nvPr/>
              </p:nvSpPr>
              <p:spPr>
                <a:xfrm>
                  <a:off x="1375200" y="541692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Group 90"/>
              <p:cNvGrpSpPr/>
              <p:nvPr/>
            </p:nvGrpSpPr>
            <p:grpSpPr>
              <a:xfrm>
                <a:off x="2808000" y="5416920"/>
                <a:ext cx="2759040" cy="414360"/>
                <a:chOff x="2808000" y="5416920"/>
                <a:chExt cx="2759040" cy="414360"/>
              </a:xfrm>
            </p:grpSpPr>
            <p:sp>
              <p:nvSpPr>
                <p:cNvPr id="208" name="Rectangle 32"/>
                <p:cNvSpPr/>
                <p:nvPr/>
              </p:nvSpPr>
              <p:spPr>
                <a:xfrm>
                  <a:off x="2883600" y="541692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lace/Comm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89"/>
                <p:cNvSpPr/>
                <p:nvPr/>
              </p:nvSpPr>
              <p:spPr>
                <a:xfrm>
                  <a:off x="2808000" y="541692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Group 92"/>
              <p:cNvGrpSpPr/>
              <p:nvPr/>
            </p:nvGrpSpPr>
            <p:grpSpPr>
              <a:xfrm>
                <a:off x="5567400" y="5416920"/>
                <a:ext cx="3038400" cy="414360"/>
                <a:chOff x="5567400" y="5416920"/>
                <a:chExt cx="3038400" cy="414360"/>
              </a:xfrm>
            </p:grpSpPr>
            <p:sp>
              <p:nvSpPr>
                <p:cNvPr id="211" name="Rectangle 33"/>
                <p:cNvSpPr/>
                <p:nvPr/>
              </p:nvSpPr>
              <p:spPr>
                <a:xfrm>
                  <a:off x="5643360" y="541692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Family, school, labour market, comm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91"/>
                <p:cNvSpPr/>
                <p:nvPr/>
              </p:nvSpPr>
              <p:spPr>
                <a:xfrm>
                  <a:off x="5567400" y="541692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94"/>
              <p:cNvGrpSpPr/>
              <p:nvPr/>
            </p:nvGrpSpPr>
            <p:grpSpPr>
              <a:xfrm>
                <a:off x="1375200" y="5831280"/>
                <a:ext cx="1432440" cy="414720"/>
                <a:chOff x="1375200" y="5831280"/>
                <a:chExt cx="1432440" cy="414720"/>
              </a:xfrm>
            </p:grpSpPr>
            <p:sp>
              <p:nvSpPr>
                <p:cNvPr id="214" name="Rectangle 34"/>
                <p:cNvSpPr/>
                <p:nvPr/>
              </p:nvSpPr>
              <p:spPr>
                <a:xfrm>
                  <a:off x="1451160" y="5831280"/>
                  <a:ext cx="12801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Temporal scope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93"/>
                <p:cNvSpPr/>
                <p:nvPr/>
              </p:nvSpPr>
              <p:spPr>
                <a:xfrm>
                  <a:off x="1375200" y="5831280"/>
                  <a:ext cx="14324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96"/>
              <p:cNvGrpSpPr/>
              <p:nvPr/>
            </p:nvGrpSpPr>
            <p:grpSpPr>
              <a:xfrm>
                <a:off x="2808000" y="5831280"/>
                <a:ext cx="2759040" cy="414720"/>
                <a:chOff x="2808000" y="5831280"/>
                <a:chExt cx="2759040" cy="414720"/>
              </a:xfrm>
            </p:grpSpPr>
            <p:sp>
              <p:nvSpPr>
                <p:cNvPr id="217" name="Rectangle 35"/>
                <p:cNvSpPr/>
                <p:nvPr/>
              </p:nvSpPr>
              <p:spPr>
                <a:xfrm>
                  <a:off x="2883600" y="583128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hort-term (temporary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95"/>
                <p:cNvSpPr/>
                <p:nvPr/>
              </p:nvSpPr>
              <p:spPr>
                <a:xfrm>
                  <a:off x="2808000" y="583128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Group 98"/>
              <p:cNvGrpSpPr/>
              <p:nvPr/>
            </p:nvGrpSpPr>
            <p:grpSpPr>
              <a:xfrm>
                <a:off x="5567400" y="5831280"/>
                <a:ext cx="3038400" cy="414720"/>
                <a:chOff x="5567400" y="5831280"/>
                <a:chExt cx="3038400" cy="414720"/>
              </a:xfrm>
            </p:grpSpPr>
            <p:sp>
              <p:nvSpPr>
                <p:cNvPr id="220" name="Rectangle 36"/>
                <p:cNvSpPr/>
                <p:nvPr/>
              </p:nvSpPr>
              <p:spPr>
                <a:xfrm>
                  <a:off x="5643360" y="583128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Long-term (permanent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97"/>
                <p:cNvSpPr/>
                <p:nvPr/>
              </p:nvSpPr>
              <p:spPr>
                <a:xfrm>
                  <a:off x="5567400" y="583128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Rectangle 100"/>
            <p:cNvSpPr/>
            <p:nvPr/>
          </p:nvSpPr>
          <p:spPr>
            <a:xfrm>
              <a:off x="1371600" y="1371600"/>
              <a:ext cx="7238520" cy="487692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Over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Theories of crime causation underlying SC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Definitions &amp; descri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Situational vs. social development crime pre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Critiq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Field exerc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SCP involves the management, design, or manipulation of the immediate physical environm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Primary objective: </a:t>
            </a: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reduce the opportunit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for criminal activ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Opportunity for reducing crime can be pursued by: (i) “organizing” the immediate physical environment or (ii) organizing individuals (e.g., Neighbourhood Wat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Critiques: only addresses symptoms (not root causes); does not prevent crime, may only deflect/displace 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Theoretical Assumptions of Crime Causation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7724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outine Activity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– Every crime involves three elements: an offender, a target, &amp; an insufficiently guarded environment (thus, must address one or all three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ational Choice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- Criminals make rational choices (not randomly) &amp; thus can be deterred from crim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rime Pattern Theory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– There exists spatial &amp; temporal 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paths that bring offenders &amp; victims together at certain location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Offender Search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- Crime is opportunistic; offenders respond to cues given out by the environment (thus, must focus on reducing opportunities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Broken Windows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– Disorder &amp; incivility problems lead to more serious crime in a neighborhood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outine Activity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eeks to explain the supply of criminal opportunities in a particular place &amp; t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dentifies three minimal elements that must be present for a predatory crime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 likely offend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 suitable targe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sufficiently guarded environmen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s such, prevention should address the convergence of these three ele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outine Activity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Picture 3" descr="Figure 2.1.jpg"/>
          <p:cNvPicPr/>
          <p:nvPr/>
        </p:nvPicPr>
        <p:blipFill>
          <a:blip r:embed="rId1"/>
          <a:stretch/>
        </p:blipFill>
        <p:spPr>
          <a:xfrm>
            <a:off x="3132000" y="1916280"/>
            <a:ext cx="3409920" cy="36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ational Choice Theory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45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ory of human decision-mak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riminals make rational choices (&amp; not randomly, therefore uncontrollably) &amp; thus can be deterred from cr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 potential criminal is seen as a self-maximizing decision-maker who  calculates  advantages &amp; disadvantages associated with specific criminal ac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refore, prevention is aimed at altering the decision-making process to increase the risks/effort or decrease potential rewards of offend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ffender Search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ost (property) crime is opportunisti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pportunistic behavior is provoked by cues given out by the environment (including specific design feature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se “releaser cues” stimulate the release of otherwise inhibited behavi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Releaser cues (e.g., specific design features, low informal social control, etc.) communicate to a potential offender that acts of vandalism or crime are acceptable or attainable in certain situations/environ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Crime Pattern Theory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nvironmental Criminology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is concerned with how environmental or contextual factors (time, space, physical properties) can influence the decision-making process of the criminal offender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nalyzes the “location of crimes, characteristics of those locations, the movement paths that bring offenders &amp; victims together at those locations, &amp; people’s perception of crime  locations” (Brantingham &amp; Brantingham, 1981, 8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riminal acts do not occur randomly in time or space, but are influenced by the routine movements of offenders &amp; victim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s such, criminal victimization can be predicted &amp; prevente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20:39:15Z</dcterms:created>
  <dc:creator>Stephen Schneider</dc:creator>
  <dc:description/>
  <dc:language>en-US</dc:language>
  <cp:lastModifiedBy>Lindens</cp:lastModifiedBy>
  <dcterms:modified xsi:type="dcterms:W3CDTF">2014-04-28T13:30:17Z</dcterms:modified>
  <cp:revision>63</cp:revision>
  <dc:subject/>
  <dc:title>JUS 500:  THE THEORY AND PRACTICE OF CRIME PREVENTION</dc:title>
</cp:coreProperties>
</file>