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.wmf" ContentType="image/x-wmf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86AD-DB4D-4D10-9921-0E95C7AEB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A254-C3E4-4AE6-9665-CC35E94CB76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6874-56D4-4390-9881-48900FDB89D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A6CE-4F10-43DC-885E-5F009086A2F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081A-D9F8-4750-B756-88CE2502AA4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07A7-FE78-4822-8A8E-ADDD40BCE71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32A5-7F80-499D-8DD4-AC0B0DA2BB1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7D88-72B4-41C3-92D4-FFE52F8E944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DF23-15E6-457C-8A1F-7B968ED455B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A6C0-83A4-4C8E-BEE7-6EE63736FB2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1D07-21C0-4602-A263-84685106F64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DC1-7BD6-433A-863B-DC2D89DAF87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B527-6118-4BF1-AEBD-7AB249A6A07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A101-18B7-4D41-8EFE-FAA09131D20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59FA-2BAD-4BC8-B03D-E03B8FCAAFD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8184-6C6B-444D-828A-FCF60FDFDA0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3F58-6B03-49D2-BAD1-2ED6870DF8F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2903-A7C5-4894-8832-F9A544E1CB2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DD0-6FEB-4389-A7FB-10C1C6BC067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F0D7-9784-44DC-ACE0-A5B8333C367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A920-4636-4013-8FFE-B5DBABD1445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4446-E535-4153-B182-9A7EC7D8D16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9599-1964-4B8F-81AD-1B447ADA362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6B5-2733-4785-B502-12A72E679B9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93DA-69C8-4C8E-9E0A-EC0538F1D28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0D2F-4A3C-4A88-A57B-46B46B15555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860-E8FA-45DB-8B07-744425DA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543-5C54-4CEF-A284-FF7AD804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CEA-A0F2-484B-A65B-E398FCF1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01D-CD27-47F5-8B16-BB8BF0CF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5BA1-A3EE-495E-AEA5-F1EDA71D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4C96-11C5-4AE4-A20D-682E3CE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728C-17B2-464C-AA7B-B1FC9FDA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1327-4177-42CE-A44E-2A9F49FE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CF58-ED22-458E-AB36-C9412F28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C4A8-0390-4010-AC0B-189875E4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1496-22CE-46A0-B4B9-97D4832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0C7-5098-44F4-A036-8DCD3E7E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2BCB-306A-4A5A-8BCE-620C9A0B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BB10-C725-4738-B6D3-EDA31067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43CA-247D-4F1E-B311-01E1E27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DB09-05C9-4CFB-90D2-F4746247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FDAC-EE90-44C4-A2E4-950B09DE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427-EED6-4D2A-A63F-0EB0C8F2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605-D5B6-41D0-B4E1-286EBF2A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5BE-2E97-42B3-AAB7-9002B4B5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5B5-15EC-40EF-8609-F1045C96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8FA-302B-4E1C-9E1A-678BE56F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9ED-4D14-4A96-BE02-2F15039F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A87-C6B8-4BBB-99C5-F56537A0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8240"/>
            <a:ext cx="289548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4BC1-E0E8-4D97-81D8-4147D36099A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3"/>
          <p:cNvGrpSpPr/>
          <p:nvPr/>
        </p:nvGrpSpPr>
        <p:grpSpPr>
          <a:xfrm>
            <a:off x="228600" y="1981080"/>
            <a:ext cx="7391520" cy="320760"/>
            <a:chOff x="228600" y="1981080"/>
            <a:chExt cx="7391520" cy="320760"/>
          </a:xfrm>
        </p:grpSpPr>
        <p:sp>
          <p:nvSpPr>
            <p:cNvPr id="10" name="AutoShape 11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28600" y="1981080"/>
              <a:ext cx="395280" cy="3207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9" h="202">
                  <a:moveTo>
                    <a:pt x="124" y="0"/>
                  </a:moveTo>
                  <a:lnTo>
                    <a:pt x="112" y="1"/>
                  </a:lnTo>
                  <a:lnTo>
                    <a:pt x="99" y="2"/>
                  </a:lnTo>
                  <a:lnTo>
                    <a:pt x="87" y="5"/>
                  </a:lnTo>
                  <a:lnTo>
                    <a:pt x="76" y="8"/>
                  </a:lnTo>
                  <a:lnTo>
                    <a:pt x="65" y="12"/>
                  </a:lnTo>
                  <a:lnTo>
                    <a:pt x="55" y="17"/>
                  </a:lnTo>
                  <a:lnTo>
                    <a:pt x="45" y="23"/>
                  </a:lnTo>
                  <a:lnTo>
                    <a:pt x="37" y="29"/>
                  </a:lnTo>
                  <a:lnTo>
                    <a:pt x="29" y="37"/>
                  </a:lnTo>
                  <a:lnTo>
                    <a:pt x="22" y="44"/>
                  </a:lnTo>
                  <a:lnTo>
                    <a:pt x="15" y="52"/>
                  </a:lnTo>
                  <a:lnTo>
                    <a:pt x="10" y="61"/>
                  </a:lnTo>
                  <a:lnTo>
                    <a:pt x="6" y="70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10"/>
                  </a:lnTo>
                  <a:lnTo>
                    <a:pt x="2" y="120"/>
                  </a:lnTo>
                  <a:lnTo>
                    <a:pt x="6" y="130"/>
                  </a:lnTo>
                  <a:lnTo>
                    <a:pt x="10" y="139"/>
                  </a:lnTo>
                  <a:lnTo>
                    <a:pt x="15" y="148"/>
                  </a:lnTo>
                  <a:lnTo>
                    <a:pt x="22" y="157"/>
                  </a:lnTo>
                  <a:lnTo>
                    <a:pt x="29" y="165"/>
                  </a:lnTo>
                  <a:lnTo>
                    <a:pt x="37" y="172"/>
                  </a:lnTo>
                  <a:lnTo>
                    <a:pt x="45" y="178"/>
                  </a:lnTo>
                  <a:lnTo>
                    <a:pt x="55" y="184"/>
                  </a:lnTo>
                  <a:lnTo>
                    <a:pt x="65" y="189"/>
                  </a:lnTo>
                  <a:lnTo>
                    <a:pt x="76" y="193"/>
                  </a:lnTo>
                  <a:lnTo>
                    <a:pt x="87" y="197"/>
                  </a:lnTo>
                  <a:lnTo>
                    <a:pt x="99" y="199"/>
                  </a:lnTo>
                  <a:lnTo>
                    <a:pt x="112" y="200"/>
                  </a:lnTo>
                  <a:lnTo>
                    <a:pt x="124" y="201"/>
                  </a:lnTo>
                  <a:lnTo>
                    <a:pt x="248" y="201"/>
                  </a:lnTo>
                  <a:lnTo>
                    <a:pt x="248" y="0"/>
                  </a:lnTo>
                  <a:lnTo>
                    <a:pt x="124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3632040" y="4889520"/>
            <a:ext cx="4878720" cy="320760"/>
            <a:chOff x="3632040" y="4889520"/>
            <a:chExt cx="4878720" cy="320760"/>
          </a:xfrm>
        </p:grpSpPr>
        <p:sp>
          <p:nvSpPr>
            <p:cNvPr id="51" name="AutoShape 5"/>
            <p:cNvSpPr/>
            <p:nvPr/>
          </p:nvSpPr>
          <p:spPr>
            <a:xfrm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48680" y="4889520"/>
              <a:ext cx="262080" cy="3207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65" h="202">
                  <a:moveTo>
                    <a:pt x="82" y="0"/>
                  </a:moveTo>
                  <a:lnTo>
                    <a:pt x="91" y="1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2"/>
                  </a:lnTo>
                  <a:lnTo>
                    <a:pt x="128" y="17"/>
                  </a:lnTo>
                  <a:lnTo>
                    <a:pt x="134" y="23"/>
                  </a:lnTo>
                  <a:lnTo>
                    <a:pt x="140" y="29"/>
                  </a:lnTo>
                  <a:lnTo>
                    <a:pt x="145" y="37"/>
                  </a:lnTo>
                  <a:lnTo>
                    <a:pt x="150" y="44"/>
                  </a:lnTo>
                  <a:lnTo>
                    <a:pt x="154" y="52"/>
                  </a:lnTo>
                  <a:lnTo>
                    <a:pt x="158" y="61"/>
                  </a:lnTo>
                  <a:lnTo>
                    <a:pt x="160" y="70"/>
                  </a:lnTo>
                  <a:lnTo>
                    <a:pt x="162" y="80"/>
                  </a:lnTo>
                  <a:lnTo>
                    <a:pt x="163" y="90"/>
                  </a:lnTo>
                  <a:lnTo>
                    <a:pt x="164" y="100"/>
                  </a:lnTo>
                  <a:lnTo>
                    <a:pt x="163" y="110"/>
                  </a:lnTo>
                  <a:lnTo>
                    <a:pt x="162" y="120"/>
                  </a:lnTo>
                  <a:lnTo>
                    <a:pt x="160" y="130"/>
                  </a:lnTo>
                  <a:lnTo>
                    <a:pt x="158" y="139"/>
                  </a:lnTo>
                  <a:lnTo>
                    <a:pt x="154" y="148"/>
                  </a:lnTo>
                  <a:lnTo>
                    <a:pt x="150" y="157"/>
                  </a:lnTo>
                  <a:lnTo>
                    <a:pt x="145" y="165"/>
                  </a:lnTo>
                  <a:lnTo>
                    <a:pt x="140" y="172"/>
                  </a:lnTo>
                  <a:lnTo>
                    <a:pt x="134" y="178"/>
                  </a:lnTo>
                  <a:lnTo>
                    <a:pt x="128" y="184"/>
                  </a:lnTo>
                  <a:lnTo>
                    <a:pt x="121" y="189"/>
                  </a:lnTo>
                  <a:lnTo>
                    <a:pt x="114" y="193"/>
                  </a:lnTo>
                  <a:lnTo>
                    <a:pt x="106" y="197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2" y="201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82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2000"/>
            <a:ext cx="327996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9040"/>
            <a:ext cx="587520" cy="4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E92A-10CC-4B3B-AFD4-FBCFD9A162A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060720" cy="3668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C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ime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P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evention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T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hrough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E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nvironmental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D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esig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6320" y="3573360"/>
            <a:ext cx="317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hapter 2 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rime Preven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Theory &amp; Pract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Hierarchy of Space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(Spatial Hierarch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a residential environment should help identify ownership by delineating private space from public space through real or symbolic boundar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patial hierarchy can be achieved by creating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real boundaries through fenc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ymbolic boundaries such as landscaping or differing the grade or paving stone colours of private space from that of public spac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7432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 should help foster people’s vigilance &amp; ownership over their homes, public space, &amp; the neighbourhood as a who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Territoriality in public &amp; semi-public areas can be enhanced b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ing a clear definition of “controlled”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clearly-marked transitional zones for people moving from public to 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ttracting local residents to use public &amp; semi-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Providing common activity areas helps to stimulate social interaction, which may lead to greater social cohesion &amp; informal social contro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095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7061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public space should encourage the intended use of this space by residents and legitimate us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is can be achieved by designing public or semi-public spaces to include parks, playgrounds, benches, lighting, or promenade-style sidewalk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tivity support is important for increasing the surveillance opportunities of &amp; fostering territoriality among local resid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024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Ensuring that a building or area is clean, well-maintained, &amp; graffiti-free prevents a perception of neglect &amp; vulnerability by potential offend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It can also instil in residents a greater pride in their neighbourhood, thereby promoting community ownership &amp; territor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35240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Strategies, Concepts, Princip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design or location decision should take into consideration the surrounding environment &amp; user group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potential negative impact on a site by the surrounding environment should be considered, primarily by avoiding the use of the site by incompatible groups (e.g., don’t locate tavern or seniors home next to high schoo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Generation CP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ritics charge that CPTED proponents give too much weight to the role of the environment in influencing crime &amp; criminal behavior; social &amp; demographic variables are critical in maximizing efficacy of safe desig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CA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Gen CPTED focuses on building local social capital by foster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ocal social cohe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nectivity among neighborhood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unique local community cultu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ocial stabilizers” that promote all of the above while minimizing destabilizing activities that can promote crime &amp; disorder (e.g., bars, pawn shops, et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CPTED Strategie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maximize residents’ opportunities for surveillance of dwellings &amp; public spa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learly define the boundaries between public &amp; private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encourage a sense of ownership, responsibility &amp; territoriality among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imit the number of access &amp; exit points &amp; routes through a neighbourhoo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e adequate interior &amp; exterior lighting, stressing bright white ligh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 any building design or ground-level planting that may provide concealmen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keep the surrounding area clean, well-maintained, graffiti-free &amp; attractiv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sider the security implications of a site before locating ther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tress a partnership approach to CP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ncorporate CPTED into a comprehensive crime prevention program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123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PTED Case Studi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348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Ov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ntecede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concepts/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Second generation CP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ommon CPTED 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ase stud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3139920" y="2362320"/>
            <a:ext cx="3548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597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n Harrison Community Complex (Toronto, ON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190760" cy="2801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800600" y="3065400"/>
            <a:ext cx="4114800" cy="27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457200" y="2514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Befor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76920" y="2514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Afte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lawney (Mississuaga, Ontari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2335320" cy="3733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3733920" y="2971800"/>
            <a:ext cx="4495680" cy="3013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11430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Modular Lotting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8006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Trelawne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219320" y="2428920"/>
            <a:ext cx="6949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TED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PTED attempts to prevent crime in two basic way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1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 by restricting access to property &amp; removing criminal opportunities. (e.g., maximizing residents’ opportunities for surveillance, restricting access to property, increasing security, removing valuables, etc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2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in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, fear, &amp; related problems by influencing the behaviour of residents &amp; other legitimate users of that space.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Jane Jacob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lower neighborhood crime rates are a function of design that provides increased (natural) surveillance opportunities to legitimate residents &amp; pedestri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us, safe design maximizes strategies that draw “eyes &amp; ears” on the str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Oscar Newman’s Defensible Space theor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physical environment could be designed to release the latent sense of “territoriality” among inhabi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is would translate into residents’ responsibility for preserving a safe, clean, &amp; well-maintained liv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Concepts/Strateg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Natural Surveill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cess Contro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Spatial Hierarc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erritoriality/Defensibl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Natural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Surveill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978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maximize the ability of users to spot suspicious people &amp; activities during their daily activit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Natural surveillance opportunities can be enhanced by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orienting windows to entry ways, vulnerable points or public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landscapes that allow unobstructed views of surrounding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mproving visibility with lighting, transparent building materials, or white paint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ing the creation of entrapment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Artificial surveillance (e.g., CCT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tentional surveillance (security guards, citizen patrol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5" descr="http://www.lancastercsc.org/images/Natural_Surveillance_House_Bad.gif"/>
          <p:cNvPicPr/>
          <p:nvPr/>
        </p:nvPicPr>
        <p:blipFill>
          <a:blip r:embed="rId1"/>
          <a:stretch/>
        </p:blipFill>
        <p:spPr>
          <a:xfrm>
            <a:off x="4427640" y="333360"/>
            <a:ext cx="4248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8001000" cy="9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54524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control access to a site, limiting unnecessary traffic &amp; deterring offenders from ent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sends a message to potential offenders that they are at greater risk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can be achieved by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ensuring entrances are clearly defined, well lit, &amp; overlooked by window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stalling security hardw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ing streets to prevent a quick &amp; easy entry &amp; exi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6" descr="https://encrypted-tbn3.gstatic.com/images?q=tbn:ANd9GcQq0ClqvvVRTk2Ay0JEi2jbe72F1V5z1IhOEwAUy29m4WbyBGdYsAbRnTu-"/>
          <p:cNvPicPr/>
          <p:nvPr/>
        </p:nvPicPr>
        <p:blipFill>
          <a:blip r:embed="rId1"/>
          <a:stretch/>
        </p:blipFill>
        <p:spPr>
          <a:xfrm>
            <a:off x="5364000" y="4762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use of security devices &amp; hardware to lessen the vulnerability of potential targets to crime &amp; nuisan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argets can be made more impenetrable to offenders through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ecurity hardwa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fortified doorfram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gates &amp; fenc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http://i434.photobucket.com/albums/qq66/TKPNPodcast/afe8.jpg"/>
          <p:cNvPicPr/>
          <p:nvPr/>
        </p:nvPicPr>
        <p:blipFill>
          <a:blip r:embed="rId1"/>
          <a:stretch/>
        </p:blipFill>
        <p:spPr>
          <a:xfrm>
            <a:off x="5580000" y="260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4:02:49Z</dcterms:created>
  <dc:creator>Steve Schneider</dc:creator>
  <dc:description/>
  <dc:language>en-US</dc:language>
  <cp:lastModifiedBy>Lindens</cp:lastModifiedBy>
  <dcterms:modified xsi:type="dcterms:W3CDTF">2014-04-28T14:24:49Z</dcterms:modified>
  <cp:revision>46</cp:revision>
  <dc:subject/>
  <dc:title>Researching Organized Crime for Policy Purposes: Challenges, Critiques, and Recommendations</dc:title>
</cp:coreProperties>
</file>