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11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33.wmf" ContentType="image/x-wmf"/>
  <Override PartName="/ppt/media/image25.png" ContentType="image/png"/>
  <Override PartName="/ppt/media/image10.wmf" ContentType="image/x-wmf"/>
  <Override PartName="/ppt/media/image6.wmf" ContentType="image/x-wmf"/>
  <Override PartName="/ppt/media/image36.wmf" ContentType="image/x-wmf"/>
  <Override PartName="/ppt/media/image32.png" ContentType="image/png"/>
  <Override PartName="/ppt/media/image38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49B-1062-48EC-8CA6-5D893E9B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A57-806D-4BF8-B59C-8750EAEE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F85-B93D-4AA5-B2A0-35196E70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311-4B23-4AEA-A19D-AA4F245B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1359-773B-4A27-97DF-57DD3B92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7026-7F79-499A-A6AB-D31F1F70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A609-D068-49C8-BF2D-71BA75C7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3D28-6482-4ABE-A3F8-77BA83F6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78BD-BA69-46EA-9B0B-98FBC5FB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3B55-C59B-4965-965A-06FE84FB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0ED3-00E7-4FF5-9D48-15EA2FC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F6C-9906-4252-9D51-9E7AEC8D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33EC-A3B3-42FD-ABFC-FB3A6BB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6768-34FF-4836-B03B-764150CD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9DCB-559E-4317-9F64-9006F26E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3BB9-43D7-4589-90FB-3548CB69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9098-384C-4227-9FC9-42A614CB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EF5-49A7-4969-8A1D-9510A6B1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B62-AF62-481A-A5DF-FDF10102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99E-1581-4776-BAF9-BA4F7AC1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1CF-1DFF-4C45-994E-BF3470C8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99E-2E6E-44A2-9C74-BAAAAD7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F33-1506-4E1E-893F-3AA1974B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9B3-3FE1-4AED-B228-AFC3C8DD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muel H. Huang, Fall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DF58-CCAE-481B-8AFA-894F66F20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muel H. Huang, 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FC2F-E69A-4AA5-864F-F4D4CC57E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nderstanding Customer Demand: Foreca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oise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hart 6" descr=""/>
          <p:cNvPicPr/>
          <p:nvPr/>
        </p:nvPicPr>
        <p:blipFill>
          <a:blip r:embed="rId1"/>
          <a:stretch/>
        </p:blipFill>
        <p:spPr>
          <a:xfrm>
            <a:off x="1139760" y="1749600"/>
            <a:ext cx="7394760" cy="4346280"/>
          </a:xfrm>
          <a:prstGeom prst="rect">
            <a:avLst/>
          </a:prstGeom>
          <a:ln w="0">
            <a:noFill/>
          </a:ln>
        </p:spPr>
      </p:pic>
      <p:sp>
        <p:nvSpPr>
          <p:cNvPr id="14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ponse to Process Chan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5" name="Chart 7" descr=""/>
          <p:cNvPicPr/>
          <p:nvPr/>
        </p:nvPicPr>
        <p:blipFill>
          <a:blip r:embed="rId1"/>
          <a:stretch/>
        </p:blipFill>
        <p:spPr>
          <a:xfrm>
            <a:off x="1219320" y="1749600"/>
            <a:ext cx="7388280" cy="432252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ponential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forecast based on the most recent data poi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weighted average of all historical data points, with the weight decreasing exponentially with the age of the data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1066680" y="2743200"/>
                <a:ext cx="3014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5"/>
              <p:cNvSpPr txBox="1"/>
              <p:nvPr/>
            </p:nvSpPr>
            <p:spPr>
              <a:xfrm>
                <a:off x="990720" y="3276720"/>
                <a:ext cx="4039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α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990720" y="3733920"/>
                <a:ext cx="5840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α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990720" y="4211640"/>
                <a:ext cx="788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α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α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ponential Smoothing Forecast for Constant Proc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initial estimates can be used – average of several past data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1371600" y="2819520"/>
                <a:ext cx="487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α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2160720" y="3375000"/>
                <a:ext cx="4545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α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[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4005360" y="57636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4470120" y="871560"/>
            <a:ext cx="203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5"/>
              <p:cNvSpPr txBox="1"/>
              <p:nvPr/>
            </p:nvSpPr>
            <p:spPr>
              <a:xfrm>
                <a:off x="1380960" y="3886200"/>
                <a:ext cx="1819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7"/>
              <p:cNvSpPr txBox="1"/>
              <p:nvPr/>
            </p:nvSpPr>
            <p:spPr>
              <a:xfrm>
                <a:off x="1343160" y="4572000"/>
                <a:ext cx="5972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9"/>
              <p:cNvSpPr txBox="1"/>
              <p:nvPr/>
            </p:nvSpPr>
            <p:spPr>
              <a:xfrm>
                <a:off x="1295280" y="5257800"/>
                <a:ext cx="268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4419720" y="5029200"/>
                <a:ext cx="3994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α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3"/>
              <p:cNvSpPr txBox="1"/>
              <p:nvPr/>
            </p:nvSpPr>
            <p:spPr>
              <a:xfrm>
                <a:off x="4267080" y="5867280"/>
                <a:ext cx="1197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Exponential 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1139760" y="1676520"/>
            <a:ext cx="7381800" cy="397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Object 4"/>
          <p:cNvGraphicFramePr/>
          <p:nvPr/>
        </p:nvGraphicFramePr>
        <p:xfrm>
          <a:off x="7696080" y="533412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3341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sensitive to Initial Estim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Chart 6" descr=""/>
          <p:cNvPicPr/>
          <p:nvPr/>
        </p:nvPicPr>
        <p:blipFill>
          <a:blip r:embed="rId1"/>
          <a:stretch/>
        </p:blipFill>
        <p:spPr>
          <a:xfrm>
            <a:off x="1676520" y="1749600"/>
            <a:ext cx="6553080" cy="432720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ffect of Weighting Fa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0" name="Chart 5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235640" cy="4340160"/>
          </a:xfrm>
          <a:prstGeom prst="rect">
            <a:avLst/>
          </a:prstGeom>
          <a:ln w="0">
            <a:noFill/>
          </a:ln>
        </p:spPr>
      </p:pic>
      <p:sp>
        <p:nvSpPr>
          <p:cNvPr id="191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ponse to Process Chan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Chart 6" descr=""/>
          <p:cNvPicPr/>
          <p:nvPr/>
        </p:nvPicPr>
        <p:blipFill>
          <a:blip r:embed="rId1"/>
          <a:stretch/>
        </p:blipFill>
        <p:spPr>
          <a:xfrm>
            <a:off x="1219320" y="1749600"/>
            <a:ext cx="7388280" cy="4346280"/>
          </a:xfrm>
          <a:prstGeom prst="rect">
            <a:avLst/>
          </a:prstGeom>
          <a:ln w="0">
            <a:noFill/>
          </a:ln>
        </p:spPr>
      </p:pic>
      <p:sp>
        <p:nvSpPr>
          <p:cNvPr id="195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end Model: Regr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parameters:   (level) and   (slo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squared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sum of squared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3962520" y="1822320"/>
                <a:ext cx="1866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3048120" y="3733920"/>
                <a:ext cx="31064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2"/>
              <p:cNvSpPr txBox="1"/>
              <p:nvPr/>
            </p:nvSpPr>
            <p:spPr>
              <a:xfrm>
                <a:off x="4648320" y="2514600"/>
                <a:ext cx="255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3"/>
              <p:cNvSpPr txBox="1"/>
              <p:nvPr/>
            </p:nvSpPr>
            <p:spPr>
              <a:xfrm>
                <a:off x="6705720" y="2460600"/>
                <a:ext cx="2556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end Model: Regression (Cont.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the two simultaneous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828800" y="5029200"/>
                <a:ext cx="2382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4572000" y="5010120"/>
                <a:ext cx="32958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t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2077920" y="1932120"/>
                <a:ext cx="54658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acc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2057400" y="3124080"/>
                <a:ext cx="5640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acc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ctors that Influence Deman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marketing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price dis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Regr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3"/>
          <p:cNvGraphicFramePr/>
          <p:nvPr/>
        </p:nvGraphicFramePr>
        <p:xfrm>
          <a:off x="7543800" y="5638680"/>
          <a:ext cx="914400" cy="7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6386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Chart 10" descr=""/>
          <p:cNvPicPr/>
          <p:nvPr/>
        </p:nvPicPr>
        <p:blipFill>
          <a:blip r:embed="rId3"/>
          <a:stretch/>
        </p:blipFill>
        <p:spPr>
          <a:xfrm>
            <a:off x="1139760" y="1749600"/>
            <a:ext cx="7315200" cy="373680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uble Exponential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level and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of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rade off between smoothing out noise and quick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400480" y="2971800"/>
                <a:ext cx="3573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2438280" y="2286000"/>
                <a:ext cx="3827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438280" y="3657600"/>
                <a:ext cx="1724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k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1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itial Estim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6"/>
          <p:cNvGraphicFramePr/>
          <p:nvPr/>
        </p:nvGraphicFramePr>
        <p:xfrm>
          <a:off x="1066680" y="1905120"/>
          <a:ext cx="7486920" cy="39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486920" cy="39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Double Exponential Smooth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7772400" y="5562720"/>
          <a:ext cx="914400" cy="7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5562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Chart 11" descr=""/>
          <p:cNvPicPr/>
          <p:nvPr/>
        </p:nvPicPr>
        <p:blipFill>
          <a:blip r:embed="rId3"/>
          <a:stretch/>
        </p:blipFill>
        <p:spPr>
          <a:xfrm>
            <a:off x="1219320" y="1749600"/>
            <a:ext cx="677844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asonal Process: Illustr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1523880" y="1905120"/>
          <a:ext cx="7162920" cy="41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16292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1049"/>
          <p:cNvGrpSpPr/>
          <p:nvPr/>
        </p:nvGrpSpPr>
        <p:grpSpPr>
          <a:xfrm>
            <a:off x="2210760" y="2514600"/>
            <a:ext cx="6018840" cy="4041000"/>
            <a:chOff x="2210760" y="2514600"/>
            <a:chExt cx="6018840" cy="4041000"/>
          </a:xfrm>
        </p:grpSpPr>
        <p:sp>
          <p:nvSpPr>
            <p:cNvPr id="250" name="Line 1029"/>
            <p:cNvSpPr/>
            <p:nvPr/>
          </p:nvSpPr>
          <p:spPr>
            <a:xfrm flipV="1">
              <a:off x="4191120" y="2514600"/>
              <a:ext cx="4038480" cy="5335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030"/>
            <p:cNvSpPr/>
            <p:nvPr/>
          </p:nvSpPr>
          <p:spPr>
            <a:xfrm flipV="1">
              <a:off x="2666880" y="4419360"/>
              <a:ext cx="4038840" cy="53316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031"/>
            <p:cNvSpPr/>
            <p:nvPr/>
          </p:nvSpPr>
          <p:spPr>
            <a:xfrm flipH="1">
              <a:off x="2590560" y="5029200"/>
              <a:ext cx="6094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032"/>
            <p:cNvSpPr/>
            <p:nvPr/>
          </p:nvSpPr>
          <p:spPr>
            <a:xfrm flipH="1">
              <a:off x="2819520" y="2971800"/>
              <a:ext cx="304776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033"/>
            <p:cNvSpPr/>
            <p:nvPr/>
          </p:nvSpPr>
          <p:spPr>
            <a:xfrm>
              <a:off x="2210760" y="6095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Tr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048"/>
          <p:cNvGrpSpPr/>
          <p:nvPr/>
        </p:nvGrpSpPr>
        <p:grpSpPr>
          <a:xfrm>
            <a:off x="991080" y="4876920"/>
            <a:ext cx="1523520" cy="1678680"/>
            <a:chOff x="991080" y="4876920"/>
            <a:chExt cx="1523520" cy="1678680"/>
          </a:xfrm>
        </p:grpSpPr>
        <p:sp>
          <p:nvSpPr>
            <p:cNvPr id="256" name="Line 1034"/>
            <p:cNvSpPr/>
            <p:nvPr/>
          </p:nvSpPr>
          <p:spPr>
            <a:xfrm flipH="1">
              <a:off x="1143000" y="4876920"/>
              <a:ext cx="1371600" cy="0"/>
            </a:xfrm>
            <a:prstGeom prst="line">
              <a:avLst/>
            </a:prstGeom>
            <a:ln w="255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036"/>
            <p:cNvSpPr/>
            <p:nvPr/>
          </p:nvSpPr>
          <p:spPr>
            <a:xfrm>
              <a:off x="1371600" y="4952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037"/>
            <p:cNvSpPr/>
            <p:nvPr/>
          </p:nvSpPr>
          <p:spPr>
            <a:xfrm>
              <a:off x="991080" y="60958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050"/>
          <p:cNvGrpSpPr/>
          <p:nvPr/>
        </p:nvGrpSpPr>
        <p:grpSpPr>
          <a:xfrm>
            <a:off x="1128600" y="1523880"/>
            <a:ext cx="7101000" cy="3200040"/>
            <a:chOff x="1128600" y="1523880"/>
            <a:chExt cx="7101000" cy="3200040"/>
          </a:xfrm>
        </p:grpSpPr>
        <p:sp>
          <p:nvSpPr>
            <p:cNvPr id="260" name="Line 1038"/>
            <p:cNvSpPr/>
            <p:nvPr/>
          </p:nvSpPr>
          <p:spPr>
            <a:xfrm flipV="1">
              <a:off x="2666880" y="1752120"/>
              <a:ext cx="0" cy="297180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39"/>
            <p:cNvSpPr/>
            <p:nvPr/>
          </p:nvSpPr>
          <p:spPr>
            <a:xfrm flipV="1">
              <a:off x="4191120" y="1752120"/>
              <a:ext cx="0" cy="114300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040"/>
            <p:cNvSpPr/>
            <p:nvPr/>
          </p:nvSpPr>
          <p:spPr>
            <a:xfrm>
              <a:off x="2819880" y="152388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bbd83"/>
                  </a:solidFill>
                  <a:latin typeface="Times New Roman"/>
                </a:rPr>
                <a:t>Cycl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41"/>
            <p:cNvSpPr/>
            <p:nvPr/>
          </p:nvSpPr>
          <p:spPr>
            <a:xfrm flipV="1">
              <a:off x="4724280" y="1752480"/>
              <a:ext cx="0" cy="281952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042"/>
            <p:cNvSpPr/>
            <p:nvPr/>
          </p:nvSpPr>
          <p:spPr>
            <a:xfrm flipV="1">
              <a:off x="6172200" y="1752480"/>
              <a:ext cx="0" cy="91440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043"/>
            <p:cNvSpPr/>
            <p:nvPr/>
          </p:nvSpPr>
          <p:spPr>
            <a:xfrm>
              <a:off x="4801320" y="152388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bbd83"/>
                  </a:solidFill>
                  <a:latin typeface="Times New Roman"/>
                </a:rPr>
                <a:t>Cycl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44"/>
            <p:cNvSpPr/>
            <p:nvPr/>
          </p:nvSpPr>
          <p:spPr>
            <a:xfrm flipV="1">
              <a:off x="6705720" y="1752120"/>
              <a:ext cx="0" cy="266724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045"/>
            <p:cNvSpPr/>
            <p:nvPr/>
          </p:nvSpPr>
          <p:spPr>
            <a:xfrm flipV="1">
              <a:off x="8229600" y="1752120"/>
              <a:ext cx="0" cy="685800"/>
            </a:xfrm>
            <a:prstGeom prst="line">
              <a:avLst/>
            </a:prstGeom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046"/>
            <p:cNvSpPr/>
            <p:nvPr/>
          </p:nvSpPr>
          <p:spPr>
            <a:xfrm>
              <a:off x="6858720" y="152388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bbd83"/>
                  </a:solidFill>
                  <a:latin typeface="Times New Roman"/>
                </a:rPr>
                <a:t>Cycl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1047"/>
            <p:cNvSpPr/>
            <p:nvPr/>
          </p:nvSpPr>
          <p:spPr>
            <a:xfrm>
              <a:off x="1128600" y="15238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bbd83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cbbd83"/>
                  </a:solidFill>
                  <a:latin typeface="Times New Roman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ltiplicative Mod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asonal factor for time peri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asonal factor remains unchanged from cycle to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erage of each cycle follows a trend process or a consta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4419720" y="1822320"/>
                <a:ext cx="2280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asonal Foreca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seasonal factor and deseasonaliz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he average for each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ycle, divide the data value by the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over each season to compute the seasonal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eason, divide the original data by the corresponding seasonal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asonal Forecasting (Cont.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 the deseasonaliz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average for each cycle using the deseasonaliz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 the cycle average data using an appropri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easonal 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model to forecast the cycle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the cycle average by the seasonal indices to make seasonal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Seasonal Foreca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Chart 8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01028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3"/>
          <p:cNvGraphicFramePr/>
          <p:nvPr/>
        </p:nvGraphicFramePr>
        <p:xfrm>
          <a:off x="7696080" y="518148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1814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orecast Error Analy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at the error for an isolated period does not provide usefu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formance of a forecasting model should be evaluated by studying the errors over the history of the entire forecast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3124080" y="2362320"/>
                <a:ext cx="1362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orecasting Metho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ualit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ly on human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urvey (customer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phi technique (expert opin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us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mand is highly correlated with certain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ast demand is a good indicator of future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mic consumer behavior to conduct what-i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a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fluctuate around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eviates significantly from 0, then the model is either underestimating (positive bias) or overestimating (negative bias) the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3240000" y="1760400"/>
                <a:ext cx="21751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4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an Absolute Deviation (MA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dispersion of error; smaller is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normal distribution the MAD and the error standard deviation 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re rel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124080" y="1600200"/>
                <a:ext cx="26514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5"/>
              <p:cNvSpPr txBox="1"/>
              <p:nvPr/>
            </p:nvSpPr>
            <p:spPr>
              <a:xfrm>
                <a:off x="1447920" y="4800600"/>
                <a:ext cx="35100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6019920" y="4876920"/>
                <a:ext cx="178596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an Squared Error (MSE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penalty for large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s both model bias and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gression based forecasting model minimizes its M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3429000" y="1600200"/>
                <a:ext cx="254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9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ean Absolute Percent Error (MAPE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relative to the magnitude of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s of low demand may distort the performance of the forecasting model (e.g., division by 0 if there is no demand in a certain time peri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2743200" y="1763640"/>
                <a:ext cx="4103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cking Signal (TS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eries measure to monitor the randomness of the forecast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pared to predefined control limits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to determine if the actual demand reflects the assumptions of the forecas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3809880" y="1600200"/>
                <a:ext cx="20113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a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of Forecast Error Analysis: Moving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543800" cy="4114800"/>
          </a:xfrm>
          <a:prstGeom prst="rect">
            <a:avLst/>
          </a:prstGeom>
          <a:ln w="0">
            <a:noFill/>
          </a:ln>
        </p:spPr>
      </p:pic>
      <p:sp>
        <p:nvSpPr>
          <p:cNvPr id="33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of Forecast Error Analysis: Regr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691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of Forecast Error Analy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Object 9"/>
          <p:cNvGraphicFramePr/>
          <p:nvPr/>
        </p:nvGraphicFramePr>
        <p:xfrm>
          <a:off x="7848720" y="5934240"/>
          <a:ext cx="914400" cy="7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93424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3"/>
          <a:stretch/>
        </p:blipFill>
        <p:spPr>
          <a:xfrm>
            <a:off x="1066680" y="1676520"/>
            <a:ext cx="75438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stant or Trend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40338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39052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Chart 11" descr=""/>
          <p:cNvPicPr/>
          <p:nvPr/>
        </p:nvPicPr>
        <p:blipFill>
          <a:blip r:embed="rId1"/>
          <a:stretch/>
        </p:blipFill>
        <p:spPr>
          <a:xfrm>
            <a:off x="1292400" y="1676520"/>
            <a:ext cx="6937200" cy="33526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5867280" y="1752480"/>
                <a:ext cx="2770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5"/>
              <p:cNvSpPr txBox="1"/>
              <p:nvPr/>
            </p:nvSpPr>
            <p:spPr>
              <a:xfrm>
                <a:off x="2057400" y="1752480"/>
                <a:ext cx="1206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63" name=""/>
          <p:cNvGraphicFramePr/>
          <p:nvPr/>
        </p:nvGraphicFramePr>
        <p:xfrm>
          <a:off x="1768320" y="5121360"/>
          <a:ext cx="6613560" cy="822240"/>
        </p:xfrm>
        <a:graphic>
          <a:graphicData uri="http://schemas.openxmlformats.org/drawingml/2006/table">
            <a:tbl>
              <a:tblPr/>
              <a:tblGrid>
                <a:gridCol w="2057400"/>
                <a:gridCol w="1219320"/>
                <a:gridCol w="1143000"/>
                <a:gridCol w="1143000"/>
                <a:gridCol w="105084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d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lidation Error Analy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Chart 8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540920" cy="327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1600200" y="5045040"/>
          <a:ext cx="6765840" cy="822240"/>
        </p:xfrm>
        <a:graphic>
          <a:graphicData uri="http://schemas.openxmlformats.org/drawingml/2006/table">
            <a:tbl>
              <a:tblPr/>
              <a:tblGrid>
                <a:gridCol w="1901880"/>
                <a:gridCol w="1216080"/>
                <a:gridCol w="1216080"/>
                <a:gridCol w="1215720"/>
                <a:gridCol w="121608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d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ime-series Forecas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 smo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exponential smo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nitoring Model Performa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Chart 6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540920" cy="3578040"/>
          </a:xfrm>
          <a:prstGeom prst="rect">
            <a:avLst/>
          </a:prstGeom>
          <a:ln w="0">
            <a:noFill/>
          </a:ln>
        </p:spPr>
      </p:pic>
      <p:sp>
        <p:nvSpPr>
          <p:cNvPr id="373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cking Signal Analy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75" name="Chart 8" descr=""/>
          <p:cNvPicPr/>
          <p:nvPr/>
        </p:nvPicPr>
        <p:blipFill>
          <a:blip r:embed="rId1"/>
          <a:stretch/>
        </p:blipFill>
        <p:spPr>
          <a:xfrm>
            <a:off x="914400" y="1749600"/>
            <a:ext cx="780876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3"/>
          <p:cNvGraphicFramePr/>
          <p:nvPr/>
        </p:nvGraphicFramePr>
        <p:xfrm>
          <a:off x="7848720" y="541008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4100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ich Weighting Factor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hart 5" descr=""/>
          <p:cNvPicPr/>
          <p:nvPr/>
        </p:nvPicPr>
        <p:blipFill>
          <a:blip r:embed="rId1"/>
          <a:stretch/>
        </p:blipFill>
        <p:spPr>
          <a:xfrm>
            <a:off x="1139760" y="1676520"/>
            <a:ext cx="7424640" cy="3554280"/>
          </a:xfrm>
          <a:prstGeom prst="rect">
            <a:avLst/>
          </a:prstGeom>
          <a:ln w="0">
            <a:noFill/>
          </a:ln>
        </p:spPr>
      </p:pic>
      <p:sp>
        <p:nvSpPr>
          <p:cNvPr id="38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ighting Factor Sele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5867640" cy="4292640"/>
          </a:xfrm>
          <a:prstGeom prst="rect">
            <a:avLst/>
          </a:prstGeom>
          <a:ln w="0">
            <a:noFill/>
          </a:ln>
        </p:spPr>
      </p:pic>
      <p:sp>
        <p:nvSpPr>
          <p:cNvPr id="386" name="Oval 6"/>
          <p:cNvSpPr/>
          <p:nvPr/>
        </p:nvSpPr>
        <p:spPr>
          <a:xfrm>
            <a:off x="5029200" y="5715000"/>
            <a:ext cx="457200" cy="304920"/>
          </a:xfrm>
          <a:prstGeom prst="ellips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Object 3"/>
          <p:cNvGraphicFramePr/>
          <p:nvPr/>
        </p:nvGraphicFramePr>
        <p:xfrm>
          <a:off x="7696080" y="548640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4864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cess Chang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1" name="Chart 6" descr=""/>
          <p:cNvPicPr/>
          <p:nvPr/>
        </p:nvPicPr>
        <p:blipFill>
          <a:blip r:embed="rId1"/>
          <a:stretch/>
        </p:blipFill>
        <p:spPr>
          <a:xfrm>
            <a:off x="1494000" y="1762200"/>
            <a:ext cx="6156000" cy="3327480"/>
          </a:xfrm>
          <a:prstGeom prst="rect">
            <a:avLst/>
          </a:prstGeom>
          <a:ln w="0">
            <a:noFill/>
          </a:ln>
        </p:spPr>
      </p:pic>
      <p:sp>
        <p:nvSpPr>
          <p:cNvPr id="39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tecting Process Chan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Chart 5" descr=""/>
          <p:cNvPicPr/>
          <p:nvPr/>
        </p:nvPicPr>
        <p:blipFill>
          <a:blip r:embed="rId1"/>
          <a:stretch/>
        </p:blipFill>
        <p:spPr>
          <a:xfrm>
            <a:off x="1139760" y="1676520"/>
            <a:ext cx="7162920" cy="365760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8"/>
          <p:cNvSpPr/>
          <p:nvPr/>
        </p:nvSpPr>
        <p:spPr>
          <a:xfrm>
            <a:off x="1523880" y="3352680"/>
            <a:ext cx="556272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Straight Arrow Connector 10"/>
          <p:cNvCxnSpPr/>
          <p:nvPr/>
        </p:nvCxnSpPr>
        <p:spPr>
          <a:xfrm flipV="1">
            <a:off x="2209680" y="3580560"/>
            <a:ext cx="1524960" cy="7628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arrow" w="med"/>
          </a:ln>
        </p:spPr>
      </p:cxnSp>
      <p:graphicFrame>
        <p:nvGraphicFramePr>
          <p:cNvPr id="398" name="Object 9"/>
          <p:cNvGraphicFramePr/>
          <p:nvPr/>
        </p:nvGraphicFramePr>
        <p:xfrm>
          <a:off x="7848720" y="579132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7913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ullwhip Eff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59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Object 3"/>
          <p:cNvGraphicFramePr/>
          <p:nvPr/>
        </p:nvGraphicFramePr>
        <p:xfrm>
          <a:off x="7848720" y="586728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8672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ullwhip Effect: Lessons Learne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tuations in orders increase as they move up the supply chain from retailers to wholesalers to manufacturers to supp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rther up the supply chain a company is, the larger is its forecast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any should consider collaborating with its supply chain partners to develop forecasts based on sales to the end customer to reduce forecast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aracteristics of Foreca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casts are always wrong and thus should include an erro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-term forecasts are usually less accurate than short-term fore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forecasts are usually more accurate than disaggregate fore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stant Model: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based on minimizing the sum of squared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4419720" y="1752480"/>
                <a:ext cx="13222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3127320" y="2362320"/>
                <a:ext cx="13683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4114800" y="3962520"/>
                <a:ext cx="12924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001960" y="4648320"/>
                <a:ext cx="5922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num>
                      <m:den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3886200" y="5610240"/>
                <a:ext cx="15541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hart 19" descr=""/>
          <p:cNvPicPr/>
          <p:nvPr/>
        </p:nvPicPr>
        <p:blipFill>
          <a:blip r:embed="rId1"/>
          <a:stretch/>
        </p:blipFill>
        <p:spPr>
          <a:xfrm>
            <a:off x="1292400" y="1828800"/>
            <a:ext cx="701028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Object 13"/>
          <p:cNvGraphicFramePr/>
          <p:nvPr/>
        </p:nvGraphicFramePr>
        <p:xfrm>
          <a:off x="7543800" y="525780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52578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ving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only the most recent data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ou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spond to change i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871720" y="2328840"/>
                <a:ext cx="17985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2852640" y="3124080"/>
                <a:ext cx="3014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: Moving Averag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38640" y="592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Chart 8" descr=""/>
          <p:cNvPicPr/>
          <p:nvPr/>
        </p:nvPicPr>
        <p:blipFill>
          <a:blip r:embed="rId1"/>
          <a:stretch/>
        </p:blipFill>
        <p:spPr>
          <a:xfrm>
            <a:off x="1139760" y="1676520"/>
            <a:ext cx="7242120" cy="397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3"/>
          <p:cNvGraphicFramePr/>
          <p:nvPr/>
        </p:nvGraphicFramePr>
        <p:xfrm>
          <a:off x="7543800" y="5486400"/>
          <a:ext cx="914400" cy="7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54864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Footer Placeholder 4"/>
          <p:cNvSpPr/>
          <p:nvPr/>
        </p:nvSpPr>
        <p:spPr>
          <a:xfrm>
            <a:off x="2819520" y="610704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3 Samuel H. Huang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16:33:28Z</dcterms:created>
  <dc:creator>shuang</dc:creator>
  <dc:description/>
  <dc:language>en-US</dc:language>
  <cp:lastModifiedBy>Samuel H. Huang</cp:lastModifiedBy>
  <dcterms:modified xsi:type="dcterms:W3CDTF">2013-02-10T15:56:08Z</dcterms:modified>
  <cp:revision>211</cp:revision>
  <dc:subject/>
  <dc:title>Introduction to Production Control</dc:title>
</cp:coreProperties>
</file>