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53AC-10B3-4E93-81B3-B460EE3520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283E-824C-417A-B51B-5F5661F942E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BC7D-156D-4316-94EE-785728BB241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A4DD-493F-4FB4-AE91-A1D3F0746E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78DC-68F1-4729-8D2A-2AF381F96F6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C773-7CE2-4703-813E-D3B07AFD13F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B868-7158-40C3-9991-570544F08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2564-8505-4980-87A7-45B923F75F2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C570-3B3D-465A-ADEB-CA9D73DE84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D0DA-304F-48D0-8BDB-0A45B51E657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21BC-8A22-4AEC-A5E1-1FC539F46CF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389D-9E3F-40D0-8FBE-AC711E0CCDA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C3B-3D82-40FC-ADA2-30F43C147C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1A7-DA4D-4527-AB05-B4CE269D0FC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47B-752F-4FDB-A77D-5F4C499BF2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502-9690-45B8-877B-D638167CD0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DB0-D1F9-4FDB-867D-6A7EBB8C94B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91D-C624-4058-9D34-B441FCBF833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EB7-2F9A-4EB4-A52E-31AB065E785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421-6CC4-4EDF-91FB-489C55A694F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E7A-2AE0-4535-8BBA-90D633BBFC7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F12-D18B-4A7D-AA3B-08E572804E1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969-6E44-4FFF-845A-2BE4A9663E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DF1-A563-42C9-BA9B-01FCD82578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7B50-F543-43EC-B946-A920CAE749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AC82C-B6C1-4ED4-BDE9-D7219667047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940C-8E9B-4942-B760-6819015436C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2D1D3-B124-40F3-BFAA-B4FA7BAAAB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6E1E-CBA6-4461-B7AC-19DCF2B7765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DEF53-53AE-431F-920E-A5F096F60AE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60F07-D26C-4B6F-BA0F-590621D460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43642-EB70-41C6-B9F7-5CD2F2B19F7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A4210-3DA9-4DE9-AF7D-B4F7685A53D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79B46-9A21-42E3-A431-0988831A3EF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B1FD6-63D1-45A9-8DBC-40548E524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8AAD1-A796-4CB6-8000-5460D61C914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7351F-8F4E-4354-9499-E1F9360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92E8F-37B0-4F4F-A8EC-4627882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454F5-17C1-4544-9F41-7EFCD02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131B8-86A0-4627-9BAE-AEAC4C58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F59D3-4145-4712-8504-30AAEE7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4E68E-F368-4F03-9309-6A7C78BE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1947E-CB6D-477A-BCEC-9128D52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DBC7F-A998-4C60-A46A-CE35B73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DB2DF-7959-468F-85BF-949700C4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A006F-2825-4E1D-A6FA-A9DEF3B8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1B4A3-19AE-4F3F-A431-0FE749EE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73DF4-FCBE-4D3C-8FBC-CC9A8480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4BC01-861C-4005-A0C0-2253B5F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09840D-7614-4776-A1C7-BE50932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C309B-736A-474F-B6AA-384C112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5AE554-6622-4CE8-B2D9-468E13E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E4CB0-4E31-4145-AE0B-C336EBC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9700C-1A56-43D3-86C8-D9B9149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1AAD4-3C7D-4BC7-A038-6CD2BA8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EDB8E-0B99-48E1-9A03-53274D0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225A6-7805-44B8-94CF-FA555CF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CACB6-0735-4645-84F4-28026E2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7706BC-906F-4D7E-9CC4-A9C5875C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F4DC4-22C2-40CB-9549-172B4473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511BC-B67A-4D5D-B8F2-94D8136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EB1E4-3149-4C81-9AD8-580C36B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804C7D-D893-4413-9177-D9C5BBF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03322-D8A9-4570-AD2B-39BB7A93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6D256-7FBC-4AF2-AE45-AFF2A85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16F49-6443-46B7-9E04-C12A70B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C3B5A-177F-4ACF-8F71-01278A6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131D7-E668-49B8-806A-F2C24A6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8A307-B091-43F7-BC0E-367C0A9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52ACE-7725-4002-9F51-F6F86C4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81C8B-DDAC-4C7B-9CEF-9A5E7DC2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38492-1C99-4A34-ADB8-8960DD5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9183B-FC6A-4BFB-A46A-91FED7CC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81544-AB8A-4263-B1B2-BF12A1C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40797-BBCB-4830-9C8C-B9B0278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8939F-77A2-42B4-B7E8-781883C8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01988-91EE-4D4C-8D18-7D42CAA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E87654-0B97-410F-B934-994D9AF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A81CF-3FA2-4E46-91C2-281D8C6D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F9DEA-11A1-40E9-9319-C0D37A7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0879B-ADD4-4681-B693-C5439D2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5C5E57-B4E9-4FBF-B141-97F930A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4E96A-0E17-4204-9F26-188AF903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B6DDE0-9D81-45ED-8F4D-46211CA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F2A68-2C29-4A3D-A8E1-CB8C816B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E4D313-88FA-4D6E-A3E5-C9FD531D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E5228-861A-49FA-8340-8AAF308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B6DFE-9B0B-4DE1-94A5-AE02260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0DC0E-E5AD-469C-BAB9-048C2AF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BEFB04-B373-4C3D-9B15-0D1A8FD8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6846DE-498B-4E77-941D-5A3FDC7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C07EA-E749-48BD-9635-45068B6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2BED7-BEC7-4275-82A7-55EE4EF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478B72-CB35-400F-B2FB-83FF7AB1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AD314-1A2A-46C8-9364-DE92FA1A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EE823-2E83-4778-BAD9-93EECA31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EA5A3-FCF9-4173-8895-334372E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C531A-2D3D-45AC-B8FD-84B6511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69F94-DB79-4882-A6E6-507FD529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C12DA-B628-47D1-9061-817ADDA8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92585-5884-4826-ABFB-DDCB9F34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4C773-1F25-4C74-8B72-E13BD87B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318DA-B9B0-4F69-947F-0BC716A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6762C-8F1C-415A-B131-3C99374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18C16-E1D2-4659-AF28-DB268F2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85CB8-0135-4A58-BE06-AA6253FC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13DD4-8C11-463E-B355-347B71C1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DA8E1-5C38-4CAF-A10C-8DEBE34B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A00C9-FE50-45BB-8AA6-798809F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2B06C-B1A5-499A-BAB6-D86E4DEE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3E5F5-9668-4FDC-BC4D-259F360C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5439A-78DF-43C9-BBF0-0BFFB69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88305-D867-44C7-9F4F-C95ACC3D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31153-321A-488D-BBFE-6BB17E7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F855D-AC8F-4287-81F2-E5DFC6F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64E13-0FC6-4139-8D31-806F5F1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5B06D-EE67-4EE0-8F56-0BFBBEA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5CE40-50D1-4B8D-AD12-D677ED1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5B0C8-3694-46F5-825B-42A0884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209E6-EF06-4E45-87FE-3BDDFE79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B72872-1875-4B77-95E7-4471D75D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EEB4FD-ADA6-4D66-B272-146260B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212B32-E3A5-4630-AFD7-C690049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5E00F5-D357-4BC0-BC85-A0C7DA1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B182D9-0F9B-4714-B6F0-72716B9F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F1687A-0213-4A5B-912B-AFBF838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9C5DFD-5484-4F94-82CD-F9B23CB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648F14-D594-4FC9-ABCE-4A456AF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49C1F2-B131-45DF-A2C8-A4D1C24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166798-4943-4C3D-B0FB-CF451D0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52DBCD-64E0-45FD-AFDF-3E0BA679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BB6A6-FBE2-4F90-892F-F8BA8FA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58" name="Rounded Rectangle 4"/>
          <p:cNvSpPr/>
          <p:nvPr/>
        </p:nvSpPr>
        <p:spPr>
          <a:xfrm>
            <a:off x="990720" y="1257480"/>
            <a:ext cx="7162560" cy="1428480"/>
          </a:xfrm>
          <a:prstGeom prst="roundRect">
            <a:avLst>
              <a:gd name="adj" fmla="val 16667"/>
            </a:avLst>
          </a:prstGeom>
          <a:solidFill>
            <a:srgbClr val="1b2b5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353880" y="4286160"/>
            <a:ext cx="840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Published by Flat World Knowledge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© 2014 by Flat World Knowledge, Inc. All rights reserved. Your use of this work is subject to the License Agreement availabl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here http://www.flatworldknowledge.com/legal. No part of this work may be used, modified, or reproduced in any form or b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any means except as expressly permitted under the License Agreement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97" name="Rounded Rectangle 4"/>
          <p:cNvSpPr/>
          <p:nvPr/>
        </p:nvSpPr>
        <p:spPr>
          <a:xfrm>
            <a:off x="990720" y="1257480"/>
            <a:ext cx="7162560" cy="1428480"/>
          </a:xfrm>
          <a:prstGeom prst="roundRect">
            <a:avLst>
              <a:gd name="adj" fmla="val 16667"/>
            </a:avLst>
          </a:prstGeom>
          <a:solidFill>
            <a:srgbClr val="1b2b5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ms-and-book.png"/>
          <p:cNvPicPr/>
          <p:nvPr/>
        </p:nvPicPr>
        <p:blipFill>
          <a:blip r:embed="rId3"/>
          <a:stretch/>
        </p:blipFill>
        <p:spPr>
          <a:xfrm>
            <a:off x="1085760" y="2998800"/>
            <a:ext cx="2038320" cy="214488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"/>
          </p:nvPr>
        </p:nvSpPr>
        <p:spPr>
          <a:xfrm>
            <a:off x="691956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0466A42-4BBC-417F-9666-3CFA827C6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353880" y="4286160"/>
            <a:ext cx="840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Published by Flat World Knowledge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© 2014 by Flat World Knowledge, Inc. All rights reserved. Your use of this work is subject to the License Agreement availabl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here http://www.flatworldknowledge.com/legal. No part of this work may be used, modified, or reproduced in any form or b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any means except as expressly permitted under the License Agreement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7" name="Rounded Rectangle 4"/>
          <p:cNvSpPr/>
          <p:nvPr/>
        </p:nvSpPr>
        <p:spPr>
          <a:xfrm>
            <a:off x="990720" y="1257480"/>
            <a:ext cx="7162560" cy="1428480"/>
          </a:xfrm>
          <a:prstGeom prst="roundRect">
            <a:avLst>
              <a:gd name="adj" fmla="val 16667"/>
            </a:avLst>
          </a:prstGeom>
          <a:solidFill>
            <a:srgbClr val="1b2b5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sldNum" idx="3"/>
          </p:nvPr>
        </p:nvSpPr>
        <p:spPr>
          <a:xfrm>
            <a:off x="691956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DF93559-075D-443C-BC81-D053F4099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4"/>
          </p:nvPr>
        </p:nvSpPr>
        <p:spPr>
          <a:xfrm>
            <a:off x="691956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E74C62C-6E21-4919-8507-FB910C6063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7" descr="FW_March2014_PPT_Template_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8" descr="FW no infinity logo.png"/>
          <p:cNvPicPr/>
          <p:nvPr/>
        </p:nvPicPr>
        <p:blipFill>
          <a:blip r:embed="rId5"/>
          <a:stretch/>
        </p:blipFill>
        <p:spPr>
          <a:xfrm>
            <a:off x="6410160" y="4405320"/>
            <a:ext cx="2387880" cy="47628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7" descr="FW_March2014_PPT_Template_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7" descr="FW_March2014_PPT_Template_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7" descr="FW_March2014_PPT_Template_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12897-8397-4C0F-BAC2-EA1F1A0A9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7C03A-6B57-426F-A0CE-F90A0F995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6553F-46BD-4969-85D3-AB82D7F36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47C5-C9E8-417B-8157-2204AC59A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532F2-C848-48D3-BED2-AA56B1FB93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007BA-2F33-4F48-BD8A-402D11985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9175E-4927-4663-84D1-A1FDCFBFE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D93CC-676E-4F36-846E-255E372AB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200240" indent="-1713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49760"/>
            <a:ext cx="137772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353880" y="4286160"/>
            <a:ext cx="840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Published by Flat World Knowledge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© 2014 by Flat World Knowledge, Inc. All rights reserved. Your use of this work is subject to the License Agreement availabl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here http://www.flatworldknowledge.com/legal. No part of this work may be used, modified, or reproduced in any form or b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ato"/>
                <a:ea typeface="MS PGothic"/>
              </a:rPr>
              <a:t>any means except as expressly permitted under the License Agreement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8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18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1" marL="417600" indent="-160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2" marL="642960" indent="-1285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3" marL="900000" indent="-1285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4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5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  <a:p>
            <a:pPr lvl="6" marL="1157400" indent="-128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atworldknowledge.com/legal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25240" y="4257720"/>
            <a:ext cx="5127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Verdana"/>
              </a:rPr>
              <a:t>Business English for Success</a:t>
            </a:r>
            <a:endParaRPr b="0" lang="en-US" sz="21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1518840" y="4738680"/>
            <a:ext cx="413388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Verdana"/>
              </a:rPr>
              <a:t>By Scott McLea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Quot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7200" y="153324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unctuation marks (“ ”) that are used in pairs to enclose direct quotations and titles of short work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Direct quotation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: An exact account of what someone said or wro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Direct quotations must be enclosed in quotation mark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ndirect quotation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: A restatement of what someone said or wro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n indirect quotation does not use the person’s exact wor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You do not need to use quotation marks for indirect quotation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BA0E1CAF-11D2-48EA-8559-A563813A9A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Punctuating Direct Quotatio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57200" y="153324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lways capitalize the first letter of a quote even if it is not the beginning of the sent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When using identifying words in the middle of the quote, the beginning of the second part of the quote does not need to be capitaliz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Use commas between identifying words and quot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Quotation marks must be placed after commas and period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lace quotation marks after question marks and exclamation points only if the question or exclamation is part of the quoted tex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496CA7D9-F76C-4B67-911A-C045E372AB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Quotations within Quotatio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7200" y="15332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ingle quotation marks (‘ ’)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: Punctuation marks that are always used in pairs to enclose a quotation within a quo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B34C5389-A4DA-4C4E-9814-C33D39A374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Titl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57200" y="15332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Use quotation marks around titles of short works of writing, such as essays, songs, poems, short stories, and chapters in book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E04B3E14-42D2-4535-939D-F01FF4E9E8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Apostroph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57200" y="1533240"/>
            <a:ext cx="822960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(’) that is used with a noun to show possession or to indicate where a letter has been left out to form a contrac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osses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n apostrophe and the letter 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indicate who or what owns someth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To show possession with a singular noun, add 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’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lural noun that ends in 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, just add an apostrophe (’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f the plural noun does not end in 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, add an apostrophe and an 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(</a:t>
            </a:r>
            <a:r>
              <a:rPr b="0" i="1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’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D4CB768C-16AD-4554-ACBC-D24F85CE18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Apostroph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457200" y="1533600"/>
            <a:ext cx="8229600" cy="21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ntraction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: A word that is formed by combining two word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n a contraction, an apostrophe shows where one or more letters have been left ou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ntractions are commonly used in informal writing but not in formal wri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77CFA8FF-65B3-4EB7-8FE4-CA70B1E42A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Parenthes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57200" y="153324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unctuation marks ( ) that are used in pairs to contain information that is secondary to the meaning of a sent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arentheses must never contain the subject or verb of a sent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sentence should make sense if you delete any text within parentheses and the parenthes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4BE49EFF-93B8-4ABB-B12A-F78C30A7C5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Dash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457200" y="153360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(—) used to set off information in a sentence for emphasi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You can enclose text between two dashes, or use just one dash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36854471-B907-492A-B7DD-98BCFEC202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Hyphe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457200" y="15332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(-) that combines words that work together to form a single description, or it breaks a word across two lines of tex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1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292AFAB2-00C5-47E4-A108-302FDF9D07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Key Term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56840" y="1533240"/>
            <a:ext cx="41324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mm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ordinating adjectiv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nterrupting word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Semicol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l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Quotation mark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Direct quo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63B03502-D626-41B5-8647-A6133EB043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Content Placeholder 2"/>
          <p:cNvSpPr/>
          <p:nvPr/>
        </p:nvSpPr>
        <p:spPr>
          <a:xfrm>
            <a:off x="4456080" y="1541520"/>
            <a:ext cx="41324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Indirect quo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Single quotation mar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Apostrop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Parenth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Da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Hyph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spcBef>
                <a:spcPts val="300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2015 by Flat World Knowledge, Inc.  All rights reserved.  Your use of this work is subject to the License Agreement available here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flatworldknowledge.com/leg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  No part of this work may be used, modified, or reproduced in any form or by any means except as expressly permitted under the License Agree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578DD600-8CE6-43DE-826A-BDCE4D0A6A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1189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Verdana"/>
              </a:rPr>
              <a:t>Chapter 2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Verdana"/>
              </a:rPr>
              <a:t>Punctuation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16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9EE58A0B-E018-4C5C-B7BB-5EDAC3C769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Learning Objectiv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457200" y="153360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com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rrectly use comma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semicolo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roperly use semicolon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colo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roperly use colon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quot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rrectly use quote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E70E619C-A663-488F-8A20-ED805D61DE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Learning Objectiv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57200" y="153360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apostroph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rrectly use apostrophe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parenthes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roperly use parenthese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dash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rrectly use dashe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dentify the uses of hyphe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Properly use hyphens in senten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9145C381-5692-47E1-B0BB-008A92ACA8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Comma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457200" y="153324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that tells the reader when to pause or when a word is part of a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mmas can be used in the following way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fter an introductory word to separate this word from the main sente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fter each noun in a l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fter every coordinating adjective except for the last adjecti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To separate the two independent clauses in compound sentences as long as a conjunction follows the comm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To separate interrupting words from the rest of the sente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48114031-9931-44D6-BA97-A826F55380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Comma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457200" y="15336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mmas can be used in the following way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When you write the date, you add a comma between the day and the ye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dd a comma after the year if the sentence continues after the 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When used in a sentence, addresses have commas after the street address, and the ci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f a sentence continues after the address, a comma comes after the zip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When writing a letter, commas are used in the greeting at the beginning and in the closing at the end of the let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99BF8A9D-23FA-4D9F-9048-66346DEA5E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Semicolo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57200" y="15332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(;) that indicates a pause and joins two independent clauses or separates a list when the list already requires com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754CC14C-6D54-4213-8A11-9ADE07C4B9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Colo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7200" y="15336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punctuation mark (:) that is used to indicate a full st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Colons can introduce lists, quotes, examples, and explanatio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4" name="Slide Number Placeholder 5"/>
          <p:cNvSpPr/>
          <p:nvPr/>
        </p:nvSpPr>
        <p:spPr>
          <a:xfrm>
            <a:off x="177840" y="47293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-</a:t>
            </a:r>
            <a:fld id="{596E7488-68F3-4B72-BD82-72AF6923B6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07:30Z</dcterms:created>
  <dc:creator>ANSR7</dc:creator>
  <dc:description/>
  <cp:keywords/>
  <dc:language>en-US</dc:language>
  <cp:lastModifiedBy>Laura Daniels</cp:lastModifiedBy>
  <dcterms:modified xsi:type="dcterms:W3CDTF">2016-02-04T22:27:42Z</dcterms:modified>
  <cp:revision>1570</cp:revision>
  <dc:subject/>
  <dc:title>Project Title</dc:title>
</cp:coreProperties>
</file>