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36B4-138C-44C0-A962-4E935EEA0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9873-CFB8-4A5C-B9AF-14A2D789C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C06E-3F8D-461B-8A8B-EBA362178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67F7-F64C-44D0-8002-BA660E85E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B50B-81C5-47DF-AC83-9C2F5F1B9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D332-796B-4407-BDBF-EBA727012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DEC-7F19-4DEB-8606-4C82718C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C356-553E-4E93-A95E-855C364D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6185-9FAB-4F60-B4DC-472FCB90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E42B-F962-42F2-B010-899268ED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71AF-2067-44EF-8109-6784EF8B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41EB-C61E-40BB-B7D0-B7A08331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F650-B386-426A-93F7-6BFAA8F7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5C9-87B4-495F-8CC9-419D6684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E447-3939-4DB0-93BE-F3218597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57F0-E95A-43D5-97C6-F3E3D040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8206-8EE3-412E-9368-AB2CCDA6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6773-F4C6-4F1C-ABEE-6B707109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99AB-3FAA-4AEF-A4DD-2B60D80AF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Based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Engineering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002x001.jpg"/>
          <p:cNvPicPr/>
          <p:nvPr/>
        </p:nvPicPr>
        <p:blipFill>
          <a:blip r:embed="rId1"/>
          <a:stretch/>
        </p:blipFill>
        <p:spPr>
          <a:xfrm>
            <a:off x="1143000" y="1312920"/>
            <a:ext cx="68580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002x002.jpg"/>
          <p:cNvPicPr/>
          <p:nvPr/>
        </p:nvPicPr>
        <p:blipFill>
          <a:blip r:embed="rId1"/>
          <a:stretch/>
        </p:blipFill>
        <p:spPr>
          <a:xfrm>
            <a:off x="1143000" y="1147680"/>
            <a:ext cx="68580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002x003.jpg"/>
          <p:cNvPicPr/>
          <p:nvPr/>
        </p:nvPicPr>
        <p:blipFill>
          <a:blip r:embed="rId1"/>
          <a:stretch/>
        </p:blipFill>
        <p:spPr>
          <a:xfrm>
            <a:off x="1143000" y="1803240"/>
            <a:ext cx="6858000" cy="32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002x004.jpg"/>
          <p:cNvPicPr/>
          <p:nvPr/>
        </p:nvPicPr>
        <p:blipFill>
          <a:blip r:embed="rId1"/>
          <a:stretch/>
        </p:blipFill>
        <p:spPr>
          <a:xfrm>
            <a:off x="1143000" y="2076480"/>
            <a:ext cx="68580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9:06:09Z</dcterms:created>
  <dc:creator>Pawan Sharma</dc:creator>
  <dc:description/>
  <dc:language>en-US</dc:language>
  <cp:lastModifiedBy>Pawan Sharma</cp:lastModifiedBy>
  <dcterms:modified xsi:type="dcterms:W3CDTF">2013-07-23T12:29:44Z</dcterms:modified>
  <cp:revision>49</cp:revision>
  <dc:subject/>
  <dc:title>001x001</dc:title>
</cp:coreProperties>
</file>