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514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5880" y="-360"/>
            <a:ext cx="3076560" cy="514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828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Click to move the slide</a:t>
            </a:r>
            <a:endParaRPr b="1" lang="en-US" sz="60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15320"/>
            <a:ext cx="3078000" cy="515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5880" y="9715320"/>
            <a:ext cx="3076560" cy="515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73F658-98A6-48FD-8D24-297A523E2AC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9864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4760" cy="4606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d time for this lecture: 1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(s) omitted in this PPT fil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3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Data extraction for mass exchange proces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9864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No, this is not the sink.  The 2 process sinks for solvent are absorption and degreasing uni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9864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instructo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rt is optional.  May be used when there are excess lectur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Gas emission stream is not the N2 source.  The N2 process sources are reject stream from membrane separation &amp; drying uni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9864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 may be used as worksheet for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 print out (black &amp; white setting) will not show the selection with dotted line, please get students to mark them on their hand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864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instructor: worksheet print out (black &amp; white setting) will not show the 4 thick arrows of the water source, please get students to mark them on their hand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31F-C2C3-44CE-ADDF-AF970D73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7000" y="3912480"/>
            <a:ext cx="858672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470-F5E7-41FC-8CF9-66AF5DF0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000" y="39124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920" y="39124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D7A-37C1-4B27-AD0C-139FE80A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0400" y="12412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800" y="12412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7000" y="39124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0400" y="39124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800" y="39124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DA0-A0D4-42C9-9E6D-B62DF78E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45880" y="274680"/>
            <a:ext cx="70657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97000" y="39124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453-3842-46D3-BF25-21E4D85D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6920" y="39124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97000" y="3912480"/>
            <a:ext cx="858672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000" y="3912480"/>
            <a:ext cx="858672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7000" y="39124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96920" y="39124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0400" y="12412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3800" y="12412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97000" y="39124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0400" y="39124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3800" y="3912480"/>
            <a:ext cx="276480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113-4286-4950-AECB-F462E39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0BB-C0BF-459A-B664-58E519B3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029-21BB-4C27-936C-15E33D1D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5880" y="274680"/>
            <a:ext cx="70657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EAF-FA3D-4AA5-8A9F-C9EFA8F8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7000" y="39124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0E0-082C-4A05-8CD7-42484693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920" y="39124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CAF-0CEA-4581-8C9E-F74A90A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1241280"/>
            <a:ext cx="4190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7000" y="3912480"/>
            <a:ext cx="858672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B0F-492F-49BB-9E35-46196AA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240" y="6524280"/>
            <a:ext cx="208728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0E78-76AC-4C34-9FBE-F87620BCC851}" type="datetime">
              <a:rPr b="0" lang="en-US" sz="1400" spc="-1" strike="noStrike">
                <a:solidFill>
                  <a:srgbClr val="a50021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98320" y="6524280"/>
            <a:ext cx="511668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7440" y="6524280"/>
            <a:ext cx="1411200" cy="1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Comic Sans MS"/>
              </a:rPr>
              <a:t>Data ext. - </a:t>
            </a:r>
            <a:fld id="{E3FB8AB8-3B5E-4260-8BAB-15AEAAB85BCA}" type="slidenum">
              <a:rPr b="0" lang="en-US" sz="14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9920" y="6413400"/>
            <a:ext cx="8807400" cy="79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2575080"/>
            <a:ext cx="8032680" cy="20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Click to edit the title text format</a:t>
            </a:r>
            <a:endParaRPr b="1" lang="en-US" sz="60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2" marL="914400" algn="ctr"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680" y="2575080"/>
            <a:ext cx="8796600" cy="20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Monotype Corsiva"/>
              </a:rPr>
              <a:t>Chapter 2 – Data Extraction for Resource Conservation</a:t>
            </a:r>
            <a:endParaRPr b="1" lang="en-US" sz="60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35480" y="4689000"/>
            <a:ext cx="522576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1 – Identification of sources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Following 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Heuristic 1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, the individual streams that contribute to the terminal wastewater stream are segregated as water sources for recovery: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istillation bottom (0.1 kg/s; 0 ppm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off gas condensate (5.0 kg/s; 14 ppm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queous layer from the decanter (5.9 kg/s; 25 ppm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steam condensate from steam-jet ejector (1.4 kg/s; 34 ppm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5C2-87C5-4739-897C-0F945287B6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A1408-BF86-4D4D-8633-BEF33AE67EAB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2840" y="2575080"/>
            <a:ext cx="8032680" cy="20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Monotype Corsiva"/>
                <a:ea typeface="SimSun"/>
              </a:rPr>
              <a:t>Extraction of limiting data for material sink for concentration-based RCN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  <a:ea typeface="SimSun"/>
              </a:rPr>
              <a:t> </a:t>
            </a:r>
            <a:endParaRPr b="1" lang="en-US" sz="54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435480" y="4689000"/>
            <a:ext cx="522576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Heuristics 2 &amp; 3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Minimise flowrate for a sink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 to reduce the overall fresh resource intake.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Maximise the inlet concentration for a sink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 to maximise material recovery.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42E-202C-4CB1-A04B-5DAB2A5307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C9621-3283-4ABE-979E-DFCFECDF4B17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2 – AN produc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341280" y="1128600"/>
            <a:ext cx="8493120" cy="5113440"/>
            <a:chOff x="341280" y="1128600"/>
            <a:chExt cx="8493120" cy="5113440"/>
          </a:xfrm>
        </p:grpSpPr>
        <p:sp>
          <p:nvSpPr>
            <p:cNvPr id="259" name="AutoShape 4"/>
            <p:cNvSpPr/>
            <p:nvPr/>
          </p:nvSpPr>
          <p:spPr>
            <a:xfrm>
              <a:off x="341280" y="1128600"/>
              <a:ext cx="8493120" cy="51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2712960" y="2013120"/>
              <a:ext cx="574920" cy="5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6448320" y="4181400"/>
              <a:ext cx="574920" cy="5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6673680" y="1768320"/>
              <a:ext cx="0" cy="10479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6384960" y="2076480"/>
              <a:ext cx="574560" cy="5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1182600" y="2017800"/>
              <a:ext cx="736560" cy="56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657600" y="3463920"/>
              <a:ext cx="1020600" cy="57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Deca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5300640" y="2649600"/>
              <a:ext cx="893880" cy="159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Distillation Colum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794520" y="1808280"/>
              <a:ext cx="168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en-GB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3362400" y="4173480"/>
              <a:ext cx="690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Aqueous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594240" y="1976400"/>
              <a:ext cx="1149120" cy="63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Scrub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5"/>
            <p:cNvSpPr/>
            <p:nvPr/>
          </p:nvSpPr>
          <p:spPr>
            <a:xfrm flipH="1">
              <a:off x="3006720" y="1944720"/>
              <a:ext cx="357120" cy="5936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6"/>
            <p:cNvSpPr/>
            <p:nvPr/>
          </p:nvSpPr>
          <p:spPr>
            <a:xfrm flipV="1">
              <a:off x="3006720" y="2114640"/>
              <a:ext cx="1440" cy="4348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7"/>
            <p:cNvSpPr/>
            <p:nvPr/>
          </p:nvSpPr>
          <p:spPr>
            <a:xfrm flipH="1">
              <a:off x="2687760" y="2114640"/>
              <a:ext cx="317520" cy="5284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746640" y="2071800"/>
              <a:ext cx="268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0" lang="en-GB" sz="1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708120" y="2335320"/>
              <a:ext cx="317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GB" sz="1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GB" sz="1200" spc="-1" strike="noStrike" baseline="-25000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 flipH="1">
              <a:off x="6676920" y="2008080"/>
              <a:ext cx="357120" cy="5954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 flipV="1">
              <a:off x="6676920" y="2178000"/>
              <a:ext cx="1800" cy="4348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 flipH="1">
              <a:off x="6357960" y="2178000"/>
              <a:ext cx="318960" cy="5302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 flipH="1">
              <a:off x="6740640" y="4033800"/>
              <a:ext cx="404640" cy="6746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 flipV="1">
              <a:off x="6740640" y="4282560"/>
              <a:ext cx="1440" cy="4352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 flipH="1">
              <a:off x="6438960" y="4282920"/>
              <a:ext cx="301680" cy="5018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6543720" y="1512720"/>
              <a:ext cx="257040" cy="265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7"/>
            <p:cNvSpPr/>
            <p:nvPr/>
          </p:nvSpPr>
          <p:spPr>
            <a:xfrm>
              <a:off x="6794640" y="1484280"/>
              <a:ext cx="318960" cy="318960"/>
            </a:xfrm>
            <a:custGeom>
              <a:avLst/>
              <a:gdLst>
                <a:gd name="textAreaLeft" fmla="*/ 0 w 318960"/>
                <a:gd name="textAreaRight" fmla="*/ 318960 w 318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401" h="402">
                  <a:moveTo>
                    <a:pt x="401" y="402"/>
                  </a:moveTo>
                  <a:lnTo>
                    <a:pt x="401" y="0"/>
                  </a:lnTo>
                  <a:lnTo>
                    <a:pt x="0" y="201"/>
                  </a:lnTo>
                  <a:lnTo>
                    <a:pt x="401" y="4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6308640" y="1144440"/>
              <a:ext cx="7524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Steam-jet Ej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5942160" y="14209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St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4276800" y="6005520"/>
              <a:ext cx="18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Wastewater to Biotrea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2101680" y="2959200"/>
              <a:ext cx="846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Off-Gas Conden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171200" y="139212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Conden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>
              <a:off x="5818320" y="448632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Bott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>
              <a:off x="3438000" y="1371600"/>
              <a:ext cx="40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5"/>
            <p:cNvSpPr/>
            <p:nvPr/>
          </p:nvSpPr>
          <p:spPr>
            <a:xfrm>
              <a:off x="7251840" y="2678040"/>
              <a:ext cx="415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AN to 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6"/>
            <p:cNvSpPr/>
            <p:nvPr/>
          </p:nvSpPr>
          <p:spPr>
            <a:xfrm>
              <a:off x="3234600" y="1579680"/>
              <a:ext cx="856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6.0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 flipV="1">
              <a:off x="6730920" y="4105440"/>
              <a:ext cx="1800" cy="7272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8"/>
            <p:cNvSpPr/>
            <p:nvPr/>
          </p:nvSpPr>
          <p:spPr>
            <a:xfrm>
              <a:off x="1950480" y="1603440"/>
              <a:ext cx="85680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.0 kg AN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.1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+ G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9"/>
            <p:cNvSpPr/>
            <p:nvPr/>
          </p:nvSpPr>
          <p:spPr>
            <a:xfrm>
              <a:off x="4772160" y="1908000"/>
              <a:ext cx="855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Tail gases to dispos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5283360" y="1398600"/>
              <a:ext cx="607680" cy="49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Boi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1"/>
            <p:cNvSpPr/>
            <p:nvPr/>
          </p:nvSpPr>
          <p:spPr>
            <a:xfrm>
              <a:off x="4584960" y="1212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BF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2"/>
            <p:cNvSpPr/>
            <p:nvPr/>
          </p:nvSpPr>
          <p:spPr>
            <a:xfrm>
              <a:off x="4368240" y="1419120"/>
              <a:ext cx="856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2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43"/>
            <p:cNvCxnSpPr>
              <a:stCxn id="264" idx="3"/>
              <a:endCxn id="260" idx="2"/>
            </p:cNvCxnSpPr>
            <p:nvPr/>
          </p:nvCxnSpPr>
          <p:spPr>
            <a:xfrm>
              <a:off x="1928880" y="2300040"/>
              <a:ext cx="775440" cy="108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</p:cxnSp>
        <p:sp>
          <p:nvSpPr>
            <p:cNvPr id="299" name="Line 44"/>
            <p:cNvSpPr/>
            <p:nvPr/>
          </p:nvSpPr>
          <p:spPr>
            <a:xfrm>
              <a:off x="681120" y="2041560"/>
              <a:ext cx="5032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5"/>
            <p:cNvSpPr/>
            <p:nvPr/>
          </p:nvSpPr>
          <p:spPr>
            <a:xfrm>
              <a:off x="681120" y="2300400"/>
              <a:ext cx="5032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6"/>
            <p:cNvSpPr/>
            <p:nvPr/>
          </p:nvSpPr>
          <p:spPr>
            <a:xfrm>
              <a:off x="681120" y="2560680"/>
              <a:ext cx="5032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7"/>
            <p:cNvSpPr/>
            <p:nvPr/>
          </p:nvSpPr>
          <p:spPr>
            <a:xfrm>
              <a:off x="2091600" y="343368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4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.6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3" name="AutoShape 48"/>
            <p:cNvCxnSpPr>
              <a:stCxn id="260" idx="6"/>
              <a:endCxn id="269" idx="1"/>
            </p:cNvCxnSpPr>
            <p:nvPr/>
          </p:nvCxnSpPr>
          <p:spPr>
            <a:xfrm flipV="1">
              <a:off x="3297240" y="2296440"/>
              <a:ext cx="288000" cy="396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</p:cxnSp>
        <p:cxnSp>
          <p:nvCxnSpPr>
            <p:cNvPr id="304" name="AutoShape 49"/>
            <p:cNvCxnSpPr>
              <a:stCxn id="269" idx="2"/>
              <a:endCxn id="265" idx="0"/>
            </p:cNvCxnSpPr>
            <p:nvPr/>
          </p:nvCxnSpPr>
          <p:spPr>
            <a:xfrm>
              <a:off x="4168440" y="2625840"/>
              <a:ext cx="1080" cy="82944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</p:cxnSp>
        <p:sp>
          <p:nvSpPr>
            <p:cNvPr id="305" name="Line 50"/>
            <p:cNvSpPr/>
            <p:nvPr/>
          </p:nvSpPr>
          <p:spPr>
            <a:xfrm>
              <a:off x="4743360" y="2301840"/>
              <a:ext cx="7686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1"/>
            <p:cNvSpPr/>
            <p:nvPr/>
          </p:nvSpPr>
          <p:spPr>
            <a:xfrm>
              <a:off x="4172040" y="1406520"/>
              <a:ext cx="0" cy="5652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2"/>
            <p:cNvSpPr/>
            <p:nvPr/>
          </p:nvSpPr>
          <p:spPr>
            <a:xfrm>
              <a:off x="3256920" y="270360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8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.6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6.5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3"/>
            <p:cNvSpPr/>
            <p:nvPr/>
          </p:nvSpPr>
          <p:spPr>
            <a:xfrm>
              <a:off x="4412520" y="288756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.2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0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54"/>
            <p:cNvSpPr/>
            <p:nvPr/>
          </p:nvSpPr>
          <p:spPr>
            <a:xfrm>
              <a:off x="4686480" y="3546360"/>
              <a:ext cx="6156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55"/>
            <p:cNvSpPr/>
            <p:nvPr/>
          </p:nvSpPr>
          <p:spPr>
            <a:xfrm>
              <a:off x="3244320" y="456408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5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.5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56"/>
            <p:cNvSpPr/>
            <p:nvPr/>
          </p:nvSpPr>
          <p:spPr>
            <a:xfrm>
              <a:off x="5650920" y="468468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7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57"/>
            <p:cNvSpPr/>
            <p:nvPr/>
          </p:nvSpPr>
          <p:spPr>
            <a:xfrm>
              <a:off x="6197760" y="4098960"/>
              <a:ext cx="5270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AutoShape 58"/>
            <p:cNvCxnSpPr>
              <a:stCxn id="266" idx="2"/>
              <a:endCxn id="261" idx="2"/>
            </p:cNvCxnSpPr>
            <p:nvPr/>
          </p:nvCxnSpPr>
          <p:spPr>
            <a:xfrm flipH="1" rot="16200000">
              <a:off x="5987160" y="4016520"/>
              <a:ext cx="213480" cy="691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lg" type="triangle" w="med"/>
            </a:ln>
          </p:spPr>
        </p:cxnSp>
        <p:sp>
          <p:nvSpPr>
            <p:cNvPr id="314" name="Line 59"/>
            <p:cNvSpPr/>
            <p:nvPr/>
          </p:nvSpPr>
          <p:spPr>
            <a:xfrm>
              <a:off x="6737400" y="4759200"/>
              <a:ext cx="0" cy="5209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60"/>
            <p:cNvSpPr/>
            <p:nvPr/>
          </p:nvSpPr>
          <p:spPr>
            <a:xfrm>
              <a:off x="4172040" y="4048200"/>
              <a:ext cx="0" cy="12380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AutoShape 61"/>
            <p:cNvCxnSpPr>
              <a:stCxn id="266" idx="0"/>
              <a:endCxn id="263" idx="2"/>
            </p:cNvCxnSpPr>
            <p:nvPr/>
          </p:nvCxnSpPr>
          <p:spPr>
            <a:xfrm flipH="1" flipV="1" rot="5400000">
              <a:off x="5923440" y="2187720"/>
              <a:ext cx="276840" cy="6274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lg" type="triangle" w="med"/>
            </a:ln>
          </p:spPr>
        </p:cxnSp>
        <p:sp>
          <p:nvSpPr>
            <p:cNvPr id="317" name="Rectangle 62"/>
            <p:cNvSpPr/>
            <p:nvPr/>
          </p:nvSpPr>
          <p:spPr>
            <a:xfrm>
              <a:off x="6317640" y="289404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.9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3"/>
            <p:cNvSpPr/>
            <p:nvPr/>
          </p:nvSpPr>
          <p:spPr>
            <a:xfrm flipH="1">
              <a:off x="6184800" y="2809800"/>
              <a:ext cx="10540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" name="AutoShape 64"/>
            <p:cNvCxnSpPr>
              <a:stCxn id="295" idx="3"/>
              <a:endCxn id="281" idx="1"/>
            </p:cNvCxnSpPr>
            <p:nvPr/>
          </p:nvCxnSpPr>
          <p:spPr>
            <a:xfrm>
              <a:off x="5900400" y="1645920"/>
              <a:ext cx="633960" cy="108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</p:cxnSp>
        <p:sp>
          <p:nvSpPr>
            <p:cNvPr id="320" name="Line 65"/>
            <p:cNvSpPr/>
            <p:nvPr/>
          </p:nvSpPr>
          <p:spPr>
            <a:xfrm>
              <a:off x="7112160" y="1644480"/>
              <a:ext cx="98712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6"/>
            <p:cNvSpPr/>
            <p:nvPr/>
          </p:nvSpPr>
          <p:spPr>
            <a:xfrm>
              <a:off x="7208280" y="168444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4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2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2" name="AutoShape 67"/>
            <p:cNvCxnSpPr>
              <a:stCxn id="320" idx="0"/>
              <a:endCxn id="323" idx="0"/>
            </p:cNvCxnSpPr>
            <p:nvPr/>
          </p:nvCxnSpPr>
          <p:spPr>
            <a:xfrm flipH="1">
              <a:off x="8097480" y="1654200"/>
              <a:ext cx="2160" cy="361368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</p:cxnSp>
        <p:sp>
          <p:nvSpPr>
            <p:cNvPr id="324" name="Line 68"/>
            <p:cNvSpPr/>
            <p:nvPr/>
          </p:nvSpPr>
          <p:spPr>
            <a:xfrm>
              <a:off x="4511520" y="1654200"/>
              <a:ext cx="7686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9"/>
            <p:cNvSpPr/>
            <p:nvPr/>
          </p:nvSpPr>
          <p:spPr>
            <a:xfrm>
              <a:off x="4199400" y="5361120"/>
              <a:ext cx="94212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1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2.0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70"/>
            <p:cNvSpPr/>
            <p:nvPr/>
          </p:nvSpPr>
          <p:spPr>
            <a:xfrm>
              <a:off x="5232240" y="5292720"/>
              <a:ext cx="0" cy="7016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AutoShape 71"/>
            <p:cNvCxnSpPr>
              <a:stCxn id="260" idx="4"/>
              <a:endCxn id="323" idx="1"/>
            </p:cNvCxnSpPr>
            <p:nvPr/>
          </p:nvCxnSpPr>
          <p:spPr>
            <a:xfrm>
              <a:off x="2999880" y="2596680"/>
              <a:ext cx="1080" cy="269172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</p:cxnSp>
        <p:sp>
          <p:nvSpPr>
            <p:cNvPr id="328" name="Line 72"/>
            <p:cNvSpPr/>
            <p:nvPr/>
          </p:nvSpPr>
          <p:spPr>
            <a:xfrm flipH="1">
              <a:off x="2998800" y="5276880"/>
              <a:ext cx="509760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reeform 73"/>
          <p:cNvSpPr/>
          <p:nvPr/>
        </p:nvSpPr>
        <p:spPr>
          <a:xfrm>
            <a:off x="2957400" y="1192320"/>
            <a:ext cx="2049480" cy="1592280"/>
          </a:xfrm>
          <a:custGeom>
            <a:avLst/>
            <a:gdLst>
              <a:gd name="textAreaLeft" fmla="*/ 0 w 2049480"/>
              <a:gd name="textAreaRight" fmla="*/ 2049840 w 2049480"/>
              <a:gd name="textAreaTop" fmla="*/ 0 h 1592280"/>
              <a:gd name="textAreaBottom" fmla="*/ 1592640 h 1592280"/>
            </a:gdLst>
            <a:ahLst/>
            <a:rect l="textAreaLeft" t="textAreaTop" r="textAreaRight" b="textAreaBottom"/>
            <a:pathLst>
              <a:path w="1291" h="1003">
                <a:moveTo>
                  <a:pt x="347" y="24"/>
                </a:moveTo>
                <a:cubicBezTo>
                  <a:pt x="300" y="41"/>
                  <a:pt x="225" y="68"/>
                  <a:pt x="169" y="108"/>
                </a:cubicBezTo>
                <a:cubicBezTo>
                  <a:pt x="113" y="148"/>
                  <a:pt x="24" y="215"/>
                  <a:pt x="12" y="265"/>
                </a:cubicBezTo>
                <a:cubicBezTo>
                  <a:pt x="0" y="315"/>
                  <a:pt x="53" y="378"/>
                  <a:pt x="95" y="411"/>
                </a:cubicBezTo>
                <a:cubicBezTo>
                  <a:pt x="137" y="444"/>
                  <a:pt x="233" y="440"/>
                  <a:pt x="263" y="464"/>
                </a:cubicBezTo>
                <a:cubicBezTo>
                  <a:pt x="293" y="488"/>
                  <a:pt x="261" y="523"/>
                  <a:pt x="273" y="558"/>
                </a:cubicBezTo>
                <a:cubicBezTo>
                  <a:pt x="285" y="593"/>
                  <a:pt x="322" y="621"/>
                  <a:pt x="336" y="673"/>
                </a:cubicBezTo>
                <a:cubicBezTo>
                  <a:pt x="350" y="725"/>
                  <a:pt x="336" y="825"/>
                  <a:pt x="357" y="872"/>
                </a:cubicBezTo>
                <a:cubicBezTo>
                  <a:pt x="378" y="919"/>
                  <a:pt x="422" y="942"/>
                  <a:pt x="462" y="956"/>
                </a:cubicBezTo>
                <a:cubicBezTo>
                  <a:pt x="502" y="970"/>
                  <a:pt x="540" y="956"/>
                  <a:pt x="598" y="956"/>
                </a:cubicBezTo>
                <a:cubicBezTo>
                  <a:pt x="656" y="956"/>
                  <a:pt x="750" y="958"/>
                  <a:pt x="808" y="956"/>
                </a:cubicBezTo>
                <a:cubicBezTo>
                  <a:pt x="866" y="954"/>
                  <a:pt x="890" y="939"/>
                  <a:pt x="944" y="946"/>
                </a:cubicBezTo>
                <a:cubicBezTo>
                  <a:pt x="998" y="953"/>
                  <a:pt x="1078" y="1003"/>
                  <a:pt x="1132" y="998"/>
                </a:cubicBezTo>
                <a:cubicBezTo>
                  <a:pt x="1186" y="993"/>
                  <a:pt x="1245" y="951"/>
                  <a:pt x="1268" y="914"/>
                </a:cubicBezTo>
                <a:cubicBezTo>
                  <a:pt x="1291" y="877"/>
                  <a:pt x="1278" y="827"/>
                  <a:pt x="1268" y="778"/>
                </a:cubicBezTo>
                <a:cubicBezTo>
                  <a:pt x="1258" y="729"/>
                  <a:pt x="1216" y="675"/>
                  <a:pt x="1206" y="621"/>
                </a:cubicBezTo>
                <a:cubicBezTo>
                  <a:pt x="1196" y="567"/>
                  <a:pt x="1227" y="491"/>
                  <a:pt x="1206" y="453"/>
                </a:cubicBezTo>
                <a:cubicBezTo>
                  <a:pt x="1185" y="415"/>
                  <a:pt x="1132" y="405"/>
                  <a:pt x="1080" y="391"/>
                </a:cubicBezTo>
                <a:cubicBezTo>
                  <a:pt x="1028" y="377"/>
                  <a:pt x="928" y="387"/>
                  <a:pt x="891" y="370"/>
                </a:cubicBezTo>
                <a:cubicBezTo>
                  <a:pt x="854" y="353"/>
                  <a:pt x="872" y="319"/>
                  <a:pt x="860" y="286"/>
                </a:cubicBezTo>
                <a:cubicBezTo>
                  <a:pt x="848" y="253"/>
                  <a:pt x="837" y="211"/>
                  <a:pt x="818" y="171"/>
                </a:cubicBezTo>
                <a:cubicBezTo>
                  <a:pt x="799" y="131"/>
                  <a:pt x="769" y="69"/>
                  <a:pt x="745" y="45"/>
                </a:cubicBezTo>
                <a:cubicBezTo>
                  <a:pt x="721" y="21"/>
                  <a:pt x="701" y="31"/>
                  <a:pt x="671" y="24"/>
                </a:cubicBezTo>
                <a:cubicBezTo>
                  <a:pt x="641" y="17"/>
                  <a:pt x="604" y="6"/>
                  <a:pt x="567" y="3"/>
                </a:cubicBezTo>
                <a:cubicBezTo>
                  <a:pt x="530" y="0"/>
                  <a:pt x="491" y="1"/>
                  <a:pt x="451" y="3"/>
                </a:cubicBezTo>
                <a:cubicBezTo>
                  <a:pt x="411" y="5"/>
                  <a:pt x="394" y="7"/>
                  <a:pt x="347" y="24"/>
                </a:cubicBezTo>
                <a:close/>
              </a:path>
            </a:pathLst>
          </a:custGeom>
          <a:noFill/>
          <a:ln w="38160">
            <a:solidFill>
              <a:srgbClr val="4d8c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4"/>
          <p:cNvSpPr/>
          <p:nvPr/>
        </p:nvSpPr>
        <p:spPr>
          <a:xfrm>
            <a:off x="4290840" y="1127160"/>
            <a:ext cx="1783080" cy="825480"/>
          </a:xfrm>
          <a:custGeom>
            <a:avLst/>
            <a:gdLst>
              <a:gd name="textAreaLeft" fmla="*/ 0 w 1783080"/>
              <a:gd name="textAreaRight" fmla="*/ 1783440 w 178308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123" h="520">
                <a:moveTo>
                  <a:pt x="93" y="34"/>
                </a:moveTo>
                <a:cubicBezTo>
                  <a:pt x="55" y="51"/>
                  <a:pt x="18" y="58"/>
                  <a:pt x="9" y="96"/>
                </a:cubicBezTo>
                <a:cubicBezTo>
                  <a:pt x="0" y="134"/>
                  <a:pt x="27" y="217"/>
                  <a:pt x="41" y="264"/>
                </a:cubicBezTo>
                <a:cubicBezTo>
                  <a:pt x="55" y="311"/>
                  <a:pt x="56" y="356"/>
                  <a:pt x="93" y="379"/>
                </a:cubicBezTo>
                <a:cubicBezTo>
                  <a:pt x="130" y="402"/>
                  <a:pt x="214" y="395"/>
                  <a:pt x="261" y="400"/>
                </a:cubicBezTo>
                <a:cubicBezTo>
                  <a:pt x="308" y="405"/>
                  <a:pt x="336" y="401"/>
                  <a:pt x="376" y="411"/>
                </a:cubicBezTo>
                <a:cubicBezTo>
                  <a:pt x="416" y="421"/>
                  <a:pt x="460" y="449"/>
                  <a:pt x="502" y="463"/>
                </a:cubicBezTo>
                <a:cubicBezTo>
                  <a:pt x="544" y="477"/>
                  <a:pt x="585" y="487"/>
                  <a:pt x="627" y="494"/>
                </a:cubicBezTo>
                <a:cubicBezTo>
                  <a:pt x="669" y="501"/>
                  <a:pt x="695" y="502"/>
                  <a:pt x="753" y="505"/>
                </a:cubicBezTo>
                <a:cubicBezTo>
                  <a:pt x="811" y="508"/>
                  <a:pt x="915" y="520"/>
                  <a:pt x="973" y="515"/>
                </a:cubicBezTo>
                <a:cubicBezTo>
                  <a:pt x="1031" y="510"/>
                  <a:pt x="1075" y="495"/>
                  <a:pt x="1099" y="473"/>
                </a:cubicBezTo>
                <a:cubicBezTo>
                  <a:pt x="1123" y="451"/>
                  <a:pt x="1120" y="421"/>
                  <a:pt x="1120" y="379"/>
                </a:cubicBezTo>
                <a:cubicBezTo>
                  <a:pt x="1120" y="337"/>
                  <a:pt x="1120" y="267"/>
                  <a:pt x="1099" y="222"/>
                </a:cubicBezTo>
                <a:cubicBezTo>
                  <a:pt x="1078" y="177"/>
                  <a:pt x="1041" y="140"/>
                  <a:pt x="994" y="107"/>
                </a:cubicBezTo>
                <a:cubicBezTo>
                  <a:pt x="947" y="74"/>
                  <a:pt x="877" y="40"/>
                  <a:pt x="816" y="23"/>
                </a:cubicBezTo>
                <a:cubicBezTo>
                  <a:pt x="755" y="6"/>
                  <a:pt x="699" y="4"/>
                  <a:pt x="627" y="2"/>
                </a:cubicBezTo>
                <a:cubicBezTo>
                  <a:pt x="555" y="0"/>
                  <a:pt x="449" y="10"/>
                  <a:pt x="386" y="13"/>
                </a:cubicBezTo>
                <a:cubicBezTo>
                  <a:pt x="323" y="16"/>
                  <a:pt x="299" y="20"/>
                  <a:pt x="250" y="23"/>
                </a:cubicBezTo>
                <a:cubicBezTo>
                  <a:pt x="201" y="26"/>
                  <a:pt x="126" y="32"/>
                  <a:pt x="93" y="34"/>
                </a:cubicBezTo>
                <a:close/>
              </a:path>
            </a:pathLst>
          </a:custGeom>
          <a:noFill/>
          <a:ln w="38160">
            <a:solidFill>
              <a:srgbClr val="4d8c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5"/>
          <p:cNvSpPr/>
          <p:nvPr/>
        </p:nvSpPr>
        <p:spPr>
          <a:xfrm>
            <a:off x="3003480" y="2592360"/>
            <a:ext cx="0" cy="2712960"/>
          </a:xfrm>
          <a:prstGeom prst="line">
            <a:avLst/>
          </a:prstGeom>
          <a:ln w="47520">
            <a:solidFill>
              <a:srgbClr val="4d8ce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6"/>
          <p:cNvSpPr/>
          <p:nvPr/>
        </p:nvSpPr>
        <p:spPr>
          <a:xfrm>
            <a:off x="4172040" y="4035600"/>
            <a:ext cx="0" cy="1244520"/>
          </a:xfrm>
          <a:prstGeom prst="line">
            <a:avLst/>
          </a:prstGeom>
          <a:ln w="47520">
            <a:solidFill>
              <a:srgbClr val="4d8ce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77"/>
          <p:cNvSpPr/>
          <p:nvPr/>
        </p:nvSpPr>
        <p:spPr>
          <a:xfrm>
            <a:off x="6748560" y="4772160"/>
            <a:ext cx="0" cy="531720"/>
          </a:xfrm>
          <a:prstGeom prst="line">
            <a:avLst/>
          </a:prstGeom>
          <a:ln w="47520">
            <a:solidFill>
              <a:srgbClr val="4d8ce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8"/>
          <p:cNvSpPr/>
          <p:nvPr/>
        </p:nvSpPr>
        <p:spPr>
          <a:xfrm>
            <a:off x="8096400" y="1650960"/>
            <a:ext cx="0" cy="3652920"/>
          </a:xfrm>
          <a:prstGeom prst="line">
            <a:avLst/>
          </a:prstGeom>
          <a:ln w="47520">
            <a:solidFill>
              <a:srgbClr val="4d8ce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0F2-666F-478A-96B4-E9492B38A5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4E38B-24A9-4BAE-B9BA-25ABD8812920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2 – t</a:t>
            </a:r>
            <a:r>
              <a:rPr b="1" lang="en-US" sz="44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echnical</a:t>
            </a:r>
            <a:r>
              <a:rPr b="1" lang="en-GB" sz="44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 constraints 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3320" y="1236240"/>
            <a:ext cx="815040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cc"/>
              </a:buClr>
              <a:buSzPct val="85000"/>
              <a:buFont typeface="Book Antiqu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Book Antiqua"/>
              </a:rPr>
              <a:t>Scrubber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870120" indent="-412920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Book Antiqua"/>
              </a:rPr>
              <a:t>5.8 ≤ flowrate of wash feed (kg/s) ≤ 6.2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1" marL="870120" indent="-412920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Book Antiqua"/>
              </a:rPr>
              <a:t>0.0 ≤ NH</a:t>
            </a:r>
            <a:r>
              <a:rPr b="1" lang="en-GB" sz="2000" spc="-1" strike="noStrike" baseline="-25000">
                <a:solidFill>
                  <a:srgbClr val="ff3300"/>
                </a:solidFill>
                <a:latin typeface="Book Antiqua"/>
              </a:rPr>
              <a:t>3</a:t>
            </a:r>
            <a:r>
              <a:rPr b="1" lang="en-GB" sz="2000" spc="-1" strike="noStrike">
                <a:solidFill>
                  <a:srgbClr val="ff3300"/>
                </a:solidFill>
                <a:latin typeface="Book Antiqua"/>
              </a:rPr>
              <a:t> content of wash feed (ppm) ≤ 10.0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marL="495360" indent="-495360">
              <a:spcBef>
                <a:spcPts val="601"/>
              </a:spcBef>
              <a:buClr>
                <a:srgbClr val="333399"/>
              </a:buClr>
              <a:buSzPct val="85000"/>
              <a:buFont typeface="Book Antiqu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Boiler feed water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870120" indent="-412920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Book Antiqua"/>
              </a:rPr>
              <a:t>NH</a:t>
            </a:r>
            <a:r>
              <a:rPr b="1" lang="en-GB" sz="2000" spc="-1" strike="noStrike" baseline="-25000">
                <a:solidFill>
                  <a:srgbClr val="ff3300"/>
                </a:solidFill>
                <a:latin typeface="Book Antiqua"/>
              </a:rPr>
              <a:t>3</a:t>
            </a:r>
            <a:r>
              <a:rPr b="1" lang="en-GB" sz="2000" spc="-1" strike="noStrike">
                <a:solidFill>
                  <a:srgbClr val="ff3300"/>
                </a:solidFill>
                <a:latin typeface="Book Antiqua"/>
              </a:rPr>
              <a:t> content = 0.0 ppm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1" marL="870120" indent="-412920"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</a:rPr>
              <a:t>AN content = 0.0 ppm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marL="495360" indent="-495360">
              <a:spcBef>
                <a:spcPts val="601"/>
              </a:spcBef>
              <a:buClr>
                <a:srgbClr val="333399"/>
              </a:buClr>
              <a:buSzPct val="85000"/>
              <a:buFont typeface="Book Antiqu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ecanter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870120" indent="-412920"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</a:rPr>
              <a:t>10.6 ≤ feed flowrate (kg/s) ≤ 11.1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marL="495360" indent="-495360">
              <a:spcBef>
                <a:spcPts val="601"/>
              </a:spcBef>
              <a:buClr>
                <a:srgbClr val="333399"/>
              </a:buClr>
              <a:buSzPct val="85000"/>
              <a:buFont typeface="Book Antiqu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istillation column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870120" indent="-412920"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</a:rPr>
              <a:t>5.2 ≤ feed flowrate (kg/s) ≤ 5.7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1" marL="870120" indent="-412920"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</a:rPr>
              <a:t>0.0 ≤ NH3 content of feed (ppm) ≤ 30.0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1" marL="870120" indent="-412920"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</a:rPr>
              <a:t>80.0 ≤ AN content of feed (wt%) ≤ 100.0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5987880" y="2328840"/>
            <a:ext cx="2970360" cy="2678040"/>
            <a:chOff x="5987880" y="2328840"/>
            <a:chExt cx="2970360" cy="2678040"/>
          </a:xfrm>
        </p:grpSpPr>
        <p:sp>
          <p:nvSpPr>
            <p:cNvPr id="338" name="Rectangle 5"/>
            <p:cNvSpPr/>
            <p:nvPr/>
          </p:nvSpPr>
          <p:spPr>
            <a:xfrm>
              <a:off x="5999040" y="2328840"/>
              <a:ext cx="2933640" cy="267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 flipH="1">
              <a:off x="5998680" y="2720880"/>
              <a:ext cx="293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7"/>
            <p:cNvSpPr/>
            <p:nvPr/>
          </p:nvSpPr>
          <p:spPr>
            <a:xfrm flipH="1">
              <a:off x="5998680" y="3289320"/>
              <a:ext cx="293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8"/>
            <p:cNvSpPr/>
            <p:nvPr/>
          </p:nvSpPr>
          <p:spPr>
            <a:xfrm flipH="1">
              <a:off x="5998680" y="4103640"/>
              <a:ext cx="293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 flipH="1">
              <a:off x="5998680" y="4671720"/>
              <a:ext cx="293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0"/>
            <p:cNvSpPr/>
            <p:nvPr/>
          </p:nvSpPr>
          <p:spPr>
            <a:xfrm>
              <a:off x="5987880" y="4143240"/>
              <a:ext cx="2938680" cy="533520"/>
            </a:xfrm>
            <a:custGeom>
              <a:avLst/>
              <a:gdLst>
                <a:gd name="textAreaLeft" fmla="*/ 0 w 2938680"/>
                <a:gd name="textAreaRight" fmla="*/ 2939040 w 29386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544" h="448">
                  <a:moveTo>
                    <a:pt x="0" y="296"/>
                  </a:moveTo>
                  <a:cubicBezTo>
                    <a:pt x="88" y="248"/>
                    <a:pt x="176" y="200"/>
                    <a:pt x="240" y="152"/>
                  </a:cubicBezTo>
                  <a:cubicBezTo>
                    <a:pt x="304" y="104"/>
                    <a:pt x="312" y="0"/>
                    <a:pt x="384" y="8"/>
                  </a:cubicBezTo>
                  <a:cubicBezTo>
                    <a:pt x="456" y="16"/>
                    <a:pt x="576" y="168"/>
                    <a:pt x="672" y="200"/>
                  </a:cubicBezTo>
                  <a:cubicBezTo>
                    <a:pt x="768" y="232"/>
                    <a:pt x="840" y="224"/>
                    <a:pt x="960" y="200"/>
                  </a:cubicBezTo>
                  <a:cubicBezTo>
                    <a:pt x="1080" y="176"/>
                    <a:pt x="1264" y="16"/>
                    <a:pt x="1392" y="56"/>
                  </a:cubicBezTo>
                  <a:cubicBezTo>
                    <a:pt x="1520" y="96"/>
                    <a:pt x="1536" y="432"/>
                    <a:pt x="1728" y="440"/>
                  </a:cubicBezTo>
                  <a:cubicBezTo>
                    <a:pt x="1920" y="448"/>
                    <a:pt x="2408" y="160"/>
                    <a:pt x="2544" y="104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"/>
            <p:cNvSpPr/>
            <p:nvPr/>
          </p:nvSpPr>
          <p:spPr>
            <a:xfrm>
              <a:off x="5987880" y="2716200"/>
              <a:ext cx="2938680" cy="560160"/>
            </a:xfrm>
            <a:custGeom>
              <a:avLst/>
              <a:gdLst>
                <a:gd name="textAreaLeft" fmla="*/ 0 w 2938680"/>
                <a:gd name="textAreaRight" fmla="*/ 2939040 w 293868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2544" h="472">
                  <a:moveTo>
                    <a:pt x="0" y="184"/>
                  </a:moveTo>
                  <a:cubicBezTo>
                    <a:pt x="72" y="232"/>
                    <a:pt x="144" y="280"/>
                    <a:pt x="240" y="328"/>
                  </a:cubicBezTo>
                  <a:cubicBezTo>
                    <a:pt x="336" y="376"/>
                    <a:pt x="480" y="472"/>
                    <a:pt x="576" y="472"/>
                  </a:cubicBezTo>
                  <a:cubicBezTo>
                    <a:pt x="672" y="472"/>
                    <a:pt x="744" y="400"/>
                    <a:pt x="816" y="328"/>
                  </a:cubicBezTo>
                  <a:cubicBezTo>
                    <a:pt x="888" y="256"/>
                    <a:pt x="944" y="72"/>
                    <a:pt x="1008" y="40"/>
                  </a:cubicBezTo>
                  <a:cubicBezTo>
                    <a:pt x="1072" y="8"/>
                    <a:pt x="1160" y="80"/>
                    <a:pt x="1200" y="136"/>
                  </a:cubicBezTo>
                  <a:cubicBezTo>
                    <a:pt x="1240" y="192"/>
                    <a:pt x="1200" y="336"/>
                    <a:pt x="1248" y="376"/>
                  </a:cubicBezTo>
                  <a:cubicBezTo>
                    <a:pt x="1296" y="416"/>
                    <a:pt x="1432" y="432"/>
                    <a:pt x="1488" y="376"/>
                  </a:cubicBezTo>
                  <a:cubicBezTo>
                    <a:pt x="1544" y="320"/>
                    <a:pt x="1536" y="80"/>
                    <a:pt x="1584" y="40"/>
                  </a:cubicBezTo>
                  <a:cubicBezTo>
                    <a:pt x="1632" y="0"/>
                    <a:pt x="1720" y="96"/>
                    <a:pt x="1776" y="136"/>
                  </a:cubicBezTo>
                  <a:cubicBezTo>
                    <a:pt x="1832" y="176"/>
                    <a:pt x="1848" y="240"/>
                    <a:pt x="1920" y="280"/>
                  </a:cubicBezTo>
                  <a:cubicBezTo>
                    <a:pt x="1992" y="320"/>
                    <a:pt x="2104" y="376"/>
                    <a:pt x="2208" y="376"/>
                  </a:cubicBezTo>
                  <a:cubicBezTo>
                    <a:pt x="2312" y="376"/>
                    <a:pt x="2428" y="328"/>
                    <a:pt x="2544" y="28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2"/>
            <p:cNvSpPr/>
            <p:nvPr/>
          </p:nvSpPr>
          <p:spPr>
            <a:xfrm>
              <a:off x="7596360" y="2436840"/>
              <a:ext cx="133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pper b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3"/>
            <p:cNvSpPr/>
            <p:nvPr/>
          </p:nvSpPr>
          <p:spPr>
            <a:xfrm>
              <a:off x="7610040" y="3225600"/>
              <a:ext cx="134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Lower b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4"/>
            <p:cNvSpPr/>
            <p:nvPr/>
          </p:nvSpPr>
          <p:spPr>
            <a:xfrm>
              <a:off x="7615440" y="3824280"/>
              <a:ext cx="133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Upper b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5"/>
            <p:cNvSpPr/>
            <p:nvPr/>
          </p:nvSpPr>
          <p:spPr>
            <a:xfrm>
              <a:off x="7610040" y="4647960"/>
              <a:ext cx="134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Lower b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C9A-23D8-4CCB-8849-D6FEAD6566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30D35-72E8-4AB1-A685-5B4F3C48A40B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2 – Limiting water data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97000" y="1241280"/>
          <a:ext cx="8586720" cy="4808520"/>
        </p:xfrm>
        <a:graphic>
          <a:graphicData uri="http://schemas.openxmlformats.org/drawingml/2006/table">
            <a:tbl>
              <a:tblPr/>
              <a:tblGrid>
                <a:gridCol w="853920"/>
                <a:gridCol w="3598920"/>
                <a:gridCol w="1868400"/>
                <a:gridCol w="226548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Water sinks, SK</a:t>
                      </a:r>
                      <a:r>
                        <a:rPr b="1" i="1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j</a:t>
                      </a: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Flow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Concent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Stre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F</a:t>
                      </a:r>
                      <a:r>
                        <a:rPr b="0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SK</a:t>
                      </a:r>
                      <a:r>
                        <a:rPr b="0" i="1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j</a:t>
                      </a: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 (kg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C</a:t>
                      </a:r>
                      <a:r>
                        <a:rPr b="0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SK</a:t>
                      </a:r>
                      <a:r>
                        <a:rPr b="0" i="1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j</a:t>
                      </a: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 (p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Boiler feed water (BF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Scrub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Water sources, SR</a:t>
                      </a:r>
                      <a:r>
                        <a:rPr b="1" i="1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i</a:t>
                      </a: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Flow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Concent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Stre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F</a:t>
                      </a:r>
                      <a:r>
                        <a:rPr b="0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SR</a:t>
                      </a:r>
                      <a:r>
                        <a:rPr b="0" i="1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i</a:t>
                      </a: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 (kg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C</a:t>
                      </a:r>
                      <a:r>
                        <a:rPr b="0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SR</a:t>
                      </a:r>
                      <a:r>
                        <a:rPr b="0" i="1" lang="en-GB" sz="2400" spc="-1" strike="noStrike" baseline="-30000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i</a:t>
                      </a: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 (p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Distillation bot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Off-gas condens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Aqueous lay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Ejector condens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Book Antiqua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541-83C0-490C-8988-791FA30D11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AB609-9A31-4ABF-BD68-5D1A60F5738C}" type="datetime1">
              <a:rPr lang="en-US"/>
              <a:t>07/29/26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2840" y="2575080"/>
            <a:ext cx="8032680" cy="20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Monotype Corsiva"/>
                <a:ea typeface="SimSun"/>
              </a:rPr>
              <a:t>Data extraction for hydrogen-consuming units in refinery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  <a:ea typeface="SimSun"/>
              </a:rPr>
              <a:t> </a:t>
            </a:r>
            <a:endParaRPr b="1" lang="en-US" sz="54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435480" y="4689000"/>
            <a:ext cx="522576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Refinery hydrogen recovery 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97000" y="1240920"/>
            <a:ext cx="85867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Typical hydrogen-consuming units are hydrotreating and hydrocracking processes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49080" y="2491200"/>
            <a:ext cx="8214480" cy="3518280"/>
            <a:chOff x="649080" y="2491200"/>
            <a:chExt cx="8214480" cy="3518280"/>
          </a:xfrm>
        </p:grpSpPr>
        <p:sp>
          <p:nvSpPr>
            <p:cNvPr id="356" name="Oval 53"/>
            <p:cNvSpPr/>
            <p:nvPr/>
          </p:nvSpPr>
          <p:spPr>
            <a:xfrm>
              <a:off x="3260880" y="4727880"/>
              <a:ext cx="384840" cy="3427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54"/>
            <p:cNvSpPr/>
            <p:nvPr/>
          </p:nvSpPr>
          <p:spPr>
            <a:xfrm flipV="1">
              <a:off x="3246480" y="4667400"/>
              <a:ext cx="378000" cy="48780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AutoShape 55"/>
            <p:cNvCxnSpPr>
              <a:stCxn id="356" idx="6"/>
            </p:cNvCxnSpPr>
            <p:nvPr/>
          </p:nvCxnSpPr>
          <p:spPr>
            <a:xfrm flipV="1">
              <a:off x="3645720" y="4897800"/>
              <a:ext cx="41472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59" name="AutoShape 56"/>
            <p:cNvCxnSpPr/>
            <p:nvPr/>
          </p:nvCxnSpPr>
          <p:spPr>
            <a:xfrm>
              <a:off x="5346000" y="4898160"/>
              <a:ext cx="21492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60" name="Rectangle 57"/>
            <p:cNvSpPr/>
            <p:nvPr/>
          </p:nvSpPr>
          <p:spPr>
            <a:xfrm>
              <a:off x="6275160" y="4170240"/>
              <a:ext cx="485640" cy="1458000"/>
            </a:xfrm>
            <a:prstGeom prst="rect">
              <a:avLst/>
            </a:prstGeom>
            <a:solidFill>
              <a:srgbClr val="ffdd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1" name="AutoShape 58"/>
            <p:cNvCxnSpPr/>
            <p:nvPr/>
          </p:nvCxnSpPr>
          <p:spPr>
            <a:xfrm>
              <a:off x="5947560" y="4898160"/>
              <a:ext cx="32832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62" name="Rectangle 59"/>
            <p:cNvSpPr/>
            <p:nvPr/>
          </p:nvSpPr>
          <p:spPr>
            <a:xfrm>
              <a:off x="6275160" y="3283200"/>
              <a:ext cx="485640" cy="557280"/>
            </a:xfrm>
            <a:prstGeom prst="rect">
              <a:avLst/>
            </a:prstGeom>
            <a:solidFill>
              <a:srgbClr val="ffdd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3" name="AutoShape 60"/>
            <p:cNvCxnSpPr/>
            <p:nvPr/>
          </p:nvCxnSpPr>
          <p:spPr>
            <a:xfrm flipV="1">
              <a:off x="6519240" y="3840120"/>
              <a:ext cx="1440" cy="33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64" name="Line 61"/>
            <p:cNvSpPr/>
            <p:nvPr/>
          </p:nvSpPr>
          <p:spPr>
            <a:xfrm>
              <a:off x="1933200" y="4898520"/>
              <a:ext cx="1012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5" name="AutoShape 64"/>
            <p:cNvCxnSpPr>
              <a:stCxn id="366" idx="1"/>
              <a:endCxn id="367" idx="0"/>
            </p:cNvCxnSpPr>
            <p:nvPr/>
          </p:nvCxnSpPr>
          <p:spPr>
            <a:xfrm flipH="1">
              <a:off x="2944800" y="2820600"/>
              <a:ext cx="162828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68" name="AutoShape 65"/>
            <p:cNvCxnSpPr>
              <a:stCxn id="367" idx="1"/>
              <a:endCxn id="364" idx="0"/>
            </p:cNvCxnSpPr>
            <p:nvPr/>
          </p:nvCxnSpPr>
          <p:spPr>
            <a:xfrm>
              <a:off x="2945520" y="2823120"/>
              <a:ext cx="1440" cy="207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69" name="Line 66"/>
            <p:cNvSpPr/>
            <p:nvPr/>
          </p:nvSpPr>
          <p:spPr>
            <a:xfrm>
              <a:off x="6532200" y="2822040"/>
              <a:ext cx="971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7"/>
            <p:cNvSpPr/>
            <p:nvPr/>
          </p:nvSpPr>
          <p:spPr>
            <a:xfrm>
              <a:off x="6761160" y="3569040"/>
              <a:ext cx="729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1" name="AutoShape 71"/>
            <p:cNvCxnSpPr>
              <a:stCxn id="364" idx="1"/>
              <a:endCxn id="356" idx="2"/>
            </p:cNvCxnSpPr>
            <p:nvPr/>
          </p:nvCxnSpPr>
          <p:spPr>
            <a:xfrm>
              <a:off x="2945160" y="4899600"/>
              <a:ext cx="3157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72" name="Oval 76"/>
            <p:cNvSpPr/>
            <p:nvPr/>
          </p:nvSpPr>
          <p:spPr>
            <a:xfrm>
              <a:off x="5560920" y="4727880"/>
              <a:ext cx="386280" cy="3427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70"/>
            <p:cNvSpPr/>
            <p:nvPr/>
          </p:nvSpPr>
          <p:spPr>
            <a:xfrm flipH="1">
              <a:off x="5600520" y="4667760"/>
              <a:ext cx="311400" cy="465840"/>
            </a:xfrm>
            <a:prstGeom prst="line">
              <a:avLst/>
            </a:prstGeom>
            <a:ln w="9360">
              <a:solidFill>
                <a:srgbClr val="00808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60000" y="2491200"/>
              <a:ext cx="685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urg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92280" y="2499840"/>
              <a:ext cx="12729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cyc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56880" y="2543760"/>
              <a:ext cx="86364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resh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makeup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72"/>
            <p:cNvGrpSpPr/>
            <p:nvPr/>
          </p:nvGrpSpPr>
          <p:grpSpPr>
            <a:xfrm>
              <a:off x="4059720" y="4627080"/>
              <a:ext cx="1284120" cy="540000"/>
              <a:chOff x="4059720" y="4627080"/>
              <a:chExt cx="1284120" cy="540000"/>
            </a:xfrm>
          </p:grpSpPr>
          <p:sp>
            <p:nvSpPr>
              <p:cNvPr id="378" name="Rectangle 73"/>
              <p:cNvSpPr/>
              <p:nvPr/>
            </p:nvSpPr>
            <p:spPr>
              <a:xfrm>
                <a:off x="4059720" y="4627080"/>
                <a:ext cx="1284120" cy="54000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74"/>
              <p:cNvSpPr/>
              <p:nvPr/>
            </p:nvSpPr>
            <p:spPr>
              <a:xfrm flipV="1">
                <a:off x="4059720" y="4639680"/>
                <a:ext cx="1284120" cy="527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75"/>
              <p:cNvSpPr/>
              <p:nvPr/>
            </p:nvSpPr>
            <p:spPr>
              <a:xfrm>
                <a:off x="4059720" y="4627080"/>
                <a:ext cx="1271520" cy="527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rot="5400000">
              <a:off x="4471920" y="2632680"/>
              <a:ext cx="601920" cy="374040"/>
            </a:xfrm>
            <a:custGeom>
              <a:avLst/>
              <a:gdLst>
                <a:gd name="textAreaLeft" fmla="*/ 132120 w 601920"/>
                <a:gd name="textAreaRight" fmla="*/ 469800 w 601920"/>
                <a:gd name="textAreaTop" fmla="*/ 82080 h 374040"/>
                <a:gd name="textAreaBottom" fmla="*/ 291960 h 37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62" idx="0"/>
              <a:endCxn id="366" idx="3"/>
            </p:cNvCxnSpPr>
            <p:nvPr/>
          </p:nvCxnSpPr>
          <p:spPr>
            <a:xfrm flipV="1" rot="16200000">
              <a:off x="5522400" y="2273400"/>
              <a:ext cx="448560" cy="1542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82" name=""/>
            <p:cNvSpPr/>
            <p:nvPr/>
          </p:nvSpPr>
          <p:spPr>
            <a:xfrm>
              <a:off x="5445720" y="3280320"/>
              <a:ext cx="827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mine uni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37120" y="4587840"/>
              <a:ext cx="149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igh pressure flash separator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9080" y="4480200"/>
              <a:ext cx="127296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quid hydrocarbon fe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68360" y="5174640"/>
              <a:ext cx="12729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ac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3"/>
            <p:cNvSpPr/>
            <p:nvPr/>
          </p:nvSpPr>
          <p:spPr>
            <a:xfrm>
              <a:off x="1937880" y="2822040"/>
              <a:ext cx="1007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3520" y="3265920"/>
              <a:ext cx="556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61000" y="5739840"/>
              <a:ext cx="14025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quid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9" name=""/>
            <p:cNvCxnSpPr>
              <a:stCxn id="388" idx="1"/>
              <a:endCxn id="360" idx="2"/>
            </p:cNvCxnSpPr>
            <p:nvPr/>
          </p:nvCxnSpPr>
          <p:spPr>
            <a:xfrm rot="10800000">
              <a:off x="6517440" y="5641920"/>
              <a:ext cx="943560" cy="232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57E-5E46-4134-B2AE-0F680F4C5E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8711B-397D-4769-8D02-E44133E5E563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Identification of H</a:t>
            </a:r>
            <a:r>
              <a:rPr b="1" lang="en-GB" sz="4000" spc="-1" strike="noStrike" baseline="-25000">
                <a:solidFill>
                  <a:srgbClr val="cc0000"/>
                </a:solidFill>
                <a:latin typeface="Monotype Corsiva"/>
              </a:rPr>
              <a:t>2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 sinks &amp; sources</a:t>
            </a:r>
            <a:endParaRPr b="1" lang="en-US" sz="4000" spc="-1" strike="noStrike">
              <a:solidFill>
                <a:srgbClr val="cc0000"/>
              </a:solidFill>
              <a:latin typeface="Monotype Corsiv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94840" y="2087640"/>
            <a:ext cx="8677440" cy="3515760"/>
            <a:chOff x="294840" y="2087640"/>
            <a:chExt cx="8677440" cy="3515760"/>
          </a:xfrm>
        </p:grpSpPr>
        <p:sp>
          <p:nvSpPr>
            <p:cNvPr id="392" name="Rectangle 73"/>
            <p:cNvSpPr/>
            <p:nvPr/>
          </p:nvSpPr>
          <p:spPr>
            <a:xfrm>
              <a:off x="4061520" y="4222080"/>
              <a:ext cx="1285920" cy="5425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3"/>
            <p:cNvSpPr/>
            <p:nvPr/>
          </p:nvSpPr>
          <p:spPr>
            <a:xfrm>
              <a:off x="3262680" y="4322880"/>
              <a:ext cx="345600" cy="3427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54"/>
            <p:cNvSpPr/>
            <p:nvPr/>
          </p:nvSpPr>
          <p:spPr>
            <a:xfrm flipV="1">
              <a:off x="3248280" y="4262760"/>
              <a:ext cx="378000" cy="48744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AutoShape 55"/>
            <p:cNvCxnSpPr>
              <a:stCxn id="393" idx="6"/>
              <a:endCxn id="392" idx="1"/>
            </p:cNvCxnSpPr>
            <p:nvPr/>
          </p:nvCxnSpPr>
          <p:spPr>
            <a:xfrm flipV="1">
              <a:off x="3607920" y="4492800"/>
              <a:ext cx="4395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396" name="AutoShape 56"/>
            <p:cNvCxnSpPr>
              <a:stCxn id="392" idx="3"/>
            </p:cNvCxnSpPr>
            <p:nvPr/>
          </p:nvCxnSpPr>
          <p:spPr>
            <a:xfrm>
              <a:off x="5361840" y="4493160"/>
              <a:ext cx="2005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397" name="Rectangle 57"/>
            <p:cNvSpPr/>
            <p:nvPr/>
          </p:nvSpPr>
          <p:spPr>
            <a:xfrm>
              <a:off x="6276240" y="3765600"/>
              <a:ext cx="485280" cy="1456920"/>
            </a:xfrm>
            <a:prstGeom prst="rect">
              <a:avLst/>
            </a:prstGeom>
            <a:solidFill>
              <a:srgbClr val="ffdd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AutoShape 58"/>
            <p:cNvCxnSpPr>
              <a:stCxn id="399" idx="6"/>
              <a:endCxn id="397" idx="1"/>
            </p:cNvCxnSpPr>
            <p:nvPr/>
          </p:nvCxnSpPr>
          <p:spPr>
            <a:xfrm>
              <a:off x="5907600" y="4494240"/>
              <a:ext cx="3549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400" name="Rectangle 59"/>
            <p:cNvSpPr/>
            <p:nvPr/>
          </p:nvSpPr>
          <p:spPr>
            <a:xfrm>
              <a:off x="6276240" y="2878920"/>
              <a:ext cx="485280" cy="556920"/>
            </a:xfrm>
            <a:prstGeom prst="rect">
              <a:avLst/>
            </a:prstGeom>
            <a:solidFill>
              <a:srgbClr val="ffdd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AutoShape 60"/>
            <p:cNvCxnSpPr/>
            <p:nvPr/>
          </p:nvCxnSpPr>
          <p:spPr>
            <a:xfrm flipV="1">
              <a:off x="6519960" y="3435840"/>
              <a:ext cx="1440" cy="32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402" name="Line 61"/>
            <p:cNvSpPr/>
            <p:nvPr/>
          </p:nvSpPr>
          <p:spPr>
            <a:xfrm>
              <a:off x="1935360" y="4493160"/>
              <a:ext cx="1011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3" name="AutoShape 64"/>
            <p:cNvCxnSpPr>
              <a:stCxn id="404" idx="1"/>
              <a:endCxn id="405" idx="0"/>
            </p:cNvCxnSpPr>
            <p:nvPr/>
          </p:nvCxnSpPr>
          <p:spPr>
            <a:xfrm flipH="1">
              <a:off x="2946960" y="2416680"/>
              <a:ext cx="162792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406" name="AutoShape 65"/>
            <p:cNvCxnSpPr>
              <a:stCxn id="405" idx="1"/>
              <a:endCxn id="402" idx="0"/>
            </p:cNvCxnSpPr>
            <p:nvPr/>
          </p:nvCxnSpPr>
          <p:spPr>
            <a:xfrm>
              <a:off x="2947320" y="2418840"/>
              <a:ext cx="1440" cy="20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407" name="Line 66"/>
            <p:cNvSpPr/>
            <p:nvPr/>
          </p:nvSpPr>
          <p:spPr>
            <a:xfrm>
              <a:off x="6532920" y="2418120"/>
              <a:ext cx="970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67"/>
            <p:cNvSpPr/>
            <p:nvPr/>
          </p:nvSpPr>
          <p:spPr>
            <a:xfrm>
              <a:off x="6761880" y="3164760"/>
              <a:ext cx="729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AutoShape 71"/>
            <p:cNvCxnSpPr>
              <a:stCxn id="402" idx="1"/>
              <a:endCxn id="393" idx="2"/>
            </p:cNvCxnSpPr>
            <p:nvPr/>
          </p:nvCxnSpPr>
          <p:spPr>
            <a:xfrm>
              <a:off x="2946960" y="4494240"/>
              <a:ext cx="3157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410" name=""/>
            <p:cNvSpPr/>
            <p:nvPr/>
          </p:nvSpPr>
          <p:spPr>
            <a:xfrm>
              <a:off x="6660720" y="2087640"/>
              <a:ext cx="1467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urg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88360" y="2095920"/>
              <a:ext cx="16012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cycl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840" y="2139840"/>
              <a:ext cx="16376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resh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makeup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74"/>
            <p:cNvSpPr/>
            <p:nvPr/>
          </p:nvSpPr>
          <p:spPr>
            <a:xfrm flipV="1">
              <a:off x="4061520" y="4236120"/>
              <a:ext cx="1285920" cy="528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75"/>
            <p:cNvSpPr/>
            <p:nvPr/>
          </p:nvSpPr>
          <p:spPr>
            <a:xfrm>
              <a:off x="4061520" y="4222080"/>
              <a:ext cx="1274760" cy="528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5400000">
              <a:off x="4473720" y="2228760"/>
              <a:ext cx="601560" cy="374040"/>
            </a:xfrm>
            <a:custGeom>
              <a:avLst/>
              <a:gdLst>
                <a:gd name="textAreaLeft" fmla="*/ 132120 w 601560"/>
                <a:gd name="textAreaRight" fmla="*/ 469440 w 601560"/>
                <a:gd name="textAreaTop" fmla="*/ 82080 h 374040"/>
                <a:gd name="textAreaBottom" fmla="*/ 291960 h 37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0" idx="0"/>
              <a:endCxn id="404" idx="3"/>
            </p:cNvCxnSpPr>
            <p:nvPr/>
          </p:nvCxnSpPr>
          <p:spPr>
            <a:xfrm flipV="1" rot="16200000">
              <a:off x="5523480" y="1869480"/>
              <a:ext cx="448200" cy="1541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416" name=""/>
            <p:cNvSpPr/>
            <p:nvPr/>
          </p:nvSpPr>
          <p:spPr>
            <a:xfrm>
              <a:off x="5446800" y="2876040"/>
              <a:ext cx="827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mine uni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37840" y="4182840"/>
              <a:ext cx="149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igh pressure flash separator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1960" y="4075200"/>
              <a:ext cx="127260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quid hydrocarbon fe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70160" y="4769280"/>
              <a:ext cx="12726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ac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3"/>
            <p:cNvSpPr/>
            <p:nvPr/>
          </p:nvSpPr>
          <p:spPr>
            <a:xfrm>
              <a:off x="1940040" y="2418120"/>
              <a:ext cx="100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34240" y="2861640"/>
              <a:ext cx="556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61360" y="5334120"/>
              <a:ext cx="15051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quid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3" name=""/>
            <p:cNvCxnSpPr>
              <a:stCxn id="422" idx="1"/>
              <a:endCxn id="397" idx="2"/>
            </p:cNvCxnSpPr>
            <p:nvPr/>
          </p:nvCxnSpPr>
          <p:spPr>
            <a:xfrm rot="10800000">
              <a:off x="6518160" y="5236200"/>
              <a:ext cx="943200" cy="232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424" name=""/>
            <p:cNvSpPr/>
            <p:nvPr/>
          </p:nvSpPr>
          <p:spPr>
            <a:xfrm>
              <a:off x="1097280" y="3115080"/>
              <a:ext cx="14576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Hydrogen sink (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F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Times New Roman"/>
                  <a:ea typeface="SimSun"/>
                </a:rPr>
                <a:t>SK</a:t>
              </a: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,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C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Times New Roman"/>
                  <a:ea typeface="SimSun"/>
                </a:rPr>
                <a:t>SK</a:t>
              </a: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  <a:ea typeface="SimSu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95240" y="3355200"/>
              <a:ext cx="336960" cy="168120"/>
            </a:xfrm>
            <a:custGeom>
              <a:avLst/>
              <a:gdLst/>
              <a:ahLst/>
              <a:rect l="l" t="t" r="r" b="b"/>
              <a:pathLst>
                <a:path w="336" h="168">
                  <a:moveTo>
                    <a:pt x="0" y="0"/>
                  </a:moveTo>
                  <a:cubicBezTo>
                    <a:pt x="0" y="0"/>
                    <a:pt x="117" y="17"/>
                    <a:pt x="142" y="36"/>
                  </a:cubicBezTo>
                  <a:cubicBezTo>
                    <a:pt x="167" y="55"/>
                    <a:pt x="119" y="93"/>
                    <a:pt x="151" y="115"/>
                  </a:cubicBezTo>
                  <a:cubicBezTo>
                    <a:pt x="183" y="137"/>
                    <a:pt x="298" y="157"/>
                    <a:pt x="336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49120" y="2598120"/>
              <a:ext cx="1279440" cy="194040"/>
            </a:xfrm>
            <a:custGeom>
              <a:avLst/>
              <a:gdLst/>
              <a:ahLst/>
              <a:rect l="l" t="t" r="r" b="b"/>
              <a:pathLst>
                <a:path w="336" h="168">
                  <a:moveTo>
                    <a:pt x="0" y="0"/>
                  </a:moveTo>
                  <a:cubicBezTo>
                    <a:pt x="0" y="0"/>
                    <a:pt x="117" y="17"/>
                    <a:pt x="142" y="36"/>
                  </a:cubicBezTo>
                  <a:cubicBezTo>
                    <a:pt x="167" y="55"/>
                    <a:pt x="119" y="93"/>
                    <a:pt x="151" y="115"/>
                  </a:cubicBezTo>
                  <a:cubicBezTo>
                    <a:pt x="183" y="137"/>
                    <a:pt x="298" y="157"/>
                    <a:pt x="336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58440" y="2517120"/>
              <a:ext cx="111384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Hydrogen sour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(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F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SimSun"/>
                </a:rPr>
                <a:t>SR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,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 C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  <a:ea typeface="SimSun"/>
                </a:rPr>
                <a:t>SR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6"/>
            <p:cNvSpPr/>
            <p:nvPr/>
          </p:nvSpPr>
          <p:spPr>
            <a:xfrm>
              <a:off x="5562000" y="4322880"/>
              <a:ext cx="345240" cy="3427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0"/>
            <p:cNvSpPr/>
            <p:nvPr/>
          </p:nvSpPr>
          <p:spPr>
            <a:xfrm flipH="1">
              <a:off x="5586840" y="4262760"/>
              <a:ext cx="311040" cy="465840"/>
            </a:xfrm>
            <a:prstGeom prst="line">
              <a:avLst/>
            </a:prstGeom>
            <a:ln w="9360">
              <a:solidFill>
                <a:srgbClr val="00808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189-3748-4A6E-8695-209DDB5BF9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47D8D-A21F-4BFE-A034-BE97CBE1F4DE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Monotype Corsiva"/>
              </a:rPr>
              <a:t>Identification of H</a:t>
            </a:r>
            <a:r>
              <a:rPr b="1" lang="en-GB" sz="3600" spc="-1" strike="noStrike" baseline="-25000">
                <a:solidFill>
                  <a:srgbClr val="cc0000"/>
                </a:solidFill>
                <a:latin typeface="Monotype Corsiva"/>
              </a:rPr>
              <a:t>2</a:t>
            </a:r>
            <a:r>
              <a:rPr b="1" lang="en-GB" sz="3600" spc="-1" strike="noStrike">
                <a:solidFill>
                  <a:srgbClr val="cc0000"/>
                </a:solidFill>
                <a:latin typeface="Monotype Corsiva"/>
              </a:rPr>
              <a:t> sinks &amp; sources</a:t>
            </a:r>
            <a:endParaRPr b="1" lang="en-US" sz="36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Hydrogen sink: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lowrate: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SK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=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M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+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R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mpurity concentration: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here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SK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,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 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M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and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R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are the respective flowrates of the hydrogen sink, make-up and recycle streams; with their respective impurity concentrations of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C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SK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,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 C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M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d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C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R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Hydrogen source: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lowrate: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SK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=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R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+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</a:rPr>
              <a:t>P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ncentration: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C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SK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=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R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=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F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P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432320" y="2233440"/>
                <a:ext cx="24940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8372520" y="5791320"/>
            <a:ext cx="334800" cy="295200"/>
          </a:xfrm>
          <a:custGeom>
            <a:avLst/>
            <a:gdLst>
              <a:gd name="textAreaLeft" fmla="*/ 19080 w 334800"/>
              <a:gd name="textAreaRight" fmla="*/ 315720 w 334800"/>
              <a:gd name="textAreaTop" fmla="*/ 19080 h 295200"/>
              <a:gd name="textAreaBottom" fmla="*/ 276120 h 295200"/>
            </a:gdLst>
            <a:ahLst/>
            <a:rect l="textAreaLeft" t="textAreaTop" r="textAreaRight" b="textAreaBottom"/>
            <a:pathLst>
              <a:path w="24494" h="21600">
                <a:moveTo>
                  <a:pt x="0" y="0"/>
                </a:moveTo>
                <a:lnTo>
                  <a:pt x="24494" y="0"/>
                </a:lnTo>
                <a:lnTo>
                  <a:pt x="24494" y="21600"/>
                </a:lnTo>
                <a:lnTo>
                  <a:pt x="0" y="21600"/>
                </a:lnTo>
                <a:close/>
              </a:path>
              <a:path fill="lightenLess" w="24494" h="21600">
                <a:moveTo>
                  <a:pt x="0" y="0"/>
                </a:moveTo>
                <a:lnTo>
                  <a:pt x="24494" y="0"/>
                </a:lnTo>
                <a:lnTo>
                  <a:pt x="23094" y="1400"/>
                </a:lnTo>
                <a:lnTo>
                  <a:pt x="1400" y="1400"/>
                </a:lnTo>
                <a:close/>
              </a:path>
              <a:path fill="darken" w="24494" h="21600">
                <a:moveTo>
                  <a:pt x="24494" y="0"/>
                </a:moveTo>
                <a:lnTo>
                  <a:pt x="24494" y="21600"/>
                </a:lnTo>
                <a:lnTo>
                  <a:pt x="23094" y="20200"/>
                </a:lnTo>
                <a:lnTo>
                  <a:pt x="23094" y="1400"/>
                </a:lnTo>
                <a:close/>
              </a:path>
              <a:path fill="darkenLess" w="24494" h="21600">
                <a:moveTo>
                  <a:pt x="24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4" y="20200"/>
                </a:lnTo>
                <a:close/>
              </a:path>
              <a:path fill="lighten" w="24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4" h="21600">
                <a:moveTo>
                  <a:pt x="5241" y="7493"/>
                </a:moveTo>
                <a:lnTo>
                  <a:pt x="8748" y="7493"/>
                </a:lnTo>
                <a:lnTo>
                  <a:pt x="8748" y="12828"/>
                </a:lnTo>
                <a:cubicBezTo>
                  <a:pt x="8748" y="13751"/>
                  <a:pt x="9549" y="14482"/>
                  <a:pt x="10585" y="14482"/>
                </a:cubicBezTo>
                <a:lnTo>
                  <a:pt x="12247" y="14482"/>
                </a:lnTo>
                <a:cubicBezTo>
                  <a:pt x="13283" y="14482"/>
                  <a:pt x="14083" y="13751"/>
                  <a:pt x="14083" y="12828"/>
                </a:cubicBezTo>
                <a:lnTo>
                  <a:pt x="14083" y="7493"/>
                </a:lnTo>
                <a:lnTo>
                  <a:pt x="12247" y="7493"/>
                </a:lnTo>
                <a:lnTo>
                  <a:pt x="15755" y="3985"/>
                </a:lnTo>
                <a:lnTo>
                  <a:pt x="19428" y="7493"/>
                </a:lnTo>
                <a:lnTo>
                  <a:pt x="17591" y="7493"/>
                </a:lnTo>
                <a:lnTo>
                  <a:pt x="17591" y="12828"/>
                </a:lnTo>
                <a:cubicBezTo>
                  <a:pt x="17591" y="15596"/>
                  <a:pt x="15015" y="18155"/>
                  <a:pt x="12247" y="18155"/>
                </a:cubicBezTo>
                <a:lnTo>
                  <a:pt x="10585" y="18155"/>
                </a:lnTo>
                <a:cubicBezTo>
                  <a:pt x="7817" y="18155"/>
                  <a:pt x="5241" y="15596"/>
                  <a:pt x="52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A91-5D92-4A7B-B8E0-92E4238E7F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5E987-7592-4E8B-A330-6D7504661D77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Introduc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Data extraction – 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  <a:ea typeface="SimSun"/>
              </a:rPr>
              <a:t>most crucial step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 for any resource conservation activity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Once the data is wrongly extracted, we might end up synthesising a sub-optimum resource conservation network (RCN).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  <a:ea typeface="SimSun"/>
              </a:rPr>
              <a:t>Limiting data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 needed for process sinks and sources: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Quantity aspect – flowrate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Quality aspects: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  <a:ea typeface="SimSun"/>
              </a:rPr>
              <a:t>Mass integration</a:t>
            </a:r>
            <a:r>
              <a:rPr b="0" lang="en-US" sz="2000" spc="-1" strike="noStrike">
                <a:solidFill>
                  <a:srgbClr val="333399"/>
                </a:solidFill>
                <a:latin typeface="Book Antiqua"/>
                <a:ea typeface="SimSun"/>
              </a:rPr>
              <a:t>-based </a:t>
            </a:r>
            <a:r>
              <a:rPr b="0" lang="en-GB" sz="2000" spc="-1" strike="noStrike">
                <a:solidFill>
                  <a:srgbClr val="333399"/>
                </a:solidFill>
                <a:latin typeface="Book Antiqua"/>
                <a:ea typeface="SimSun"/>
              </a:rPr>
              <a:t>RCN – impurity concentration 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  <a:ea typeface="SimSun"/>
              </a:rPr>
              <a:t>Property integration – linearised operator for property mixing rule</a:t>
            </a:r>
            <a:r>
              <a:rPr b="0" lang="en-US" sz="20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559-EB3B-44CD-A442-2F0443F443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FD6BC-8576-478E-86B5-7A23FF259495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Ex 2.4 – Refinery H</a:t>
            </a:r>
            <a:r>
              <a:rPr b="1" lang="en-GB" sz="4400" spc="-1" strike="noStrike" baseline="-25000">
                <a:solidFill>
                  <a:srgbClr val="cc0000"/>
                </a:solidFill>
                <a:latin typeface="Monotype Corsiva"/>
              </a:rPr>
              <a:t>2</a:t>
            </a: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 network 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435" name=""/>
          <p:cNvSpPr/>
          <p:nvPr/>
        </p:nvSpPr>
        <p:spPr>
          <a:xfrm>
            <a:off x="466560" y="3546360"/>
            <a:ext cx="1248120" cy="669960"/>
          </a:xfrm>
          <a:prstGeom prst="rect">
            <a:avLst/>
          </a:prstGeom>
          <a:solidFill>
            <a:srgbClr val="cce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resh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00560" y="2577960"/>
            <a:ext cx="1320840" cy="5590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Un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00560" y="4726080"/>
            <a:ext cx="1320840" cy="55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Uni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27240" y="3800520"/>
            <a:ext cx="676440" cy="390600"/>
          </a:xfrm>
          <a:custGeom>
            <a:avLst/>
            <a:gdLst>
              <a:gd name="textAreaLeft" fmla="*/ 148680 w 676440"/>
              <a:gd name="textAreaRight" fmla="*/ 527760 w 676440"/>
              <a:gd name="textAreaTop" fmla="*/ 85680 h 390600"/>
              <a:gd name="textAreaBottom" fmla="*/ 30492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4827240" y="1663560"/>
            <a:ext cx="676080" cy="390600"/>
          </a:xfrm>
          <a:custGeom>
            <a:avLst/>
            <a:gdLst>
              <a:gd name="textAreaLeft" fmla="*/ 148680 w 676080"/>
              <a:gd name="textAreaRight" fmla="*/ 527400 w 676080"/>
              <a:gd name="textAreaTop" fmla="*/ 85680 h 390600"/>
              <a:gd name="textAreaBottom" fmla="*/ 30492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37" idx="3"/>
            <a:endCxn id="438" idx="3"/>
          </p:cNvCxnSpPr>
          <p:nvPr/>
        </p:nvCxnSpPr>
        <p:spPr>
          <a:xfrm flipH="1" flipV="1">
            <a:off x="5369760" y="3994920"/>
            <a:ext cx="261000" cy="1010520"/>
          </a:xfrm>
          <a:prstGeom prst="bentConnector3">
            <a:avLst>
              <a:gd name="adj1" fmla="val -841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1" name=""/>
          <p:cNvCxnSpPr>
            <a:stCxn id="436" idx="3"/>
            <a:endCxn id="439" idx="3"/>
          </p:cNvCxnSpPr>
          <p:nvPr/>
        </p:nvCxnSpPr>
        <p:spPr>
          <a:xfrm flipH="1" flipV="1">
            <a:off x="5369760" y="1859040"/>
            <a:ext cx="261000" cy="999000"/>
          </a:xfrm>
          <a:prstGeom prst="bentConnector3">
            <a:avLst>
              <a:gd name="adj1" fmla="val -8411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7547040" y="3465360"/>
            <a:ext cx="882720" cy="669960"/>
          </a:xfrm>
          <a:prstGeom prst="rect">
            <a:avLst/>
          </a:prstGeom>
          <a:solidFill>
            <a:srgbClr val="cce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42" idx="1"/>
            <a:endCxn id="436" idx="3"/>
          </p:cNvCxnSpPr>
          <p:nvPr/>
        </p:nvCxnSpPr>
        <p:spPr>
          <a:xfrm rot="10800000">
            <a:off x="5630040" y="2856960"/>
            <a:ext cx="1907280" cy="9435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4" name=""/>
          <p:cNvCxnSpPr>
            <a:stCxn id="442" idx="1"/>
            <a:endCxn id="437" idx="3"/>
          </p:cNvCxnSpPr>
          <p:nvPr/>
        </p:nvCxnSpPr>
        <p:spPr>
          <a:xfrm flipV="1" rot="10800000">
            <a:off x="5630040" y="3799440"/>
            <a:ext cx="1907280" cy="12056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5" name=""/>
          <p:cNvCxnSpPr>
            <a:stCxn id="435" idx="3"/>
            <a:endCxn id="436" idx="1"/>
          </p:cNvCxnSpPr>
          <p:nvPr/>
        </p:nvCxnSpPr>
        <p:spPr>
          <a:xfrm flipV="1">
            <a:off x="1724040" y="2857320"/>
            <a:ext cx="2567520" cy="10245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35" idx="3"/>
            <a:endCxn id="437" idx="1"/>
          </p:cNvCxnSpPr>
          <p:nvPr/>
        </p:nvCxnSpPr>
        <p:spPr>
          <a:xfrm>
            <a:off x="1724040" y="3881520"/>
            <a:ext cx="2567520" cy="11246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 flipH="1">
            <a:off x="3532320" y="1865160"/>
            <a:ext cx="1440" cy="10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541320" y="3978360"/>
            <a:ext cx="1425960" cy="1036440"/>
            <a:chOff x="3541320" y="3978360"/>
            <a:chExt cx="1425960" cy="1036440"/>
          </a:xfrm>
        </p:grpSpPr>
        <p:sp>
          <p:nvSpPr>
            <p:cNvPr id="449" name=""/>
            <p:cNvSpPr/>
            <p:nvPr/>
          </p:nvSpPr>
          <p:spPr>
            <a:xfrm flipH="1">
              <a:off x="3541320" y="3988800"/>
              <a:ext cx="1080" cy="10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41680" y="3978360"/>
              <a:ext cx="1425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541680" y="186048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542960"/>
            <a:ext cx="1274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310 (9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2040" y="3656160"/>
            <a:ext cx="12733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490 (8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86520" y="2287440"/>
            <a:ext cx="1272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Pu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40 (9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75520" y="4773600"/>
            <a:ext cx="12729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Pu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10 (8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98520" y="2554200"/>
            <a:ext cx="1273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90 (9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27320" y="5041800"/>
            <a:ext cx="12747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110 (9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36640" y="3573360"/>
            <a:ext cx="117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200 (9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DCF-C79F-4296-8FFB-42B55DB3AD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2C9C1-A20C-4AE8-BDDF-5380DF623638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Ex 2.4 – Refinery H</a:t>
            </a:r>
            <a:r>
              <a:rPr b="1" lang="en-GB" sz="4400" spc="-1" strike="noStrike" baseline="-25000">
                <a:solidFill>
                  <a:srgbClr val="cc0000"/>
                </a:solidFill>
                <a:latin typeface="Monotype Corsiva"/>
              </a:rPr>
              <a:t>2</a:t>
            </a: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 network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97000" y="1655640"/>
          <a:ext cx="8586720" cy="3791160"/>
        </p:xfrm>
        <a:graphic>
          <a:graphicData uri="http://schemas.openxmlformats.org/drawingml/2006/table">
            <a:tbl>
              <a:tblPr/>
              <a:tblGrid>
                <a:gridCol w="2643120"/>
                <a:gridCol w="1382760"/>
                <a:gridCol w="1076040"/>
                <a:gridCol w="947880"/>
                <a:gridCol w="1203480"/>
                <a:gridCol w="1333440"/>
              </a:tblGrid>
              <a:tr h="103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Make-up stre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Recycle stre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Purge stre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Hydrogen s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Hydroge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Uni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Flowrate (MMscf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Concentratio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7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Uni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Flowrate (MMscf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Concentratio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2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172-264C-40E3-9991-6DFB0FA319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0021B-DFF0-4EA8-839A-E51BFC0D380E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2840" y="2575080"/>
            <a:ext cx="8032680" cy="20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Monotype Corsiva"/>
                <a:ea typeface="SimSun"/>
              </a:rPr>
              <a:t>Data extraction for property integration</a:t>
            </a:r>
            <a:r>
              <a:rPr b="1" lang="en-US" sz="6000" spc="-1" strike="noStrike">
                <a:solidFill>
                  <a:srgbClr val="ff0000"/>
                </a:solidFill>
                <a:latin typeface="Monotype Corsiva"/>
                <a:ea typeface="SimSun"/>
              </a:rPr>
              <a:t> </a:t>
            </a:r>
            <a:endParaRPr b="1" lang="en-US" sz="60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435480" y="4689000"/>
            <a:ext cx="522576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  <a:ea typeface="SimSun"/>
              </a:rPr>
              <a:t>Property integration</a:t>
            </a:r>
            <a:r>
              <a:rPr b="1" lang="en-US" sz="4400" spc="-1" strike="noStrike">
                <a:solidFill>
                  <a:srgbClr val="cc0000"/>
                </a:solidFill>
                <a:latin typeface="Monotype Corsiva"/>
                <a:ea typeface="SimSun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97000" y="3342960"/>
            <a:ext cx="858672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Density of the mixture (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ρ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M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) is given by: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or the generic form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 generic form of the </a:t>
            </a:r>
            <a:r>
              <a:rPr b="1" lang="en-GB" sz="2400" spc="-1" strike="noStrike">
                <a:solidFill>
                  <a:srgbClr val="ff0000"/>
                </a:solidFill>
                <a:latin typeface="Book Antiqua"/>
              </a:rPr>
              <a:t>linearised mixing rule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is given as: 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M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(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P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M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) =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i x</a:t>
            </a:r>
            <a:r>
              <a:rPr b="0" i="1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i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0" i="1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i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(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P</a:t>
            </a:r>
            <a:r>
              <a:rPr b="0" i="1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i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834920" y="955440"/>
            <a:ext cx="5727960" cy="2250720"/>
            <a:chOff x="1834920" y="955440"/>
            <a:chExt cx="5727960" cy="2250720"/>
          </a:xfrm>
        </p:grpSpPr>
        <p:sp>
          <p:nvSpPr>
            <p:cNvPr id="466" name=""/>
            <p:cNvSpPr/>
            <p:nvPr/>
          </p:nvSpPr>
          <p:spPr>
            <a:xfrm>
              <a:off x="3859200" y="1762560"/>
              <a:ext cx="1548360" cy="6444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ixing o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"/>
            <p:cNvCxnSpPr>
              <a:stCxn id="466" idx="2"/>
              <a:endCxn id="468" idx="3"/>
            </p:cNvCxnSpPr>
            <p:nvPr/>
          </p:nvCxnSpPr>
          <p:spPr>
            <a:xfrm rot="5400000">
              <a:off x="3598920" y="1928520"/>
              <a:ext cx="543240" cy="152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69" name=""/>
            <p:cNvSpPr/>
            <p:nvPr/>
          </p:nvSpPr>
          <p:spPr>
            <a:xfrm>
              <a:off x="6246000" y="1841400"/>
              <a:ext cx="1316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ixtu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M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M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34920" y="955440"/>
              <a:ext cx="12733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olution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34920" y="2718360"/>
              <a:ext cx="1273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olution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"/>
            <p:cNvCxnSpPr>
              <a:stCxn id="466" idx="0"/>
              <a:endCxn id="470" idx="3"/>
            </p:cNvCxnSpPr>
            <p:nvPr/>
          </p:nvCxnSpPr>
          <p:spPr>
            <a:xfrm flipV="1" rot="16200000">
              <a:off x="3596040" y="712440"/>
              <a:ext cx="549000" cy="152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72" name=""/>
            <p:cNvCxnSpPr>
              <a:stCxn id="466" idx="3"/>
              <a:endCxn id="469" idx="1"/>
            </p:cNvCxnSpPr>
            <p:nvPr/>
          </p:nvCxnSpPr>
          <p:spPr>
            <a:xfrm>
              <a:off x="5421960" y="2085120"/>
              <a:ext cx="8244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462480" y="3727440"/>
                <a:ext cx="1861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919680" y="4446720"/>
                <a:ext cx="1101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A84-D71C-4173-AA01-2CEAF738E0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2B097-77BB-4E34-B5D7-909197B56439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  <a:ea typeface="SimSun"/>
              </a:rPr>
              <a:t>Property integra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Example: Mixing of liquid of different density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1 kg liquid A of 1000 kg/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3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(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ρ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Book Antiqua"/>
              </a:rPr>
              <a:t>A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1 kg liquid B of </a:t>
            </a:r>
            <a:r>
              <a:rPr b="0" lang="en-GB" sz="2400" spc="-1" strike="noStrike">
                <a:solidFill>
                  <a:srgbClr val="008000"/>
                </a:solidFill>
                <a:latin typeface="Book Antiqua"/>
              </a:rPr>
              <a:t>1500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kg/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3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(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ρ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Book Antiqua"/>
              </a:rPr>
              <a:t>B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Mixture density (</a:t>
            </a:r>
            <a:r>
              <a:rPr b="0" i="1" lang="el-GR" sz="2800" spc="-1" strike="noStrike">
                <a:solidFill>
                  <a:srgbClr val="333399"/>
                </a:solidFill>
                <a:latin typeface="Book Antiqua"/>
              </a:rPr>
              <a:t>ρ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Book Antiqua"/>
              </a:rPr>
              <a:t>M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) = 1/1000 + 1/1500 = 2/</a:t>
            </a:r>
            <a:r>
              <a:rPr b="0" i="1" lang="el-GR" sz="2800" spc="-1" strike="noStrike">
                <a:solidFill>
                  <a:srgbClr val="333399"/>
                </a:solidFill>
                <a:latin typeface="Book Antiqua"/>
              </a:rPr>
              <a:t>ρ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Book Antiqua"/>
              </a:rPr>
              <a:t>M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i="1" lang="el-GR" sz="2800" spc="-1" strike="noStrike">
                <a:solidFill>
                  <a:srgbClr val="ff0000"/>
                </a:solidFill>
                <a:latin typeface="Book Antiqua"/>
              </a:rPr>
              <a:t>ρ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Book Antiqua"/>
              </a:rPr>
              <a:t>M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 = 1200 kg/m</a:t>
            </a:r>
            <a:r>
              <a:rPr b="1" lang="en-GB" sz="2800" spc="-1" strike="noStrike" baseline="30000">
                <a:solidFill>
                  <a:srgbClr val="ff0000"/>
                </a:solidFill>
                <a:latin typeface="Book Antiqua"/>
              </a:rPr>
              <a:t>3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If we work on the operator of density: 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Liquid A: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A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= 1/1000 = 0.001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Liquid B: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Book Antiqua"/>
                <a:ea typeface="SimSun"/>
              </a:rPr>
              <a:t>B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= 1/1500 = 0.0067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ensity operator of mixture, </a:t>
            </a:r>
            <a:r>
              <a:rPr b="1" i="1" lang="el-GR" sz="2400" spc="-1" strike="noStrike">
                <a:solidFill>
                  <a:srgbClr val="ff0000"/>
                </a:solidFill>
                <a:latin typeface="Book Antiqua"/>
              </a:rPr>
              <a:t>ψ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Book Antiqua"/>
                <a:ea typeface="SimSun"/>
              </a:rPr>
              <a:t>M</a:t>
            </a:r>
            <a:r>
              <a:rPr b="1" lang="en-GB" sz="2400" spc="-1" strike="noStrike">
                <a:solidFill>
                  <a:srgbClr val="ff0000"/>
                </a:solidFill>
                <a:latin typeface="Book Antiqua"/>
                <a:ea typeface="SimSun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Book Antiqua"/>
                <a:ea typeface="SimSun"/>
              </a:rPr>
              <a:t>P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Book Antiqua"/>
                <a:ea typeface="SimSun"/>
              </a:rPr>
              <a:t>M</a:t>
            </a:r>
            <a:r>
              <a:rPr b="1" lang="en-GB" sz="2400" spc="-1" strike="noStrike">
                <a:solidFill>
                  <a:srgbClr val="ff0000"/>
                </a:solidFill>
                <a:latin typeface="Book Antiqua"/>
                <a:ea typeface="SimSun"/>
              </a:rPr>
              <a:t>) =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i="1" lang="en-GB" sz="2400" spc="-1" strike="noStrike" baseline="-25000">
                <a:solidFill>
                  <a:srgbClr val="ff0000"/>
                </a:solidFill>
                <a:latin typeface="Book Antiqua"/>
                <a:ea typeface="SimSun"/>
              </a:rPr>
              <a:t>i</a:t>
            </a:r>
            <a:r>
              <a:rPr b="1" i="1" lang="en-GB" sz="2400" spc="-1" strike="noStrike">
                <a:solidFill>
                  <a:srgbClr val="ff0000"/>
                </a:solidFill>
                <a:latin typeface="Book Antiqua"/>
                <a:ea typeface="SimSun"/>
              </a:rPr>
              <a:t> x</a:t>
            </a:r>
            <a:r>
              <a:rPr b="1" i="1" lang="en-GB" sz="2400" spc="-1" strike="noStrike" baseline="-25000">
                <a:solidFill>
                  <a:srgbClr val="ff0000"/>
                </a:solidFill>
                <a:latin typeface="Book Antiqua"/>
                <a:ea typeface="SimSun"/>
              </a:rPr>
              <a:t>i</a:t>
            </a:r>
            <a:r>
              <a:rPr b="1" i="1" lang="el-GR" sz="2400" spc="-1" strike="noStrike">
                <a:solidFill>
                  <a:srgbClr val="ff0000"/>
                </a:solidFill>
                <a:latin typeface="Book Antiqua"/>
              </a:rPr>
              <a:t>ψ</a:t>
            </a:r>
            <a:r>
              <a:rPr b="1" i="1" lang="en-GB" sz="2400" spc="-1" strike="noStrike" baseline="-25000">
                <a:solidFill>
                  <a:srgbClr val="ff0000"/>
                </a:solidFill>
                <a:latin typeface="Book Antiqua"/>
                <a:ea typeface="SimSu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Book Antiqua"/>
                <a:ea typeface="SimSun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Book Antiqua"/>
                <a:ea typeface="SimSun"/>
              </a:rPr>
              <a:t>P</a:t>
            </a:r>
            <a:r>
              <a:rPr b="1" i="1" lang="en-GB" sz="2400" spc="-1" strike="noStrike" baseline="-25000">
                <a:solidFill>
                  <a:srgbClr val="ff0000"/>
                </a:solidFill>
                <a:latin typeface="Book Antiqua"/>
                <a:ea typeface="SimSu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Book Antiqua"/>
                <a:ea typeface="SimSun"/>
              </a:rPr>
              <a:t>)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676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Book Antiqua"/>
              </a:rPr>
              <a:t>M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= 0.5(0.001) + 0.5(0.0067) = 0.000833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i="1" lang="el-GR" sz="2800" spc="-1" strike="noStrike">
                <a:solidFill>
                  <a:srgbClr val="ff0000"/>
                </a:solidFill>
                <a:latin typeface="Book Antiqua"/>
              </a:rPr>
              <a:t>ρ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Book Antiqua"/>
              </a:rPr>
              <a:t>M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 = 1200 kg/m</a:t>
            </a:r>
            <a:r>
              <a:rPr b="1" lang="en-GB" sz="2800" spc="-1" strike="noStrike" baseline="30000">
                <a:solidFill>
                  <a:srgbClr val="ff0000"/>
                </a:solidFill>
                <a:latin typeface="Book Antiqua"/>
              </a:rPr>
              <a:t>3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857-51C8-4EFD-AA04-08D08F6ED6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AE183-A086-48FD-8556-8FA56BB5F49D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720960" y="1336680"/>
            <a:ext cx="201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91960" y="1336680"/>
          <a:ext cx="8534520" cy="4676400"/>
        </p:xfrm>
        <a:graphic>
          <a:graphicData uri="http://schemas.openxmlformats.org/drawingml/2006/table">
            <a:tbl>
              <a:tblPr/>
              <a:tblGrid>
                <a:gridCol w="2667240"/>
                <a:gridCol w="1904760"/>
                <a:gridCol w="1905120"/>
                <a:gridCol w="205740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roperty of mix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ixing r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nsity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helley and El-Halwagi (2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id Vapor Pressure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helley and El-Halwagi (2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aterial content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helle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and</a:t>
                      </a: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El-Halwagi (2000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l-Halwagi </a:t>
                      </a:r>
                      <a:r>
                        <a:rPr b="0" i="1" lang="nb-NO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t al. </a:t>
                      </a: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lectric resistivity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Kazantzi and </a:t>
                      </a: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l-Halwagi (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Viscosity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Qin </a:t>
                      </a:r>
                      <a:r>
                        <a:rPr b="0" i="1" lang="nb-NO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t al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(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aper reflectivity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l-Halwagi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t al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492360" y="1793880"/>
                <a:ext cx="838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111480" y="2479680"/>
                <a:ext cx="1676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RVP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416400" y="3470400"/>
                <a:ext cx="11430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416400" y="4156200"/>
                <a:ext cx="990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035160" y="4842000"/>
                <a:ext cx="17528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187800" y="5527800"/>
                <a:ext cx="14475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∞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397480" y="1717560"/>
                <a:ext cx="914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168880" y="2556000"/>
                <a:ext cx="144792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V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5321160" y="3470400"/>
                <a:ext cx="99072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5245200" y="4232160"/>
                <a:ext cx="9144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016600" y="4917960"/>
                <a:ext cx="13716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5016600" y="5527800"/>
                <a:ext cx="16002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∞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∞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-1260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206360" y="1946160"/>
                <a:ext cx="244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-1260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349360" y="2479680"/>
                <a:ext cx="5335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RVP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-1260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044800" y="3417840"/>
                <a:ext cx="30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-1260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152800" y="4308480"/>
                <a:ext cx="258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-1260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359000" y="4971960"/>
                <a:ext cx="3045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-12600" y="31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043000" y="5518080"/>
                <a:ext cx="365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Reported linearised mixing rule 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29A-2429-4AFE-B5BB-2DEF37FEEF5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5C3F6-7251-4161-9264-99401AAF9D34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Heuristic 4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Choose the property operator of the sink that is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furthest from that of the fresh resource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17F-D1BB-4AE8-AD6F-CAD9BFAA48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5FDA5-3904-4783-A49C-52AE512E8067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Ex 2.5 – Metal degreasing 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509" name="Text Box 111"/>
          <p:cNvSpPr/>
          <p:nvPr/>
        </p:nvSpPr>
        <p:spPr>
          <a:xfrm>
            <a:off x="5524560" y="5970600"/>
            <a:ext cx="34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 Antiqua"/>
              </a:rPr>
              <a:t>(Shelley &amp; El-Halwagi</a:t>
            </a:r>
            <a:r>
              <a:rPr b="0" lang="en-GB" sz="2000" spc="-1" strike="noStrike">
                <a:solidFill>
                  <a:srgbClr val="333399"/>
                </a:solidFill>
                <a:latin typeface="Book Antiqua"/>
                <a:ea typeface="Times New Roman"/>
              </a:rPr>
              <a:t>,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2"/>
          <p:cNvSpPr/>
          <p:nvPr/>
        </p:nvSpPr>
        <p:spPr>
          <a:xfrm>
            <a:off x="209520" y="5492880"/>
            <a:ext cx="3792600" cy="969840"/>
          </a:xfrm>
          <a:prstGeom prst="cloudCallout">
            <a:avLst>
              <a:gd name="adj1" fmla="val 57620"/>
              <a:gd name="adj2" fmla="val -2724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Is this the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solvent sink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11200" y="1009800"/>
            <a:ext cx="8151840" cy="4970160"/>
            <a:chOff x="511200" y="1009800"/>
            <a:chExt cx="8151840" cy="4970160"/>
          </a:xfrm>
        </p:grpSpPr>
        <p:sp>
          <p:nvSpPr>
            <p:cNvPr id="512" name=""/>
            <p:cNvSpPr txBox="1"/>
            <p:nvPr/>
          </p:nvSpPr>
          <p:spPr>
            <a:xfrm>
              <a:off x="511200" y="1009800"/>
              <a:ext cx="8151840" cy="49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40920" y="3951720"/>
              <a:ext cx="2141280" cy="71028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hermal processing, solvent regeneration and makeup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5400" y="4114440"/>
              <a:ext cx="1245960" cy="497160"/>
            </a:xfrm>
            <a:prstGeom prst="rect">
              <a:avLst/>
            </a:prstGeom>
            <a:solidFill>
              <a:srgbClr val="ffffcc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greasing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86160" y="4122000"/>
              <a:ext cx="930600" cy="49788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35480" y="4149720"/>
              <a:ext cx="8132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etal finis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30880" y="1517400"/>
              <a:ext cx="549360" cy="1026000"/>
            </a:xfrm>
            <a:prstGeom prst="rect">
              <a:avLst/>
            </a:prstGeom>
            <a:solidFill>
              <a:srgbClr val="ffffcc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44680" y="3112200"/>
              <a:ext cx="457920" cy="432360"/>
            </a:xfrm>
            <a:prstGeom prst="ellipse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044680" y="3358800"/>
              <a:ext cx="272160" cy="3769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172840" y="3359160"/>
              <a:ext cx="143640" cy="7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173200" y="2989440"/>
              <a:ext cx="328320" cy="369000"/>
              <a:chOff x="5173200" y="2989440"/>
              <a:chExt cx="328320" cy="36900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173200" y="3039120"/>
                <a:ext cx="284760" cy="3193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4840" y="2989440"/>
                <a:ext cx="76680" cy="74520"/>
              </a:xfrm>
              <a:custGeom>
                <a:avLst/>
                <a:gdLst/>
                <a:ahLst/>
                <a:rect l="l" t="t" r="r" b="b"/>
                <a:pathLst>
                  <a:path w="100" h="109">
                    <a:moveTo>
                      <a:pt x="79" y="109"/>
                    </a:moveTo>
                    <a:lnTo>
                      <a:pt x="100" y="0"/>
                    </a:lnTo>
                    <a:lnTo>
                      <a:pt x="0" y="47"/>
                    </a:lnTo>
                    <a:lnTo>
                      <a:pt x="7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5044680" y="3112200"/>
              <a:ext cx="457920" cy="432360"/>
            </a:xfrm>
            <a:prstGeom prst="ellipse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044680" y="3358800"/>
              <a:ext cx="272160" cy="3769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172840" y="3359160"/>
              <a:ext cx="143640" cy="7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173200" y="2989440"/>
              <a:ext cx="328320" cy="369000"/>
              <a:chOff x="5173200" y="2989440"/>
              <a:chExt cx="328320" cy="369000"/>
            </a:xfrm>
          </p:grpSpPr>
          <p:sp>
            <p:nvSpPr>
              <p:cNvPr id="528" name=""/>
              <p:cNvSpPr/>
              <p:nvPr/>
            </p:nvSpPr>
            <p:spPr>
              <a:xfrm flipV="1">
                <a:off x="5173200" y="3039120"/>
                <a:ext cx="284760" cy="3193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840" y="2989440"/>
                <a:ext cx="76680" cy="74520"/>
              </a:xfrm>
              <a:custGeom>
                <a:avLst/>
                <a:gdLst/>
                <a:ahLst/>
                <a:rect l="l" t="t" r="r" b="b"/>
                <a:pathLst>
                  <a:path w="100" h="109">
                    <a:moveTo>
                      <a:pt x="79" y="109"/>
                    </a:moveTo>
                    <a:lnTo>
                      <a:pt x="100" y="0"/>
                    </a:lnTo>
                    <a:lnTo>
                      <a:pt x="0" y="47"/>
                    </a:lnTo>
                    <a:lnTo>
                      <a:pt x="7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4813200" y="4617360"/>
              <a:ext cx="75960" cy="655920"/>
              <a:chOff x="4813200" y="4617360"/>
              <a:chExt cx="75960" cy="655920"/>
            </a:xfrm>
          </p:grpSpPr>
          <p:sp>
            <p:nvSpPr>
              <p:cNvPr id="531" name=""/>
              <p:cNvSpPr/>
              <p:nvPr/>
            </p:nvSpPr>
            <p:spPr>
              <a:xfrm flipV="1">
                <a:off x="4850640" y="4673160"/>
                <a:ext cx="360" cy="6001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13200" y="4617360"/>
                <a:ext cx="75960" cy="5904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100"/>
                    </a:moveTo>
                    <a:lnTo>
                      <a:pt x="50" y="0"/>
                    </a:lnTo>
                    <a:lnTo>
                      <a:pt x="0" y="100"/>
                    </a:lnTo>
                    <a:lnTo>
                      <a:pt x="9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4813200" y="5264280"/>
              <a:ext cx="75960" cy="343440"/>
              <a:chOff x="4813200" y="5264280"/>
              <a:chExt cx="75960" cy="343440"/>
            </a:xfrm>
          </p:grpSpPr>
          <p:sp>
            <p:nvSpPr>
              <p:cNvPr id="534" name=""/>
              <p:cNvSpPr/>
              <p:nvPr/>
            </p:nvSpPr>
            <p:spPr>
              <a:xfrm flipV="1">
                <a:off x="4850640" y="5321160"/>
                <a:ext cx="360" cy="2865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813200" y="526428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100"/>
                    </a:moveTo>
                    <a:lnTo>
                      <a:pt x="50" y="0"/>
                    </a:lnTo>
                    <a:lnTo>
                      <a:pt x="0" y="100"/>
                    </a:lnTo>
                    <a:lnTo>
                      <a:pt x="9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 flipH="1">
              <a:off x="933120" y="5277600"/>
              <a:ext cx="3918240" cy="7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933120" y="1773720"/>
              <a:ext cx="1697400" cy="66600"/>
              <a:chOff x="933120" y="1773720"/>
              <a:chExt cx="1697400" cy="66600"/>
            </a:xfrm>
          </p:grpSpPr>
          <p:sp>
            <p:nvSpPr>
              <p:cNvPr id="538" name=""/>
              <p:cNvSpPr/>
              <p:nvPr/>
            </p:nvSpPr>
            <p:spPr>
              <a:xfrm>
                <a:off x="933120" y="1806480"/>
                <a:ext cx="1623960" cy="7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54920" y="1773720"/>
                <a:ext cx="75600" cy="6660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0" y="99"/>
                    </a:moveTo>
                    <a:lnTo>
                      <a:pt x="98" y="50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2883240" y="1266840"/>
              <a:ext cx="75240" cy="239400"/>
              <a:chOff x="2883240" y="1266840"/>
              <a:chExt cx="75240" cy="239400"/>
            </a:xfrm>
          </p:grpSpPr>
          <p:sp>
            <p:nvSpPr>
              <p:cNvPr id="541" name=""/>
              <p:cNvSpPr/>
              <p:nvPr/>
            </p:nvSpPr>
            <p:spPr>
              <a:xfrm flipV="1">
                <a:off x="2920320" y="1315440"/>
                <a:ext cx="720" cy="19080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83240" y="1266840"/>
                <a:ext cx="75240" cy="514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99" y="99"/>
                    </a:moveTo>
                    <a:lnTo>
                      <a:pt x="49" y="0"/>
                    </a:lnTo>
                    <a:lnTo>
                      <a:pt x="0" y="99"/>
                    </a:lnTo>
                    <a:lnTo>
                      <a:pt x="9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191760" y="2301480"/>
              <a:ext cx="594000" cy="66600"/>
              <a:chOff x="3191760" y="2301480"/>
              <a:chExt cx="594000" cy="66600"/>
            </a:xfrm>
          </p:grpSpPr>
          <p:sp>
            <p:nvSpPr>
              <p:cNvPr id="544" name=""/>
              <p:cNvSpPr/>
              <p:nvPr/>
            </p:nvSpPr>
            <p:spPr>
              <a:xfrm>
                <a:off x="3191760" y="2334240"/>
                <a:ext cx="52020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709800" y="230148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99"/>
                    </a:moveTo>
                    <a:lnTo>
                      <a:pt x="99" y="50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231520" y="3533400"/>
              <a:ext cx="77040" cy="574920"/>
              <a:chOff x="5231520" y="3533400"/>
              <a:chExt cx="77040" cy="57492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5269680" y="3598200"/>
                <a:ext cx="360" cy="5101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31520" y="3533400"/>
                <a:ext cx="77040" cy="6840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100"/>
                    </a:moveTo>
                    <a:lnTo>
                      <a:pt x="50" y="0"/>
                    </a:lnTo>
                    <a:lnTo>
                      <a:pt x="0" y="100"/>
                    </a:lnTo>
                    <a:lnTo>
                      <a:pt x="9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181760" y="3723840"/>
              <a:ext cx="74880" cy="385560"/>
              <a:chOff x="4181760" y="3723840"/>
              <a:chExt cx="74880" cy="385560"/>
            </a:xfrm>
          </p:grpSpPr>
          <p:sp>
            <p:nvSpPr>
              <p:cNvPr id="550" name=""/>
              <p:cNvSpPr/>
              <p:nvPr/>
            </p:nvSpPr>
            <p:spPr>
              <a:xfrm>
                <a:off x="4218840" y="3723840"/>
                <a:ext cx="360" cy="3189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81760" y="4041000"/>
                <a:ext cx="74880" cy="6840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49" y="10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2933640" y="4654800"/>
              <a:ext cx="0" cy="2120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33640" y="4867200"/>
              <a:ext cx="1284120" cy="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181760" y="4611960"/>
              <a:ext cx="89280" cy="241920"/>
              <a:chOff x="4181760" y="4611960"/>
              <a:chExt cx="89280" cy="241920"/>
            </a:xfrm>
          </p:grpSpPr>
          <p:sp>
            <p:nvSpPr>
              <p:cNvPr id="555" name=""/>
              <p:cNvSpPr/>
              <p:nvPr/>
            </p:nvSpPr>
            <p:spPr>
              <a:xfrm flipV="1">
                <a:off x="4226040" y="4649760"/>
                <a:ext cx="720" cy="2041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81760" y="4611960"/>
                <a:ext cx="89280" cy="3996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99" y="99"/>
                    </a:moveTo>
                    <a:lnTo>
                      <a:pt x="49" y="0"/>
                    </a:lnTo>
                    <a:lnTo>
                      <a:pt x="0" y="99"/>
                    </a:lnTo>
                    <a:lnTo>
                      <a:pt x="9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231520" y="2852280"/>
              <a:ext cx="77040" cy="259920"/>
              <a:chOff x="5231520" y="2852280"/>
              <a:chExt cx="77040" cy="259920"/>
            </a:xfrm>
          </p:grpSpPr>
          <p:sp>
            <p:nvSpPr>
              <p:cNvPr id="558" name=""/>
              <p:cNvSpPr/>
              <p:nvPr/>
            </p:nvSpPr>
            <p:spPr>
              <a:xfrm flipV="1">
                <a:off x="5269680" y="2917080"/>
                <a:ext cx="360" cy="1951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31520" y="285228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99" y="99"/>
                    </a:moveTo>
                    <a:lnTo>
                      <a:pt x="50" y="0"/>
                    </a:lnTo>
                    <a:lnTo>
                      <a:pt x="0" y="99"/>
                    </a:lnTo>
                    <a:lnTo>
                      <a:pt x="9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502240" y="3292200"/>
              <a:ext cx="613080" cy="67320"/>
              <a:chOff x="5502240" y="3292200"/>
              <a:chExt cx="613080" cy="67320"/>
            </a:xfrm>
          </p:grpSpPr>
          <p:sp>
            <p:nvSpPr>
              <p:cNvPr id="561" name=""/>
              <p:cNvSpPr/>
              <p:nvPr/>
            </p:nvSpPr>
            <p:spPr>
              <a:xfrm>
                <a:off x="5502240" y="3325320"/>
                <a:ext cx="54000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39720" y="3292200"/>
                <a:ext cx="75600" cy="6732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0" y="99"/>
                    </a:moveTo>
                    <a:lnTo>
                      <a:pt x="98" y="49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7014960" y="4313520"/>
              <a:ext cx="554040" cy="67680"/>
              <a:chOff x="7014960" y="4313520"/>
              <a:chExt cx="554040" cy="67680"/>
            </a:xfrm>
          </p:grpSpPr>
          <p:sp>
            <p:nvSpPr>
              <p:cNvPr id="564" name=""/>
              <p:cNvSpPr/>
              <p:nvPr/>
            </p:nvSpPr>
            <p:spPr>
              <a:xfrm>
                <a:off x="7014960" y="4346640"/>
                <a:ext cx="48024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93040" y="4313520"/>
                <a:ext cx="75960" cy="67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100"/>
                    </a:moveTo>
                    <a:lnTo>
                      <a:pt x="99" y="49"/>
                    </a:ln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2586960" y="1059840"/>
              <a:ext cx="697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o fl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4680" y="2512800"/>
              <a:ext cx="464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42080" y="2617560"/>
              <a:ext cx="7113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To fl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54160" y="3378960"/>
              <a:ext cx="750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92960" y="3272400"/>
              <a:ext cx="8877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ganic addi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71200" y="5238720"/>
              <a:ext cx="759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98880" y="4147920"/>
              <a:ext cx="865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greased me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26320" y="1860120"/>
              <a:ext cx="1058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39640" y="1856520"/>
              <a:ext cx="139824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bsorber bottoms (to boiler fue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51360" y="4701240"/>
              <a:ext cx="759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21920" y="4708080"/>
              <a:ext cx="6361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.0 kg/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17440" y="5316840"/>
              <a:ext cx="6372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.0 kg/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3786480" y="4194360"/>
              <a:ext cx="358920" cy="68400"/>
              <a:chOff x="3786480" y="4194360"/>
              <a:chExt cx="358920" cy="6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3786480" y="4227840"/>
                <a:ext cx="285120" cy="7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69440" y="4194360"/>
                <a:ext cx="75960" cy="68400"/>
              </a:xfrm>
              <a:custGeom>
                <a:avLst/>
                <a:gdLst/>
                <a:ahLst/>
                <a:rect l="l" t="t" r="r" b="b"/>
                <a:pathLst>
                  <a:path w="98" h="100">
                    <a:moveTo>
                      <a:pt x="0" y="100"/>
                    </a:moveTo>
                    <a:lnTo>
                      <a:pt x="98" y="49"/>
                    </a:ln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3555720" y="3976200"/>
              <a:ext cx="5540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85240" y="4003200"/>
              <a:ext cx="4820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Me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05920" y="4672800"/>
              <a:ext cx="16736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29600" y="4892040"/>
              <a:ext cx="188712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egenerated solv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94400" y="3600000"/>
              <a:ext cx="5695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5560" y="3579120"/>
              <a:ext cx="5752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ffg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98560" y="2952000"/>
              <a:ext cx="457920" cy="431640"/>
            </a:xfrm>
            <a:prstGeom prst="ellipse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2698560" y="3198960"/>
              <a:ext cx="272160" cy="3744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826720" y="3198960"/>
              <a:ext cx="143640" cy="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2827080" y="2829240"/>
              <a:ext cx="329400" cy="369000"/>
              <a:chOff x="2827080" y="2829240"/>
              <a:chExt cx="329400" cy="36900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27080" y="2878200"/>
                <a:ext cx="285120" cy="32004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79440" y="2829240"/>
                <a:ext cx="77040" cy="74520"/>
              </a:xfrm>
              <a:custGeom>
                <a:avLst/>
                <a:gdLst/>
                <a:ahLst/>
                <a:rect l="l" t="t" r="r" b="b"/>
                <a:pathLst>
                  <a:path w="100" h="109">
                    <a:moveTo>
                      <a:pt x="79" y="109"/>
                    </a:moveTo>
                    <a:lnTo>
                      <a:pt x="100" y="0"/>
                    </a:lnTo>
                    <a:lnTo>
                      <a:pt x="0" y="47"/>
                    </a:lnTo>
                    <a:lnTo>
                      <a:pt x="7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2698560" y="2952000"/>
              <a:ext cx="457920" cy="431640"/>
            </a:xfrm>
            <a:prstGeom prst="ellipse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2698560" y="3198960"/>
              <a:ext cx="272160" cy="3744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826720" y="3198960"/>
              <a:ext cx="143640" cy="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2827080" y="2829240"/>
              <a:ext cx="329400" cy="369000"/>
              <a:chOff x="2827080" y="2829240"/>
              <a:chExt cx="329400" cy="36900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2827080" y="2878200"/>
                <a:ext cx="285120" cy="32004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79440" y="2829240"/>
                <a:ext cx="77040" cy="74520"/>
              </a:xfrm>
              <a:custGeom>
                <a:avLst/>
                <a:gdLst/>
                <a:ahLst/>
                <a:rect l="l" t="t" r="r" b="b"/>
                <a:pathLst>
                  <a:path w="100" h="109">
                    <a:moveTo>
                      <a:pt x="79" y="109"/>
                    </a:moveTo>
                    <a:lnTo>
                      <a:pt x="100" y="0"/>
                    </a:lnTo>
                    <a:lnTo>
                      <a:pt x="0" y="47"/>
                    </a:lnTo>
                    <a:lnTo>
                      <a:pt x="7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84320" y="3373200"/>
              <a:ext cx="77760" cy="574560"/>
              <a:chOff x="2884320" y="3373200"/>
              <a:chExt cx="77760" cy="574560"/>
            </a:xfrm>
          </p:grpSpPr>
          <p:sp>
            <p:nvSpPr>
              <p:cNvPr id="600" name=""/>
              <p:cNvSpPr/>
              <p:nvPr/>
            </p:nvSpPr>
            <p:spPr>
              <a:xfrm flipV="1">
                <a:off x="2922480" y="3437640"/>
                <a:ext cx="360" cy="5101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884320" y="337320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99"/>
                    </a:moveTo>
                    <a:lnTo>
                      <a:pt x="51" y="0"/>
                    </a:lnTo>
                    <a:lnTo>
                      <a:pt x="0" y="99"/>
                    </a:lnTo>
                    <a:lnTo>
                      <a:pt x="10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170880" y="3144600"/>
              <a:ext cx="610920" cy="67320"/>
              <a:chOff x="3170880" y="3144600"/>
              <a:chExt cx="610920" cy="67320"/>
            </a:xfrm>
          </p:grpSpPr>
          <p:sp>
            <p:nvSpPr>
              <p:cNvPr id="603" name=""/>
              <p:cNvSpPr/>
              <p:nvPr/>
            </p:nvSpPr>
            <p:spPr>
              <a:xfrm>
                <a:off x="3170880" y="3177720"/>
                <a:ext cx="538200" cy="7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06560" y="3144600"/>
                <a:ext cx="75240" cy="6732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0" y="99"/>
                    </a:moveTo>
                    <a:lnTo>
                      <a:pt x="98" y="49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3207960" y="2456640"/>
              <a:ext cx="156132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Condensate 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(to waste dispos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4.0 kg/s, 6 at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884320" y="2543400"/>
              <a:ext cx="77760" cy="408600"/>
              <a:chOff x="2884320" y="2543400"/>
              <a:chExt cx="77760" cy="408600"/>
            </a:xfrm>
          </p:grpSpPr>
          <p:sp>
            <p:nvSpPr>
              <p:cNvPr id="607" name=""/>
              <p:cNvSpPr/>
              <p:nvPr/>
            </p:nvSpPr>
            <p:spPr>
              <a:xfrm flipV="1">
                <a:off x="2922480" y="2607840"/>
                <a:ext cx="360" cy="3441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884320" y="2543400"/>
                <a:ext cx="77760" cy="6768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100" y="99"/>
                    </a:moveTo>
                    <a:lnTo>
                      <a:pt x="51" y="0"/>
                    </a:lnTo>
                    <a:lnTo>
                      <a:pt x="0" y="99"/>
                    </a:lnTo>
                    <a:lnTo>
                      <a:pt x="10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2626200" y="1556280"/>
              <a:ext cx="52560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bsorption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06040" y="3020760"/>
              <a:ext cx="151668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Condensate I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(to waste dispos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3.0 kg/s, 2.5 at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1" name=""/>
            <p:cNvCxnSpPr>
              <a:stCxn id="538" idx="0"/>
              <a:endCxn id="536" idx="0"/>
            </p:cNvCxnSpPr>
            <p:nvPr/>
          </p:nvCxnSpPr>
          <p:spPr>
            <a:xfrm>
              <a:off x="933120" y="1806480"/>
              <a:ext cx="1440" cy="34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3378600" y="4505760"/>
              <a:ext cx="753120" cy="66600"/>
              <a:chOff x="3378600" y="4505760"/>
              <a:chExt cx="753120" cy="6660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472200" y="4539240"/>
                <a:ext cx="65952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0800000">
                <a:off x="3378600" y="4505760"/>
                <a:ext cx="96480" cy="6660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99"/>
                    </a:moveTo>
                    <a:lnTo>
                      <a:pt x="99" y="50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5410440" y="4339080"/>
              <a:ext cx="685800" cy="56160"/>
              <a:chOff x="5410440" y="4339080"/>
              <a:chExt cx="685800" cy="56160"/>
            </a:xfrm>
          </p:grpSpPr>
          <p:sp>
            <p:nvSpPr>
              <p:cNvPr id="616" name=""/>
              <p:cNvSpPr/>
              <p:nvPr/>
            </p:nvSpPr>
            <p:spPr>
              <a:xfrm>
                <a:off x="5410440" y="4366440"/>
                <a:ext cx="594360" cy="36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001920" y="4339080"/>
                <a:ext cx="94320" cy="5616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100"/>
                    </a:moveTo>
                    <a:lnTo>
                      <a:pt x="99" y="49"/>
                    </a:ln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4132080" y="5577120"/>
              <a:ext cx="143136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Fresh solv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SimSun"/>
                </a:rPr>
                <a:t>2.0 at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837-395E-4036-BBE6-50B8B60064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0CF28-73CC-45A6-AFA3-CAE8FF3D038C}" type="datetime1">
              <a:rPr lang="en-US"/>
              <a:t>07/29/26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Ex 2.5 – Metal degreasing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-57780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fresh solvent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 has an RVP value of 2.0 atm. 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577800" indent="-57780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The following process constraints on flowrate and RVP values are to be complied for the process sinks, i.e.: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952560" indent="-49536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egreasing unit: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95256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lowrate of solvent = 5.0 kg/s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95256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2.0 ≤ RVP of solvent (atm) ≤ 3.0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952560" indent="-49536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bsorption unit: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95256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lowrate of solvent = 2.0 kg/s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95256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2.0 ≤ RVP of solvent (atm) ≤ 4.0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443-149A-4B6C-9973-5C48A0CB1B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A7715-DF5F-425F-B81E-37EE0DE28194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Ex 2.5 – Metal degreasing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Operator values for 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sources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resh solvent - 2.71 at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1.44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ndensate I - 13.20 at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1.44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Condensate II - 3.74 at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1.44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Operator values for 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sinks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2.71 ≤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1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or degreasing unit (at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1.44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) ≤ 4.86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2.71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≤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for absorption unit (at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  <a:ea typeface="SimSun"/>
              </a:rPr>
              <a:t>1.44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)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≤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7.36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6C6-DE08-41C7-99BB-1124729A17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2E103-620C-40FE-ABA2-782D412B0814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2840" y="2575080"/>
            <a:ext cx="8032680" cy="20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Monotype Corsiva"/>
                <a:ea typeface="SimSun"/>
              </a:rPr>
              <a:t>Segregation for material sources</a:t>
            </a:r>
            <a:r>
              <a:rPr b="1" lang="en-US" sz="6000" spc="-1" strike="noStrike">
                <a:solidFill>
                  <a:srgbClr val="ff0000"/>
                </a:solidFill>
                <a:latin typeface="Monotype Corsiva"/>
                <a:ea typeface="SimSun"/>
              </a:rPr>
              <a:t> </a:t>
            </a:r>
            <a:endParaRPr b="1" lang="en-US" sz="60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35480" y="4689000"/>
            <a:ext cx="522576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Ex 2.5 – Metal degreasing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97000" y="1765440"/>
          <a:ext cx="8586000" cy="3239640"/>
        </p:xfrm>
        <a:graphic>
          <a:graphicData uri="http://schemas.openxmlformats.org/drawingml/2006/table">
            <a:tbl>
              <a:tblPr/>
              <a:tblGrid>
                <a:gridCol w="2773080"/>
                <a:gridCol w="2867760"/>
                <a:gridCol w="294516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kg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atm</a:t>
                      </a:r>
                      <a:r>
                        <a:rPr b="1" lang="en-GB" sz="2000" spc="-1" strike="noStrike" baseline="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44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egreasing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bsorption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7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kg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atm</a:t>
                      </a:r>
                      <a:r>
                        <a:rPr b="1" lang="en-GB" sz="2000" spc="-1" strike="noStrike" baseline="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44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Condensate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3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Condensate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resh sol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EDD-07E8-42DB-8339-B1293638D64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1C9C6-33B0-48AC-A24E-6BFE7E6F84C4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72840" y="2575080"/>
            <a:ext cx="8032680" cy="20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Monotype Corsiva"/>
              </a:rPr>
              <a:t>In-class exercise(s)</a:t>
            </a:r>
            <a:endParaRPr b="1" lang="en-US" sz="60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435480" y="4689000"/>
            <a:ext cx="522576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Book Antiqu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P2.5 – N</a:t>
            </a:r>
            <a:r>
              <a:rPr b="1" lang="en-GB" sz="4400" spc="-1" strike="noStrike" baseline="-25000">
                <a:solidFill>
                  <a:srgbClr val="cc0000"/>
                </a:solidFill>
                <a:latin typeface="Monotype Corsiva"/>
              </a:rPr>
              <a:t>2</a:t>
            </a: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 recovery 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797040" y="4321080"/>
            <a:ext cx="109836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SimSun"/>
              </a:rPr>
              <a:t>RESIN PRE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2263680" y="4321080"/>
            <a:ext cx="104472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SimSun"/>
              </a:rPr>
              <a:t>SLURRY PRE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AutoShape 5"/>
          <p:cNvCxnSpPr>
            <a:stCxn id="628" idx="3"/>
            <a:endCxn id="629" idx="1"/>
          </p:cNvCxnSpPr>
          <p:nvPr/>
        </p:nvCxnSpPr>
        <p:spPr>
          <a:xfrm>
            <a:off x="1905120" y="4560480"/>
            <a:ext cx="349920" cy="10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31" name="Rectangle 6"/>
          <p:cNvSpPr/>
          <p:nvPr/>
        </p:nvSpPr>
        <p:spPr>
          <a:xfrm>
            <a:off x="3637080" y="4321080"/>
            <a:ext cx="1084320" cy="47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SimSun"/>
              </a:rPr>
              <a:t>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AutoShape 7"/>
          <p:cNvCxnSpPr>
            <a:stCxn id="629" idx="3"/>
            <a:endCxn id="631" idx="1"/>
          </p:cNvCxnSpPr>
          <p:nvPr/>
        </p:nvCxnSpPr>
        <p:spPr>
          <a:xfrm>
            <a:off x="3317760" y="4560480"/>
            <a:ext cx="310320" cy="10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33" name="Rectangle 8"/>
          <p:cNvSpPr/>
          <p:nvPr/>
        </p:nvSpPr>
        <p:spPr>
          <a:xfrm>
            <a:off x="5089680" y="4321080"/>
            <a:ext cx="1006200" cy="47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SimSun"/>
              </a:rPr>
              <a:t>CO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AutoShape 9"/>
          <p:cNvCxnSpPr>
            <a:stCxn id="631" idx="3"/>
            <a:endCxn id="633" idx="1"/>
          </p:cNvCxnSpPr>
          <p:nvPr/>
        </p:nvCxnSpPr>
        <p:spPr>
          <a:xfrm>
            <a:off x="4730760" y="4560480"/>
            <a:ext cx="349920" cy="10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35" name="Rectangle 10"/>
          <p:cNvSpPr/>
          <p:nvPr/>
        </p:nvSpPr>
        <p:spPr>
          <a:xfrm>
            <a:off x="6689880" y="4321080"/>
            <a:ext cx="1004760" cy="47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SimSun"/>
              </a:rPr>
              <a:t>D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>
            <a:off x="6107040" y="4675320"/>
            <a:ext cx="588960" cy="1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2"/>
          <p:cNvSpPr/>
          <p:nvPr/>
        </p:nvSpPr>
        <p:spPr>
          <a:xfrm flipH="1">
            <a:off x="6086160" y="4464000"/>
            <a:ext cx="2919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3"/>
          <p:cNvSpPr/>
          <p:nvPr/>
        </p:nvSpPr>
        <p:spPr>
          <a:xfrm flipH="1">
            <a:off x="7694280" y="4464000"/>
            <a:ext cx="2919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4"/>
          <p:cNvSpPr/>
          <p:nvPr/>
        </p:nvSpPr>
        <p:spPr>
          <a:xfrm>
            <a:off x="7705800" y="4675320"/>
            <a:ext cx="588960" cy="1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5"/>
          <p:cNvSpPr/>
          <p:nvPr/>
        </p:nvSpPr>
        <p:spPr>
          <a:xfrm>
            <a:off x="203040" y="4435560"/>
            <a:ext cx="590760" cy="1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6"/>
          <p:cNvSpPr/>
          <p:nvPr/>
        </p:nvSpPr>
        <p:spPr>
          <a:xfrm>
            <a:off x="203040" y="4702320"/>
            <a:ext cx="590760" cy="14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7"/>
          <p:cNvSpPr/>
          <p:nvPr/>
        </p:nvSpPr>
        <p:spPr>
          <a:xfrm>
            <a:off x="6199200" y="4227480"/>
            <a:ext cx="2239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N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8"/>
          <p:cNvSpPr/>
          <p:nvPr/>
        </p:nvSpPr>
        <p:spPr>
          <a:xfrm>
            <a:off x="7810560" y="4227480"/>
            <a:ext cx="1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N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9"/>
          <p:cNvSpPr/>
          <p:nvPr/>
        </p:nvSpPr>
        <p:spPr>
          <a:xfrm flipH="1" flipV="1">
            <a:off x="5600880" y="4795920"/>
            <a:ext cx="2880" cy="5061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0"/>
          <p:cNvSpPr/>
          <p:nvPr/>
        </p:nvSpPr>
        <p:spPr>
          <a:xfrm>
            <a:off x="5307120" y="5321160"/>
            <a:ext cx="6649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Bas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4398840" y="5014800"/>
            <a:ext cx="6667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dd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2"/>
          <p:cNvSpPr/>
          <p:nvPr/>
        </p:nvSpPr>
        <p:spPr>
          <a:xfrm flipH="1" flipV="1">
            <a:off x="4349880" y="4795920"/>
            <a:ext cx="1440" cy="5061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23"/>
          <p:cNvSpPr/>
          <p:nvPr/>
        </p:nvSpPr>
        <p:spPr>
          <a:xfrm flipH="1" flipV="1">
            <a:off x="4057200" y="4795920"/>
            <a:ext cx="3240" cy="5061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457440" y="5014800"/>
            <a:ext cx="538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s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5"/>
          <p:cNvSpPr/>
          <p:nvPr/>
        </p:nvSpPr>
        <p:spPr>
          <a:xfrm flipH="1" flipV="1">
            <a:off x="2903040" y="3812760"/>
            <a:ext cx="1800" cy="50652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6"/>
          <p:cNvSpPr/>
          <p:nvPr/>
        </p:nvSpPr>
        <p:spPr>
          <a:xfrm flipH="1" flipV="1">
            <a:off x="2665440" y="3812760"/>
            <a:ext cx="1440" cy="50652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7"/>
          <p:cNvSpPr/>
          <p:nvPr/>
        </p:nvSpPr>
        <p:spPr>
          <a:xfrm>
            <a:off x="2978280" y="3801960"/>
            <a:ext cx="912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ispersants and lubric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8"/>
          <p:cNvSpPr/>
          <p:nvPr/>
        </p:nvSpPr>
        <p:spPr>
          <a:xfrm>
            <a:off x="1936800" y="3789360"/>
            <a:ext cx="65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agnetic pi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9"/>
          <p:cNvSpPr/>
          <p:nvPr/>
        </p:nvSpPr>
        <p:spPr>
          <a:xfrm>
            <a:off x="198360" y="4186080"/>
            <a:ext cx="596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198360" y="4759200"/>
            <a:ext cx="596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B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1"/>
          <p:cNvSpPr/>
          <p:nvPr/>
        </p:nvSpPr>
        <p:spPr>
          <a:xfrm>
            <a:off x="5149800" y="3324240"/>
            <a:ext cx="870120" cy="44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2"/>
          <p:cNvSpPr/>
          <p:nvPr/>
        </p:nvSpPr>
        <p:spPr>
          <a:xfrm flipH="1">
            <a:off x="5165640" y="3333600"/>
            <a:ext cx="866880" cy="430200"/>
          </a:xfrm>
          <a:prstGeom prst="line">
            <a:avLst/>
          </a:prstGeom>
          <a:ln w="9360">
            <a:solidFill>
              <a:srgbClr val="ff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3"/>
          <p:cNvSpPr/>
          <p:nvPr/>
        </p:nvSpPr>
        <p:spPr>
          <a:xfrm flipV="1">
            <a:off x="5591160" y="2801880"/>
            <a:ext cx="1440" cy="519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4"/>
          <p:cNvSpPr/>
          <p:nvPr/>
        </p:nvSpPr>
        <p:spPr>
          <a:xfrm flipV="1">
            <a:off x="5603760" y="3760920"/>
            <a:ext cx="180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5"/>
          <p:cNvSpPr/>
          <p:nvPr/>
        </p:nvSpPr>
        <p:spPr>
          <a:xfrm flipV="1">
            <a:off x="7189920" y="3547800"/>
            <a:ext cx="0" cy="7714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6"/>
          <p:cNvSpPr/>
          <p:nvPr/>
        </p:nvSpPr>
        <p:spPr>
          <a:xfrm>
            <a:off x="6013440" y="3548160"/>
            <a:ext cx="11620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7"/>
          <p:cNvSpPr/>
          <p:nvPr/>
        </p:nvSpPr>
        <p:spPr>
          <a:xfrm flipV="1">
            <a:off x="7189920" y="2801520"/>
            <a:ext cx="0" cy="7462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4633920" y="2843280"/>
            <a:ext cx="91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ecomposed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7300800" y="2736720"/>
            <a:ext cx="12016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Gaseous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F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D</a:t>
            </a: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= 8.5 kg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0.93%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6005520" y="3616200"/>
            <a:ext cx="1009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F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1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 = 3.0 kg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C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1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 = 1.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1"/>
          <p:cNvSpPr/>
          <p:nvPr/>
        </p:nvSpPr>
        <p:spPr>
          <a:xfrm>
            <a:off x="7273800" y="3773520"/>
            <a:ext cx="916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F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 = 5.5 kg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C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SimSun"/>
              </a:rPr>
              <a:t> = 0.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8331120" y="4481640"/>
            <a:ext cx="5731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ry tap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4606920" y="3816360"/>
            <a:ext cx="969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  <a:ea typeface="SimSun"/>
              </a:rPr>
              <a:t>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4"/>
          <p:cNvSpPr/>
          <p:nvPr/>
        </p:nvSpPr>
        <p:spPr>
          <a:xfrm>
            <a:off x="6578640" y="5840280"/>
            <a:ext cx="230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ook Antiqua"/>
              </a:rPr>
              <a:t>(El-Halwagi,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45"/>
          <p:cNvSpPr/>
          <p:nvPr/>
        </p:nvSpPr>
        <p:spPr>
          <a:xfrm>
            <a:off x="2705040" y="1352520"/>
            <a:ext cx="5504040" cy="969840"/>
          </a:xfrm>
          <a:prstGeom prst="cloudCallout">
            <a:avLst>
              <a:gd name="adj1" fmla="val 36643"/>
              <a:gd name="adj2" fmla="val 8617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Is this the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 source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C22-E867-47C1-A029-EF30A2E4719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F1826-6DB3-479C-A479-503E7A32280F}" type="datetime1">
              <a:rPr lang="en-US"/>
              <a:t>07/29/26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P2.6 – refinery H</a:t>
            </a:r>
            <a:r>
              <a:rPr b="1" lang="en-GB" sz="4400" spc="-1" strike="noStrike" baseline="-25000">
                <a:solidFill>
                  <a:srgbClr val="cc0000"/>
                </a:solidFill>
                <a:latin typeface="Monotype Corsiva"/>
              </a:rPr>
              <a:t>2</a:t>
            </a: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 network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672" name=""/>
          <p:cNvSpPr/>
          <p:nvPr/>
        </p:nvSpPr>
        <p:spPr>
          <a:xfrm>
            <a:off x="3941640" y="1355760"/>
            <a:ext cx="876600" cy="301680"/>
          </a:xfrm>
          <a:prstGeom prst="rect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SimSun"/>
              </a:rPr>
              <a:t>C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173320" y="1363680"/>
            <a:ext cx="909720" cy="303120"/>
          </a:xfrm>
          <a:prstGeom prst="rect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SimSun"/>
              </a:rPr>
              <a:t>Fresh H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Times New Roman"/>
                <a:ea typeface="SimSu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49280" y="1363680"/>
            <a:ext cx="887400" cy="303120"/>
          </a:xfrm>
          <a:prstGeom prst="rect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SimSun"/>
              </a:rPr>
              <a:t>S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41640" y="2479680"/>
            <a:ext cx="876600" cy="303120"/>
          </a:xfrm>
          <a:prstGeom prst="rect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SimSun"/>
              </a:rPr>
              <a:t>N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55760" y="3079800"/>
            <a:ext cx="876240" cy="301680"/>
          </a:xfrm>
          <a:prstGeom prst="rect">
            <a:avLst/>
          </a:prstGeom>
          <a:solidFill>
            <a:srgbClr val="ffffcc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SimSun"/>
              </a:rPr>
              <a:t>H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60480" y="4599000"/>
            <a:ext cx="874800" cy="299880"/>
          </a:xfrm>
          <a:prstGeom prst="rect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SimSun"/>
              </a:rPr>
              <a:t>CN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94000" y="4599000"/>
            <a:ext cx="874800" cy="299880"/>
          </a:xfrm>
          <a:prstGeom prst="rect">
            <a:avLst/>
          </a:prstGeom>
          <a:solidFill>
            <a:srgbClr val="ffff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SimSun"/>
              </a:rPr>
              <a:t>D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957240" y="5386320"/>
            <a:ext cx="876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Fu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94000" y="5389560"/>
            <a:ext cx="874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Fu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54040" y="4956120"/>
            <a:ext cx="534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41.6 30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773520" y="4956120"/>
            <a:ext cx="534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69.3 27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930400" y="3846600"/>
            <a:ext cx="53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277.2 17.9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805040" y="3838680"/>
            <a:ext cx="536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304.9 17.9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689200" y="3351240"/>
            <a:ext cx="4255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512.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933720" y="3017880"/>
            <a:ext cx="53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97.0 25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1160" y="339876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69.3 25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84240" y="1814400"/>
            <a:ext cx="44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623.8 7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171880" y="1814400"/>
            <a:ext cx="44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277.2 5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57760" y="1698480"/>
            <a:ext cx="53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415.8 20.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809880" y="2257560"/>
            <a:ext cx="5698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138.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"/>
          <p:cNvCxnSpPr/>
          <p:nvPr/>
        </p:nvCxnSpPr>
        <p:spPr>
          <a:xfrm>
            <a:off x="4379400" y="1657440"/>
            <a:ext cx="1080" cy="8229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</p:cxnSp>
      <p:cxnSp>
        <p:nvCxnSpPr>
          <p:cNvPr id="693" name=""/>
          <p:cNvCxnSpPr/>
          <p:nvPr/>
        </p:nvCxnSpPr>
        <p:spPr>
          <a:xfrm>
            <a:off x="3731760" y="4898520"/>
            <a:ext cx="2520" cy="49140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</p:cxnSp>
      <p:cxnSp>
        <p:nvCxnSpPr>
          <p:cNvPr id="694" name=""/>
          <p:cNvCxnSpPr/>
          <p:nvPr/>
        </p:nvCxnSpPr>
        <p:spPr>
          <a:xfrm flipH="1">
            <a:off x="1394640" y="4898880"/>
            <a:ext cx="3960" cy="4881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</p:cxnSp>
      <p:sp>
        <p:nvSpPr>
          <p:cNvPr id="695" name=""/>
          <p:cNvSpPr/>
          <p:nvPr/>
        </p:nvSpPr>
        <p:spPr>
          <a:xfrm>
            <a:off x="900000" y="1663560"/>
            <a:ext cx="0" cy="5698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629080" y="1663560"/>
            <a:ext cx="0" cy="5810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040" y="2243160"/>
            <a:ext cx="21384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87400" y="3787920"/>
            <a:ext cx="17416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"/>
          <p:cNvCxnSpPr/>
          <p:nvPr/>
        </p:nvCxnSpPr>
        <p:spPr>
          <a:xfrm flipV="1">
            <a:off x="887400" y="3380760"/>
            <a:ext cx="7200" cy="4071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700" name=""/>
          <p:cNvSpPr/>
          <p:nvPr/>
        </p:nvSpPr>
        <p:spPr>
          <a:xfrm flipH="1">
            <a:off x="2629080" y="3000240"/>
            <a:ext cx="17539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"/>
          <p:cNvCxnSpPr/>
          <p:nvPr/>
        </p:nvCxnSpPr>
        <p:spPr>
          <a:xfrm flipH="1" flipV="1">
            <a:off x="4379040" y="2904840"/>
            <a:ext cx="3960" cy="2181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702" name=""/>
          <p:cNvSpPr/>
          <p:nvPr/>
        </p:nvSpPr>
        <p:spPr>
          <a:xfrm flipH="1">
            <a:off x="3465000" y="2136600"/>
            <a:ext cx="9720" cy="8701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463920" y="2128680"/>
            <a:ext cx="9176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9080" y="2243160"/>
            <a:ext cx="1440" cy="2031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395360" y="4270320"/>
            <a:ext cx="2341440" cy="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"/>
          <p:cNvCxnSpPr/>
          <p:nvPr/>
        </p:nvCxnSpPr>
        <p:spPr>
          <a:xfrm>
            <a:off x="1395000" y="4269960"/>
            <a:ext cx="3960" cy="329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707" name=""/>
          <p:cNvCxnSpPr/>
          <p:nvPr/>
        </p:nvCxnSpPr>
        <p:spPr>
          <a:xfrm flipH="1">
            <a:off x="3731400" y="4272120"/>
            <a:ext cx="5400" cy="327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708" name=""/>
          <p:cNvCxnSpPr/>
          <p:nvPr/>
        </p:nvCxnSpPr>
        <p:spPr>
          <a:xfrm flipH="1">
            <a:off x="893160" y="2233080"/>
            <a:ext cx="6840" cy="84708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sm"/>
          </a:ln>
        </p:spPr>
      </p:cxnSp>
      <p:sp>
        <p:nvSpPr>
          <p:cNvPr id="709" name=""/>
          <p:cNvSpPr/>
          <p:nvPr/>
        </p:nvSpPr>
        <p:spPr>
          <a:xfrm>
            <a:off x="684360" y="2208240"/>
            <a:ext cx="0" cy="810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832120" y="2208240"/>
            <a:ext cx="1440" cy="810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61920" y="2527200"/>
            <a:ext cx="4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imes New Roman"/>
                <a:ea typeface="SimSun"/>
              </a:rPr>
              <a:t>762.4 6.6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5010120" y="2241720"/>
          <a:ext cx="3813120" cy="2290680"/>
        </p:xfrm>
        <a:graphic>
          <a:graphicData uri="http://schemas.openxmlformats.org/drawingml/2006/table">
            <a:tbl>
              <a:tblPr/>
              <a:tblGrid>
                <a:gridCol w="1231920"/>
                <a:gridCol w="1273320"/>
                <a:gridCol w="130788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mol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mol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73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N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CN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7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Text Box 193"/>
          <p:cNvSpPr/>
          <p:nvPr/>
        </p:nvSpPr>
        <p:spPr>
          <a:xfrm>
            <a:off x="4924440" y="134604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lowrate and concentration of recycle streams in all 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93"/>
          <p:cNvSpPr/>
          <p:nvPr/>
        </p:nvSpPr>
        <p:spPr>
          <a:xfrm>
            <a:off x="4930920" y="4560840"/>
            <a:ext cx="41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sk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dentify the limiting data in order to carry out a hydrogen recovery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276-5207-4D3D-ADB2-5B138EFA4FB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5E1C7-F6C9-4860-BCB1-CBD84635B0BA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P2.6 – solu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1241280"/>
          <a:ext cx="8586720" cy="3703680"/>
        </p:xfrm>
        <a:graphic>
          <a:graphicData uri="http://schemas.openxmlformats.org/drawingml/2006/table">
            <a:tbl>
              <a:tblPr/>
              <a:tblGrid>
                <a:gridCol w="274680"/>
                <a:gridCol w="1039680"/>
                <a:gridCol w="1212840"/>
                <a:gridCol w="1281240"/>
                <a:gridCol w="556920"/>
                <a:gridCol w="344520"/>
                <a:gridCol w="1314720"/>
                <a:gridCol w="1280880"/>
                <a:gridCol w="1281240"/>
              </a:tblGrid>
              <a:tr h="7005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Sinks, SK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F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SK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j 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(mol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SK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i 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(mol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Sources, SR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F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SR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j 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(mol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SR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i 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(mol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H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49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9. 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H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80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N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8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1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N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3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CN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72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4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CN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5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D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55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2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D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4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S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62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C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4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EC6-FF35-4B83-9CA1-1AAA7AC6816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91200-D933-4992-96D3-F4D35B9E5FE6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P2.7 – wafer fabrication process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97000" y="3731760"/>
            <a:ext cx="8586720" cy="26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Large amount of ultrapure water (UPW) is consumed in a wafer fabrication plant that consist of wet processing section (Wet), lithography, combined chemical and mechanical processing (CMP), &amp; miscellaneous operations (Etc.).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Water quality in considering water recovery is 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resistivity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(</a:t>
            </a:r>
            <a:r>
              <a:rPr b="0" i="1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R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) that reflects the total ionic content in the aqueous streams, with property mixing rule: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363680" y="973080"/>
            <a:ext cx="5323680" cy="2729160"/>
            <a:chOff x="1363680" y="973080"/>
            <a:chExt cx="5323680" cy="2729160"/>
          </a:xfrm>
        </p:grpSpPr>
        <p:sp>
          <p:nvSpPr>
            <p:cNvPr id="720" name=""/>
            <p:cNvSpPr/>
            <p:nvPr/>
          </p:nvSpPr>
          <p:spPr>
            <a:xfrm flipV="1">
              <a:off x="1404000" y="1395000"/>
              <a:ext cx="1625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63680" y="973080"/>
              <a:ext cx="166392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UP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00 t/h (18 MΩ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29760" y="1391760"/>
              <a:ext cx="360" cy="20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912840" y="1105560"/>
              <a:ext cx="124236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7 – 18) MΩ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12840" y="1780560"/>
              <a:ext cx="1242360" cy="532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thograph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8 – 15) MΩ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2840" y="2471400"/>
              <a:ext cx="124236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MP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10 – 18) MΩ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12840" y="3169800"/>
              <a:ext cx="1242360" cy="532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5 – 12) MΩ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31560" y="1393200"/>
              <a:ext cx="88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30480" y="2053080"/>
              <a:ext cx="89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30480" y="2736000"/>
              <a:ext cx="890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30480" y="3440160"/>
              <a:ext cx="89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64320" y="1185120"/>
              <a:ext cx="7448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00 t/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72240" y="1836720"/>
              <a:ext cx="74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0 t/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96360" y="2527560"/>
              <a:ext cx="7448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700 t/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81240" y="3225600"/>
              <a:ext cx="743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50 t/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55200" y="2049840"/>
              <a:ext cx="1532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54480" y="1526400"/>
              <a:ext cx="15321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54480" y="1236960"/>
              <a:ext cx="1532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52400" y="1019160"/>
              <a:ext cx="13662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50 t/h (1.0 MΩ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52400" y="1310760"/>
              <a:ext cx="136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0 t/h (2.0 MΩ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2400" y="1835280"/>
              <a:ext cx="1366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50 t/h (3.0 MΩ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54480" y="2582640"/>
              <a:ext cx="15321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54480" y="2889360"/>
              <a:ext cx="1532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52400" y="2673720"/>
              <a:ext cx="13662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0 t/h (2.0 MΩ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54480" y="3433680"/>
              <a:ext cx="1532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52400" y="3227760"/>
              <a:ext cx="136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0 t/h (0.5 MΩ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52400" y="2376720"/>
              <a:ext cx="1366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0 t/h (0.1 MΩ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384800" y="5549760"/>
                <a:ext cx="1373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799-C0BD-44EF-AF82-7BA1389879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F1346-C5EC-4983-ADAC-9C050E46177C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P2.7 – technical info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97000" y="1009440"/>
            <a:ext cx="8586720" cy="53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Operator values for 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UPW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 = 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0.0556 MΩ</a:t>
            </a:r>
            <a:r>
              <a:rPr b="0" lang="en-GB" sz="28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8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Operator values for 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sources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Wet I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-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Wet II -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0.5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Lithography - 0.3333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CMP I - 10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CMP II – 0.5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Etc - 2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Operator values for </a:t>
            </a: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sinks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0.0556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≤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1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or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Wet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) ≤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0.1429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0.0667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≤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for Lithography (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)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≤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0.1250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0.0556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≤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1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or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CMP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) ≤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0.1000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0.0833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≤ </a:t>
            </a:r>
            <a:r>
              <a:rPr b="0" i="1" lang="el-GR" sz="2400" spc="-1" strike="noStrike">
                <a:solidFill>
                  <a:srgbClr val="333399"/>
                </a:solidFill>
                <a:latin typeface="Book Antiqua"/>
              </a:rPr>
              <a:t>ψ</a:t>
            </a:r>
            <a:r>
              <a:rPr b="1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for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Etc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MΩ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.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Book Antiqua"/>
              </a:rPr>
              <a:t>-1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) ≤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0.2000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624560" y="2754360"/>
            <a:ext cx="4340160" cy="1670040"/>
            <a:chOff x="4624560" y="2754360"/>
            <a:chExt cx="4340160" cy="1670040"/>
          </a:xfrm>
        </p:grpSpPr>
        <p:sp>
          <p:nvSpPr>
            <p:cNvPr id="752" name=""/>
            <p:cNvSpPr/>
            <p:nvPr/>
          </p:nvSpPr>
          <p:spPr>
            <a:xfrm>
              <a:off x="4624560" y="2754360"/>
              <a:ext cx="4340160" cy="1670040"/>
            </a:xfrm>
            <a:prstGeom prst="wedgeEllipseCallout">
              <a:avLst>
                <a:gd name="adj1" fmla="val -43416"/>
                <a:gd name="adj2" fmla="val 7357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791240" y="2901960"/>
              <a:ext cx="3989160" cy="14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Book Antiqua"/>
                </a:rPr>
                <a:t>W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Book Antiqua"/>
                </a:rPr>
                <a:t>R</a:t>
              </a:r>
              <a:r>
                <a:rPr b="0" lang="en-GB" sz="1800" spc="-1" strike="noStrike" baseline="-25000">
                  <a:solidFill>
                    <a:srgbClr val="333399"/>
                  </a:solidFill>
                  <a:latin typeface="Book Antiqua"/>
                </a:rPr>
                <a:t>min </a:t>
              </a:r>
              <a:r>
                <a:rPr b="0" lang="en-GB" sz="1800" spc="-1" strike="noStrike">
                  <a:solidFill>
                    <a:srgbClr val="333399"/>
                  </a:solidFill>
                  <a:latin typeface="Book Antiqua"/>
                </a:rPr>
                <a:t>= 7 </a:t>
              </a:r>
              <a:r>
                <a:rPr b="0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MΩ.m </a:t>
              </a:r>
              <a:r>
                <a:rPr b="0" lang="en-US" sz="1800" spc="-1" strike="noStrike">
                  <a:solidFill>
                    <a:srgbClr val="333399"/>
                  </a:solidFill>
                  <a:latin typeface="Wingdings"/>
                  <a:ea typeface="Wingdings"/>
                </a:rPr>
                <a:t></a:t>
              </a:r>
              <a:r>
                <a:rPr b="0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 </a:t>
              </a:r>
              <a:r>
                <a:rPr b="0" i="1" lang="el-GR" sz="1800" spc="-1" strike="noStrike">
                  <a:solidFill>
                    <a:srgbClr val="333399"/>
                  </a:solidFill>
                  <a:latin typeface="Book Antiqua"/>
                </a:rPr>
                <a:t>ψ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= 0.1429 MΩ</a:t>
              </a:r>
              <a:r>
                <a:rPr b="0" lang="en-GB" sz="1800" spc="-1" strike="noStrike" baseline="30000">
                  <a:solidFill>
                    <a:srgbClr val="333399"/>
                  </a:solidFill>
                  <a:latin typeface="Book Antiqua"/>
                </a:rPr>
                <a:t>-1</a:t>
              </a:r>
              <a:r>
                <a:rPr b="0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.m</a:t>
              </a:r>
              <a:r>
                <a:rPr b="0" lang="en-GB" sz="1800" spc="-1" strike="noStrike" baseline="30000">
                  <a:solidFill>
                    <a:srgbClr val="333399"/>
                  </a:solidFill>
                  <a:latin typeface="Book Antiqu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99"/>
                  </a:solidFill>
                  <a:latin typeface="Book Antiqua"/>
                </a:rPr>
                <a:t>R</a:t>
              </a:r>
              <a:r>
                <a:rPr b="0" lang="en-GB" sz="1800" spc="-1" strike="noStrike" baseline="-25000">
                  <a:solidFill>
                    <a:srgbClr val="333399"/>
                  </a:solidFill>
                  <a:latin typeface="Book Antiqua"/>
                </a:rPr>
                <a:t>max </a:t>
              </a:r>
              <a:r>
                <a:rPr b="0" lang="en-GB" sz="1800" spc="-1" strike="noStrike">
                  <a:solidFill>
                    <a:srgbClr val="333399"/>
                  </a:solidFill>
                  <a:latin typeface="Book Antiqua"/>
                </a:rPr>
                <a:t>= 18 </a:t>
              </a:r>
              <a:r>
                <a:rPr b="0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MΩ.m </a:t>
              </a:r>
              <a:r>
                <a:rPr b="0" lang="en-US" sz="1800" spc="-1" strike="noStrike">
                  <a:solidFill>
                    <a:srgbClr val="333399"/>
                  </a:solidFill>
                  <a:latin typeface="Wingdings"/>
                  <a:ea typeface="Wingdings"/>
                </a:rPr>
                <a:t></a:t>
              </a:r>
              <a:r>
                <a:rPr b="0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 </a:t>
              </a:r>
              <a:r>
                <a:rPr b="0" i="1" lang="el-GR" sz="1800" spc="-1" strike="noStrike">
                  <a:solidFill>
                    <a:srgbClr val="333399"/>
                  </a:solidFill>
                  <a:latin typeface="Book Antiqua"/>
                </a:rPr>
                <a:t>ψ</a:t>
              </a:r>
              <a:r>
                <a:rPr b="0" i="1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= 0.0556 MΩ</a:t>
              </a:r>
              <a:r>
                <a:rPr b="0" lang="en-GB" sz="1800" spc="-1" strike="noStrike" baseline="30000">
                  <a:solidFill>
                    <a:srgbClr val="333399"/>
                  </a:solidFill>
                  <a:latin typeface="Book Antiqua"/>
                </a:rPr>
                <a:t>-1</a:t>
              </a:r>
              <a:r>
                <a:rPr b="0" lang="en-US" sz="1800" spc="-1" strike="noStrike">
                  <a:solidFill>
                    <a:srgbClr val="333399"/>
                  </a:solidFill>
                  <a:latin typeface="Book Antiqua"/>
                  <a:ea typeface="SimSun"/>
                </a:rPr>
                <a:t>.m</a:t>
              </a:r>
              <a:r>
                <a:rPr b="0" lang="en-GB" sz="1800" spc="-1" strike="noStrike" baseline="30000">
                  <a:solidFill>
                    <a:srgbClr val="333399"/>
                  </a:solidFill>
                  <a:latin typeface="Book Antiqu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6348240" y="3782880"/>
                  <a:ext cx="102744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5" name=""/>
          <p:cNvSpPr/>
          <p:nvPr/>
        </p:nvSpPr>
        <p:spPr>
          <a:xfrm>
            <a:off x="6438960" y="4705200"/>
            <a:ext cx="1619280" cy="1725840"/>
          </a:xfrm>
          <a:custGeom>
            <a:avLst/>
            <a:gdLst/>
            <a:ahLst/>
            <a:rect l="l" t="t" r="r" b="b"/>
            <a:pathLst>
              <a:path w="989" h="1087">
                <a:moveTo>
                  <a:pt x="495" y="15"/>
                </a:moveTo>
                <a:cubicBezTo>
                  <a:pt x="398" y="0"/>
                  <a:pt x="300" y="23"/>
                  <a:pt x="230" y="35"/>
                </a:cubicBezTo>
                <a:cubicBezTo>
                  <a:pt x="160" y="47"/>
                  <a:pt x="96" y="41"/>
                  <a:pt x="72" y="88"/>
                </a:cubicBezTo>
                <a:cubicBezTo>
                  <a:pt x="48" y="135"/>
                  <a:pt x="58" y="267"/>
                  <a:pt x="84" y="315"/>
                </a:cubicBezTo>
                <a:cubicBezTo>
                  <a:pt x="110" y="363"/>
                  <a:pt x="219" y="337"/>
                  <a:pt x="229" y="378"/>
                </a:cubicBezTo>
                <a:cubicBezTo>
                  <a:pt x="239" y="419"/>
                  <a:pt x="172" y="501"/>
                  <a:pt x="147" y="562"/>
                </a:cubicBezTo>
                <a:cubicBezTo>
                  <a:pt x="122" y="623"/>
                  <a:pt x="100" y="682"/>
                  <a:pt x="78" y="744"/>
                </a:cubicBezTo>
                <a:cubicBezTo>
                  <a:pt x="56" y="806"/>
                  <a:pt x="0" y="883"/>
                  <a:pt x="12" y="936"/>
                </a:cubicBezTo>
                <a:cubicBezTo>
                  <a:pt x="24" y="989"/>
                  <a:pt x="65" y="1041"/>
                  <a:pt x="151" y="1061"/>
                </a:cubicBezTo>
                <a:cubicBezTo>
                  <a:pt x="237" y="1081"/>
                  <a:pt x="420" y="1087"/>
                  <a:pt x="528" y="1055"/>
                </a:cubicBezTo>
                <a:cubicBezTo>
                  <a:pt x="636" y="1023"/>
                  <a:pt x="729" y="942"/>
                  <a:pt x="800" y="869"/>
                </a:cubicBezTo>
                <a:cubicBezTo>
                  <a:pt x="871" y="796"/>
                  <a:pt x="921" y="695"/>
                  <a:pt x="952" y="618"/>
                </a:cubicBezTo>
                <a:cubicBezTo>
                  <a:pt x="983" y="541"/>
                  <a:pt x="989" y="469"/>
                  <a:pt x="985" y="406"/>
                </a:cubicBezTo>
                <a:cubicBezTo>
                  <a:pt x="981" y="343"/>
                  <a:pt x="955" y="286"/>
                  <a:pt x="926" y="240"/>
                </a:cubicBezTo>
                <a:cubicBezTo>
                  <a:pt x="897" y="194"/>
                  <a:pt x="885" y="166"/>
                  <a:pt x="813" y="128"/>
                </a:cubicBezTo>
                <a:cubicBezTo>
                  <a:pt x="741" y="90"/>
                  <a:pt x="600" y="41"/>
                  <a:pt x="495" y="15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42E-EAE1-42A9-B349-05B6D8EF892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ED698-4735-4C44-A203-A59E3E3404DE}" type="datetime1">
              <a:rPr lang="en-US"/>
              <a:t>07/29/26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P2.7 – solu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97000" y="1241280"/>
          <a:ext cx="8586720" cy="4743720"/>
        </p:xfrm>
        <a:graphic>
          <a:graphicData uri="http://schemas.openxmlformats.org/drawingml/2006/table">
            <a:tbl>
              <a:tblPr/>
              <a:tblGrid>
                <a:gridCol w="2773080"/>
                <a:gridCol w="2868840"/>
                <a:gridCol w="2944800"/>
              </a:tblGrid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kg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Book Antiqua"/>
                          <a:ea typeface="SimSun"/>
                        </a:rPr>
                        <a:t>MΩ</a:t>
                      </a:r>
                      <a:r>
                        <a:rPr b="1" lang="en-GB" sz="2000" spc="-1" strike="noStrike" baseline="30000">
                          <a:solidFill>
                            <a:srgbClr val="333399"/>
                          </a:solidFill>
                          <a:latin typeface="Book Antiqua"/>
                        </a:rPr>
                        <a:t>-1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Book Antiqua"/>
                          <a:ea typeface="SimSun"/>
                        </a:rPr>
                        <a:t>.m</a:t>
                      </a:r>
                      <a:r>
                        <a:rPr b="1" lang="en-GB" sz="2000" spc="-1" strike="noStrike" baseline="30000">
                          <a:solidFill>
                            <a:srgbClr val="333399"/>
                          </a:solidFill>
                          <a:latin typeface="Book Antiqua"/>
                        </a:rPr>
                        <a:t>-1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Wet (SK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0.1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Litography (SK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0.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CMP (SK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0.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Etc (SK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0.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kg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r>
                        <a:rPr b="1" i="1" lang="en-GB" sz="20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Book Antiqua"/>
                          <a:ea typeface="SimSun"/>
                        </a:rPr>
                        <a:t>MΩ</a:t>
                      </a:r>
                      <a:r>
                        <a:rPr b="1" lang="en-GB" sz="2000" spc="-1" strike="noStrike" baseline="30000">
                          <a:solidFill>
                            <a:srgbClr val="333399"/>
                          </a:solidFill>
                          <a:latin typeface="Book Antiqua"/>
                        </a:rPr>
                        <a:t>-1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Book Antiqua"/>
                          <a:ea typeface="SimSun"/>
                        </a:rPr>
                        <a:t>.m</a:t>
                      </a:r>
                      <a:r>
                        <a:rPr b="1" lang="en-GB" sz="2000" spc="-1" strike="noStrike" baseline="30000">
                          <a:solidFill>
                            <a:srgbClr val="333399"/>
                          </a:solidFill>
                          <a:latin typeface="Book Antiqua"/>
                        </a:rPr>
                        <a:t>-1</a:t>
                      </a:r>
                      <a:r>
                        <a:rPr b="1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Wet I (SR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Wet II (SR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Litography (SR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0.3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CMP I (SR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CMP II (SR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PMingLiU"/>
                        </a:rPr>
                        <a:t>Etc (SR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29D-E4F6-42CB-8F9C-6D88D243383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4E472-87C6-4BDF-9FB9-EB8CC492BFA2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Monotype Corsiva"/>
              </a:rPr>
              <a:t>Heuristic 1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Keep material sources segregated</a:t>
            </a:r>
            <a:r>
              <a:rPr b="0" lang="en-GB" sz="2800" spc="-1" strike="noStrike">
                <a:solidFill>
                  <a:srgbClr val="333399"/>
                </a:solidFill>
                <a:latin typeface="Book Antiqua"/>
              </a:rPr>
              <a:t> to maximise their recovery potential.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62F-520B-4849-8E92-DF99CD5778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FDA18-3C4F-499B-8F6C-4BAE3F2B14A1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5"/>
          <p:cNvSpPr/>
          <p:nvPr/>
        </p:nvSpPr>
        <p:spPr>
          <a:xfrm>
            <a:off x="2712960" y="2013120"/>
            <a:ext cx="57492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6448320" y="4181400"/>
            <a:ext cx="574920" cy="57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6673680" y="1768320"/>
            <a:ext cx="0" cy="1047960"/>
          </a:xfrm>
          <a:prstGeom prst="line">
            <a:avLst/>
          </a:prstGeom>
          <a:ln w="19080">
            <a:solidFill>
              <a:srgbClr val="ff99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6384960" y="2076480"/>
            <a:ext cx="57456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182600" y="2017800"/>
            <a:ext cx="736560" cy="56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Re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657600" y="3463920"/>
            <a:ext cx="1020600" cy="57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Deca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300640" y="2649600"/>
            <a:ext cx="89388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Distillation Colu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794520" y="1808280"/>
            <a:ext cx="168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362400" y="4173480"/>
            <a:ext cx="69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Aqueous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594240" y="1976400"/>
            <a:ext cx="1149120" cy="63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3006720" y="1944720"/>
            <a:ext cx="357120" cy="593640"/>
          </a:xfrm>
          <a:prstGeom prst="line">
            <a:avLst/>
          </a:prstGeom>
          <a:ln w="19080">
            <a:solidFill>
              <a:srgbClr val="ff99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3006720" y="2114640"/>
            <a:ext cx="1440" cy="434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 flipH="1">
            <a:off x="2687760" y="2114640"/>
            <a:ext cx="317520" cy="528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746640" y="2071800"/>
            <a:ext cx="268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708120" y="2335320"/>
            <a:ext cx="317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 flipH="1">
            <a:off x="6676920" y="2008080"/>
            <a:ext cx="357120" cy="595440"/>
          </a:xfrm>
          <a:prstGeom prst="line">
            <a:avLst/>
          </a:prstGeom>
          <a:ln w="19080">
            <a:solidFill>
              <a:srgbClr val="ff99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6676920" y="2178000"/>
            <a:ext cx="1800" cy="434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 flipH="1">
            <a:off x="6357960" y="2178000"/>
            <a:ext cx="318960" cy="530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 flipH="1">
            <a:off x="6740640" y="4033800"/>
            <a:ext cx="404640" cy="6746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 flipV="1">
            <a:off x="6740640" y="4282560"/>
            <a:ext cx="1440" cy="435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 flipH="1">
            <a:off x="6438960" y="4282920"/>
            <a:ext cx="301680" cy="501840"/>
          </a:xfrm>
          <a:prstGeom prst="line">
            <a:avLst/>
          </a:prstGeom>
          <a:ln w="19080">
            <a:solidFill>
              <a:srgbClr val="ff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6543720" y="1512720"/>
            <a:ext cx="257040" cy="265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8"/>
          <p:cNvSpPr/>
          <p:nvPr/>
        </p:nvSpPr>
        <p:spPr>
          <a:xfrm>
            <a:off x="6794640" y="1484280"/>
            <a:ext cx="318960" cy="318960"/>
          </a:xfrm>
          <a:custGeom>
            <a:avLst/>
            <a:gdLst>
              <a:gd name="textAreaLeft" fmla="*/ 0 w 318960"/>
              <a:gd name="textAreaRight" fmla="*/ 318960 w 3189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401" h="402">
                <a:moveTo>
                  <a:pt x="401" y="402"/>
                </a:moveTo>
                <a:lnTo>
                  <a:pt x="401" y="0"/>
                </a:lnTo>
                <a:lnTo>
                  <a:pt x="0" y="201"/>
                </a:lnTo>
                <a:lnTo>
                  <a:pt x="401" y="4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6308640" y="1144440"/>
            <a:ext cx="752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Steam-jet Ej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5942160" y="142092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4276800" y="600552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Wastewater to Bio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2101680" y="2959200"/>
            <a:ext cx="846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Off-Gas Conden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7171200" y="1392120"/>
            <a:ext cx="82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Conden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5818320" y="44863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Bot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3438000" y="1371600"/>
            <a:ext cx="40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7251840" y="2678040"/>
            <a:ext cx="415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AN to 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3234600" y="1579680"/>
            <a:ext cx="8568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.0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8"/>
          <p:cNvSpPr/>
          <p:nvPr/>
        </p:nvSpPr>
        <p:spPr>
          <a:xfrm flipV="1">
            <a:off x="6730920" y="4105440"/>
            <a:ext cx="1800" cy="727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1950480" y="1603440"/>
            <a:ext cx="8568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5.0 kg AN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5.1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+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4772160" y="1908000"/>
            <a:ext cx="855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ail gases to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5283360" y="1398600"/>
            <a:ext cx="607680" cy="49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  <a:ea typeface="Arial"/>
              </a:rPr>
              <a:t>Bo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4584960" y="1212840"/>
            <a:ext cx="33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BF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4368240" y="1419120"/>
            <a:ext cx="8568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2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4"/>
          <p:cNvCxnSpPr>
            <a:stCxn id="99" idx="3"/>
            <a:endCxn id="95" idx="2"/>
          </p:cNvCxnSpPr>
          <p:nvPr/>
        </p:nvCxnSpPr>
        <p:spPr>
          <a:xfrm>
            <a:off x="1928880" y="2300040"/>
            <a:ext cx="775440" cy="108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</p:cxnSp>
      <p:sp>
        <p:nvSpPr>
          <p:cNvPr id="134" name="Line 45"/>
          <p:cNvSpPr/>
          <p:nvPr/>
        </p:nvSpPr>
        <p:spPr>
          <a:xfrm>
            <a:off x="681120" y="2041560"/>
            <a:ext cx="503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681120" y="2300400"/>
            <a:ext cx="503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681120" y="2560680"/>
            <a:ext cx="503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2091600" y="3433680"/>
            <a:ext cx="8568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4 ppm N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4 kg AN/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.6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9"/>
          <p:cNvCxnSpPr>
            <a:stCxn id="95" idx="6"/>
            <a:endCxn id="104" idx="1"/>
          </p:cNvCxnSpPr>
          <p:nvPr/>
        </p:nvCxnSpPr>
        <p:spPr>
          <a:xfrm flipV="1">
            <a:off x="3297240" y="2296440"/>
            <a:ext cx="288000" cy="396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</p:cxnSp>
      <p:cxnSp>
        <p:nvCxnSpPr>
          <p:cNvPr id="139" name="AutoShape 50"/>
          <p:cNvCxnSpPr>
            <a:stCxn id="104" idx="2"/>
            <a:endCxn id="100" idx="0"/>
          </p:cNvCxnSpPr>
          <p:nvPr/>
        </p:nvCxnSpPr>
        <p:spPr>
          <a:xfrm>
            <a:off x="4168440" y="2625840"/>
            <a:ext cx="1080" cy="82944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</p:cxnSp>
      <p:sp>
        <p:nvSpPr>
          <p:cNvPr id="140" name="Line 51"/>
          <p:cNvSpPr/>
          <p:nvPr/>
        </p:nvSpPr>
        <p:spPr>
          <a:xfrm>
            <a:off x="4743360" y="2301840"/>
            <a:ext cx="76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4172040" y="1406520"/>
            <a:ext cx="0" cy="565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3256920" y="2703600"/>
            <a:ext cx="8568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8 ppm N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.6 kg AN/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.5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4412520" y="2887560"/>
            <a:ext cx="8568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0 ppm N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.2 kg AN/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0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686480" y="3546360"/>
            <a:ext cx="615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3244320" y="4564080"/>
            <a:ext cx="8568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5 ppm N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4 kg AN/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5.5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5650920" y="4684680"/>
            <a:ext cx="8568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ppm N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1 kg AN/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7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6197760" y="4098960"/>
            <a:ext cx="527040" cy="0"/>
          </a:xfrm>
          <a:prstGeom prst="line">
            <a:avLst/>
          </a:prstGeom>
          <a:ln w="9360">
            <a:solidFill>
              <a:srgbClr val="ff99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59"/>
          <p:cNvCxnSpPr>
            <a:stCxn id="101" idx="2"/>
            <a:endCxn id="96" idx="2"/>
          </p:cNvCxnSpPr>
          <p:nvPr/>
        </p:nvCxnSpPr>
        <p:spPr>
          <a:xfrm flipH="1" rot="16200000">
            <a:off x="5987160" y="4016520"/>
            <a:ext cx="213480" cy="691200"/>
          </a:xfrm>
          <a:prstGeom prst="bentConnector2">
            <a:avLst/>
          </a:prstGeom>
          <a:ln w="9360">
            <a:solidFill>
              <a:srgbClr val="ff9900"/>
            </a:solidFill>
            <a:miter/>
            <a:tailEnd len="lg" type="triangle" w="med"/>
          </a:ln>
        </p:spPr>
      </p:cxnSp>
      <p:sp>
        <p:nvSpPr>
          <p:cNvPr id="149" name="Line 60"/>
          <p:cNvSpPr/>
          <p:nvPr/>
        </p:nvSpPr>
        <p:spPr>
          <a:xfrm>
            <a:off x="6737400" y="4759200"/>
            <a:ext cx="0" cy="52092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1"/>
          <p:cNvSpPr/>
          <p:nvPr/>
        </p:nvSpPr>
        <p:spPr>
          <a:xfrm>
            <a:off x="4172040" y="4048200"/>
            <a:ext cx="0" cy="123804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62"/>
          <p:cNvCxnSpPr>
            <a:stCxn id="101" idx="0"/>
            <a:endCxn id="98" idx="2"/>
          </p:cNvCxnSpPr>
          <p:nvPr/>
        </p:nvCxnSpPr>
        <p:spPr>
          <a:xfrm flipH="1" flipV="1" rot="5400000">
            <a:off x="5923440" y="2187720"/>
            <a:ext cx="276840" cy="627480"/>
          </a:xfrm>
          <a:prstGeom prst="bentConnector2">
            <a:avLst/>
          </a:prstGeom>
          <a:ln w="9360">
            <a:solidFill>
              <a:srgbClr val="ff9900"/>
            </a:solidFill>
            <a:miter/>
            <a:tailEnd len="lg" type="triangle" w="med"/>
          </a:ln>
        </p:spPr>
      </p:cxnSp>
      <p:sp>
        <p:nvSpPr>
          <p:cNvPr id="152" name="Rectangle 63"/>
          <p:cNvSpPr/>
          <p:nvPr/>
        </p:nvSpPr>
        <p:spPr>
          <a:xfrm>
            <a:off x="6317640" y="2894040"/>
            <a:ext cx="8568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 ppm N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.9 kg AN/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3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4"/>
          <p:cNvSpPr/>
          <p:nvPr/>
        </p:nvSpPr>
        <p:spPr>
          <a:xfrm flipH="1">
            <a:off x="6184800" y="2809800"/>
            <a:ext cx="1054080" cy="0"/>
          </a:xfrm>
          <a:prstGeom prst="line">
            <a:avLst/>
          </a:prstGeom>
          <a:ln w="19080">
            <a:solidFill>
              <a:srgbClr val="cc33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65"/>
          <p:cNvCxnSpPr>
            <a:stCxn id="130" idx="3"/>
            <a:endCxn id="116" idx="1"/>
          </p:cNvCxnSpPr>
          <p:nvPr/>
        </p:nvCxnSpPr>
        <p:spPr>
          <a:xfrm>
            <a:off x="5900400" y="1645920"/>
            <a:ext cx="633960" cy="108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</p:cxnSp>
      <p:sp>
        <p:nvSpPr>
          <p:cNvPr id="155" name="Line 66"/>
          <p:cNvSpPr/>
          <p:nvPr/>
        </p:nvSpPr>
        <p:spPr>
          <a:xfrm>
            <a:off x="7112160" y="1644480"/>
            <a:ext cx="98712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7208280" y="1684440"/>
            <a:ext cx="8568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4 ppm N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.2 kg AN/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2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68"/>
          <p:cNvCxnSpPr>
            <a:stCxn id="155" idx="0"/>
            <a:endCxn id="158" idx="0"/>
          </p:cNvCxnSpPr>
          <p:nvPr/>
        </p:nvCxnSpPr>
        <p:spPr>
          <a:xfrm flipH="1">
            <a:off x="8097480" y="1654200"/>
            <a:ext cx="2160" cy="361368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59" name="Line 69"/>
          <p:cNvSpPr/>
          <p:nvPr/>
        </p:nvSpPr>
        <p:spPr>
          <a:xfrm>
            <a:off x="4511520" y="1654200"/>
            <a:ext cx="76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0"/>
          <p:cNvSpPr/>
          <p:nvPr/>
        </p:nvSpPr>
        <p:spPr>
          <a:xfrm>
            <a:off x="4199400" y="5361120"/>
            <a:ext cx="94212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ppm N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.1 kg AN/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.0 kg H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1"/>
          <p:cNvSpPr/>
          <p:nvPr/>
        </p:nvSpPr>
        <p:spPr>
          <a:xfrm>
            <a:off x="5232240" y="5292720"/>
            <a:ext cx="0" cy="701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72"/>
          <p:cNvCxnSpPr>
            <a:stCxn id="95" idx="4"/>
            <a:endCxn id="158" idx="1"/>
          </p:cNvCxnSpPr>
          <p:nvPr/>
        </p:nvCxnSpPr>
        <p:spPr>
          <a:xfrm>
            <a:off x="2999880" y="2596680"/>
            <a:ext cx="1080" cy="269172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3" name="Line 73"/>
          <p:cNvSpPr/>
          <p:nvPr/>
        </p:nvSpPr>
        <p:spPr>
          <a:xfrm flipH="1">
            <a:off x="2998800" y="5276880"/>
            <a:ext cx="5097600" cy="14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1 – Water minimisation in Acrylonitrile (AN) produc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7AC-E353-4D15-8B69-6E53BBF83C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9D34D-1070-4A54-8375-93CBDCF09052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1 – Process descrip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AN is produced in a fluidised-bed reactor (2 atm &amp; 450ºC) via vapour-phase ammoxidation of propylene. 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The reaction is single-pass, with almost complete conversion of propylene, with following stoichiometry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Effluent from the reactor is cooled and partially condensed.  The off-gas from the condenser is sent to a scrubber for purification; while its condensate to the biotreatment facility. </a:t>
            </a:r>
            <a:endParaRPr b="0" lang="en-US" sz="28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46040" y="3924360"/>
                <a:ext cx="6478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atalyst</m:t>
                        </m:r>
                      </m:e>
                    </m:acc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E43-E942-4C70-9BAE-9B06FAB667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2047D-61FC-408C-BAEA-2EBEF80890FB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1 – Process descrip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Fresh water is used as the scrubbing agent in the scrubber, before the tail gas may be sent for disposal. 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The bottom product from the scrubber is sent to a decanter when it is separated into aqueous (sent to the biotreatment facility) &amp; organic layers, which is fractionated in a mild vacuumed distillation column.  The column is induced by a steam-jet ejector where steam condensate is produced (sent to biotreatment). 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  <a:ea typeface="SimSun"/>
              </a:rPr>
              <a:t>Distillation column bottom also produces wastewater that is sent to the biotreatment facility.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Due to increased customer demand, the plant authority is exploring opportunity to increase the plant overall AN throughput. 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0B6-4088-4D7D-A91C-362E6F2FEE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855EF-0817-46F7-8060-029D40FBC692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1 – Process description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1241280"/>
            <a:ext cx="8586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stoichiometry 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equation reveals that water is a by-product for AN production </a:t>
            </a:r>
            <a:r>
              <a:rPr b="0" lang="en-GB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Book Antiqua"/>
              </a:rPr>
              <a:t>increased AN production leads to increased wastewater flowrate</a:t>
            </a: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 to the biotretment facility, which is operated at full hydraulic capacity. 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Any increase of production capacity is only possible upon the debottlenecking of the biotreatment facility, either by: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</a:rPr>
              <a:t>reducing the total wastewater flowrate, or 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ook Antiqua"/>
              </a:rPr>
              <a:t>installing another biotreatment unit (an expensive strategy).  </a:t>
            </a:r>
            <a:endParaRPr b="0" lang="en-US" sz="2000" spc="-1" strike="noStrike">
              <a:solidFill>
                <a:srgbClr val="333399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Book Antiqua"/>
              </a:rPr>
              <a:t>It is decided to approach the problem by reducing the total wastewater flowrate, by carrying out water recovery between its process sinks and sources.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Task: identify water sinks &amp; sources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 in order to carry out a water recovery scheme for the process. 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Note: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ammonia (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) concentration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 is the main concern for water recovery (i.e. the quality index for this case). </a:t>
            </a:r>
            <a:endParaRPr b="0" lang="en-US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1F3-D49B-4CAA-8D0C-D3DC6B307F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4F953-5CC5-4655-B525-E78754DFE967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8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5880" y="274680"/>
            <a:ext cx="706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Ex 2.1 – Identification of sources</a:t>
            </a:r>
            <a:endParaRPr b="1" lang="en-US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341280" y="1128600"/>
            <a:ext cx="8493120" cy="5113440"/>
            <a:chOff x="341280" y="1128600"/>
            <a:chExt cx="8493120" cy="5113440"/>
          </a:xfrm>
        </p:grpSpPr>
        <p:sp>
          <p:nvSpPr>
            <p:cNvPr id="175" name="AutoShape 4"/>
            <p:cNvSpPr/>
            <p:nvPr/>
          </p:nvSpPr>
          <p:spPr>
            <a:xfrm>
              <a:off x="341280" y="1128600"/>
              <a:ext cx="8493120" cy="51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"/>
            <p:cNvSpPr/>
            <p:nvPr/>
          </p:nvSpPr>
          <p:spPr>
            <a:xfrm>
              <a:off x="2712960" y="2013120"/>
              <a:ext cx="574920" cy="5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"/>
            <p:cNvSpPr/>
            <p:nvPr/>
          </p:nvSpPr>
          <p:spPr>
            <a:xfrm>
              <a:off x="6448320" y="4181400"/>
              <a:ext cx="574920" cy="5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6673680" y="1768320"/>
              <a:ext cx="0" cy="10479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"/>
            <p:cNvSpPr/>
            <p:nvPr/>
          </p:nvSpPr>
          <p:spPr>
            <a:xfrm>
              <a:off x="6384960" y="2076480"/>
              <a:ext cx="574560" cy="5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182600" y="2017800"/>
              <a:ext cx="736560" cy="56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3657600" y="3463920"/>
              <a:ext cx="1020600" cy="57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Deca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5300640" y="2649600"/>
              <a:ext cx="893880" cy="159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Distillation Colum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794520" y="1808280"/>
              <a:ext cx="168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en-GB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3362400" y="4173480"/>
              <a:ext cx="690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Aqueous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3594240" y="1976400"/>
              <a:ext cx="1149120" cy="63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Scrub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3006720" y="1944720"/>
              <a:ext cx="357120" cy="5936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3006720" y="2114640"/>
              <a:ext cx="1440" cy="4348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H="1">
              <a:off x="2687760" y="2114640"/>
              <a:ext cx="317520" cy="5284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746640" y="2071800"/>
              <a:ext cx="268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0" lang="en-GB" sz="1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9"/>
            <p:cNvSpPr/>
            <p:nvPr/>
          </p:nvSpPr>
          <p:spPr>
            <a:xfrm>
              <a:off x="708120" y="2335320"/>
              <a:ext cx="317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GB" sz="1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GB" sz="1200" spc="-1" strike="noStrike" baseline="-25000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 flipH="1">
              <a:off x="6676920" y="2008080"/>
              <a:ext cx="357120" cy="5954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 flipV="1">
              <a:off x="6676920" y="2178000"/>
              <a:ext cx="1800" cy="4348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 flipH="1">
              <a:off x="6357960" y="2178000"/>
              <a:ext cx="318960" cy="5302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 flipH="1">
              <a:off x="6740640" y="4033800"/>
              <a:ext cx="404640" cy="6746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 flipV="1">
              <a:off x="6740640" y="4282560"/>
              <a:ext cx="1440" cy="4352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5"/>
            <p:cNvSpPr/>
            <p:nvPr/>
          </p:nvSpPr>
          <p:spPr>
            <a:xfrm flipH="1">
              <a:off x="6438960" y="4282920"/>
              <a:ext cx="301680" cy="5018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6543720" y="1512720"/>
              <a:ext cx="257040" cy="265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7"/>
            <p:cNvSpPr/>
            <p:nvPr/>
          </p:nvSpPr>
          <p:spPr>
            <a:xfrm>
              <a:off x="6794640" y="1484280"/>
              <a:ext cx="318960" cy="318960"/>
            </a:xfrm>
            <a:custGeom>
              <a:avLst/>
              <a:gdLst>
                <a:gd name="textAreaLeft" fmla="*/ 0 w 318960"/>
                <a:gd name="textAreaRight" fmla="*/ 318960 w 318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401" h="402">
                  <a:moveTo>
                    <a:pt x="401" y="402"/>
                  </a:moveTo>
                  <a:lnTo>
                    <a:pt x="401" y="0"/>
                  </a:lnTo>
                  <a:lnTo>
                    <a:pt x="0" y="201"/>
                  </a:lnTo>
                  <a:lnTo>
                    <a:pt x="401" y="4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8"/>
            <p:cNvSpPr/>
            <p:nvPr/>
          </p:nvSpPr>
          <p:spPr>
            <a:xfrm>
              <a:off x="6308640" y="1144440"/>
              <a:ext cx="7524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Steam-jet Ej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5942160" y="14209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St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0"/>
            <p:cNvSpPr/>
            <p:nvPr/>
          </p:nvSpPr>
          <p:spPr>
            <a:xfrm>
              <a:off x="4276800" y="6005520"/>
              <a:ext cx="18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Wastewater to Biotrea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1"/>
            <p:cNvSpPr/>
            <p:nvPr/>
          </p:nvSpPr>
          <p:spPr>
            <a:xfrm>
              <a:off x="2101680" y="2959200"/>
              <a:ext cx="846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Off-Gas Conden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2"/>
            <p:cNvSpPr/>
            <p:nvPr/>
          </p:nvSpPr>
          <p:spPr>
            <a:xfrm>
              <a:off x="7171200" y="139212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Conden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3"/>
            <p:cNvSpPr/>
            <p:nvPr/>
          </p:nvSpPr>
          <p:spPr>
            <a:xfrm>
              <a:off x="5818320" y="448632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Bott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4"/>
            <p:cNvSpPr/>
            <p:nvPr/>
          </p:nvSpPr>
          <p:spPr>
            <a:xfrm>
              <a:off x="3438000" y="1371600"/>
              <a:ext cx="40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5"/>
            <p:cNvSpPr/>
            <p:nvPr/>
          </p:nvSpPr>
          <p:spPr>
            <a:xfrm>
              <a:off x="7251840" y="2678040"/>
              <a:ext cx="415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AN to 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6"/>
            <p:cNvSpPr/>
            <p:nvPr/>
          </p:nvSpPr>
          <p:spPr>
            <a:xfrm>
              <a:off x="3234600" y="1579680"/>
              <a:ext cx="856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6.0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7"/>
            <p:cNvSpPr/>
            <p:nvPr/>
          </p:nvSpPr>
          <p:spPr>
            <a:xfrm flipV="1">
              <a:off x="6730920" y="4105440"/>
              <a:ext cx="1800" cy="7272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1950480" y="1603440"/>
              <a:ext cx="85680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.0 kg AN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.1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+ G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4772160" y="1908000"/>
              <a:ext cx="855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Tail gases to dispos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5283360" y="1398600"/>
              <a:ext cx="607680" cy="49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Boi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4584960" y="1212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BF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2"/>
            <p:cNvSpPr/>
            <p:nvPr/>
          </p:nvSpPr>
          <p:spPr>
            <a:xfrm>
              <a:off x="4368240" y="1419120"/>
              <a:ext cx="856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2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AutoShape 43"/>
            <p:cNvCxnSpPr>
              <a:stCxn id="180" idx="3"/>
              <a:endCxn id="176" idx="2"/>
            </p:cNvCxnSpPr>
            <p:nvPr/>
          </p:nvCxnSpPr>
          <p:spPr>
            <a:xfrm>
              <a:off x="1928880" y="2300040"/>
              <a:ext cx="775440" cy="108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</p:cxnSp>
        <p:sp>
          <p:nvSpPr>
            <p:cNvPr id="215" name="Line 44"/>
            <p:cNvSpPr/>
            <p:nvPr/>
          </p:nvSpPr>
          <p:spPr>
            <a:xfrm>
              <a:off x="681120" y="2041560"/>
              <a:ext cx="5032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5"/>
            <p:cNvSpPr/>
            <p:nvPr/>
          </p:nvSpPr>
          <p:spPr>
            <a:xfrm>
              <a:off x="681120" y="2300400"/>
              <a:ext cx="5032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6"/>
            <p:cNvSpPr/>
            <p:nvPr/>
          </p:nvSpPr>
          <p:spPr>
            <a:xfrm>
              <a:off x="681120" y="2560680"/>
              <a:ext cx="5032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7"/>
            <p:cNvSpPr/>
            <p:nvPr/>
          </p:nvSpPr>
          <p:spPr>
            <a:xfrm>
              <a:off x="2091600" y="343368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4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.6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48"/>
            <p:cNvCxnSpPr>
              <a:stCxn id="176" idx="6"/>
              <a:endCxn id="185" idx="1"/>
            </p:cNvCxnSpPr>
            <p:nvPr/>
          </p:nvCxnSpPr>
          <p:spPr>
            <a:xfrm flipV="1">
              <a:off x="3297240" y="2296440"/>
              <a:ext cx="288000" cy="396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</p:cxnSp>
        <p:cxnSp>
          <p:nvCxnSpPr>
            <p:cNvPr id="220" name="AutoShape 49"/>
            <p:cNvCxnSpPr>
              <a:stCxn id="185" idx="2"/>
              <a:endCxn id="181" idx="0"/>
            </p:cNvCxnSpPr>
            <p:nvPr/>
          </p:nvCxnSpPr>
          <p:spPr>
            <a:xfrm>
              <a:off x="4168440" y="2625840"/>
              <a:ext cx="1080" cy="82944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</p:cxnSp>
        <p:sp>
          <p:nvSpPr>
            <p:cNvPr id="221" name="Line 50"/>
            <p:cNvSpPr/>
            <p:nvPr/>
          </p:nvSpPr>
          <p:spPr>
            <a:xfrm>
              <a:off x="4743360" y="2301840"/>
              <a:ext cx="7686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1"/>
            <p:cNvSpPr/>
            <p:nvPr/>
          </p:nvSpPr>
          <p:spPr>
            <a:xfrm>
              <a:off x="4172040" y="1406520"/>
              <a:ext cx="0" cy="5652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2"/>
            <p:cNvSpPr/>
            <p:nvPr/>
          </p:nvSpPr>
          <p:spPr>
            <a:xfrm>
              <a:off x="3256920" y="270360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8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.6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6.5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3"/>
            <p:cNvSpPr/>
            <p:nvPr/>
          </p:nvSpPr>
          <p:spPr>
            <a:xfrm>
              <a:off x="4412520" y="288756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.2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0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4"/>
            <p:cNvSpPr/>
            <p:nvPr/>
          </p:nvSpPr>
          <p:spPr>
            <a:xfrm>
              <a:off x="4686480" y="3546360"/>
              <a:ext cx="6156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244320" y="456408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5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.5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6"/>
            <p:cNvSpPr/>
            <p:nvPr/>
          </p:nvSpPr>
          <p:spPr>
            <a:xfrm>
              <a:off x="5650920" y="468468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7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7"/>
            <p:cNvSpPr/>
            <p:nvPr/>
          </p:nvSpPr>
          <p:spPr>
            <a:xfrm>
              <a:off x="6197760" y="4098960"/>
              <a:ext cx="5270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58"/>
            <p:cNvCxnSpPr>
              <a:stCxn id="182" idx="2"/>
              <a:endCxn id="177" idx="2"/>
            </p:cNvCxnSpPr>
            <p:nvPr/>
          </p:nvCxnSpPr>
          <p:spPr>
            <a:xfrm flipH="1" rot="16200000">
              <a:off x="5987160" y="4016520"/>
              <a:ext cx="213480" cy="691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lg" type="triangle" w="med"/>
            </a:ln>
          </p:spPr>
        </p:cxnSp>
        <p:sp>
          <p:nvSpPr>
            <p:cNvPr id="230" name="Line 59"/>
            <p:cNvSpPr/>
            <p:nvPr/>
          </p:nvSpPr>
          <p:spPr>
            <a:xfrm>
              <a:off x="6737400" y="4759200"/>
              <a:ext cx="0" cy="5209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60"/>
            <p:cNvSpPr/>
            <p:nvPr/>
          </p:nvSpPr>
          <p:spPr>
            <a:xfrm>
              <a:off x="4172040" y="4048200"/>
              <a:ext cx="0" cy="12380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2" name="AutoShape 61"/>
            <p:cNvCxnSpPr>
              <a:stCxn id="182" idx="0"/>
              <a:endCxn id="179" idx="2"/>
            </p:cNvCxnSpPr>
            <p:nvPr/>
          </p:nvCxnSpPr>
          <p:spPr>
            <a:xfrm flipH="1" flipV="1" rot="5400000">
              <a:off x="5923440" y="2187720"/>
              <a:ext cx="276840" cy="6274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lg" type="triangle" w="med"/>
            </a:ln>
          </p:spPr>
        </p:cxnSp>
        <p:sp>
          <p:nvSpPr>
            <p:cNvPr id="233" name="Rectangle 62"/>
            <p:cNvSpPr/>
            <p:nvPr/>
          </p:nvSpPr>
          <p:spPr>
            <a:xfrm>
              <a:off x="6317640" y="289404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.9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3"/>
            <p:cNvSpPr/>
            <p:nvPr/>
          </p:nvSpPr>
          <p:spPr>
            <a:xfrm flipH="1">
              <a:off x="6184800" y="2809800"/>
              <a:ext cx="105408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AutoShape 64"/>
            <p:cNvCxnSpPr>
              <a:stCxn id="211" idx="3"/>
              <a:endCxn id="197" idx="1"/>
            </p:cNvCxnSpPr>
            <p:nvPr/>
          </p:nvCxnSpPr>
          <p:spPr>
            <a:xfrm>
              <a:off x="5900400" y="1645920"/>
              <a:ext cx="633960" cy="108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</p:cxnSp>
        <p:sp>
          <p:nvSpPr>
            <p:cNvPr id="236" name="Line 65"/>
            <p:cNvSpPr/>
            <p:nvPr/>
          </p:nvSpPr>
          <p:spPr>
            <a:xfrm>
              <a:off x="7112160" y="1644480"/>
              <a:ext cx="98712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6"/>
            <p:cNvSpPr/>
            <p:nvPr/>
          </p:nvSpPr>
          <p:spPr>
            <a:xfrm>
              <a:off x="7208280" y="1684440"/>
              <a:ext cx="8568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4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2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" name="AutoShape 67"/>
            <p:cNvCxnSpPr>
              <a:stCxn id="236" idx="0"/>
              <a:endCxn id="239" idx="0"/>
            </p:cNvCxnSpPr>
            <p:nvPr/>
          </p:nvCxnSpPr>
          <p:spPr>
            <a:xfrm flipH="1">
              <a:off x="8097480" y="1654200"/>
              <a:ext cx="2160" cy="361368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</p:cxnSp>
        <p:sp>
          <p:nvSpPr>
            <p:cNvPr id="240" name="Line 68"/>
            <p:cNvSpPr/>
            <p:nvPr/>
          </p:nvSpPr>
          <p:spPr>
            <a:xfrm>
              <a:off x="4511520" y="1654200"/>
              <a:ext cx="7686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4199400" y="5361120"/>
              <a:ext cx="94212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0 ppm N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1 kg AN/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2.0 kg H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/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0"/>
            <p:cNvSpPr/>
            <p:nvPr/>
          </p:nvSpPr>
          <p:spPr>
            <a:xfrm>
              <a:off x="5232240" y="5292720"/>
              <a:ext cx="0" cy="7016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AutoShape 71"/>
            <p:cNvCxnSpPr>
              <a:stCxn id="176" idx="4"/>
              <a:endCxn id="239" idx="1"/>
            </p:cNvCxnSpPr>
            <p:nvPr/>
          </p:nvCxnSpPr>
          <p:spPr>
            <a:xfrm>
              <a:off x="2999880" y="2596680"/>
              <a:ext cx="1080" cy="2691720"/>
            </a:xfrm>
            <a:prstGeom prst="straightConnector1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</p:cxnSp>
        <p:sp>
          <p:nvSpPr>
            <p:cNvPr id="244" name="Line 72"/>
            <p:cNvSpPr/>
            <p:nvPr/>
          </p:nvSpPr>
          <p:spPr>
            <a:xfrm flipH="1">
              <a:off x="2998800" y="5276880"/>
              <a:ext cx="5097600" cy="1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75"/>
          <p:cNvSpPr/>
          <p:nvPr/>
        </p:nvSpPr>
        <p:spPr>
          <a:xfrm>
            <a:off x="3003480" y="2592360"/>
            <a:ext cx="0" cy="2712960"/>
          </a:xfrm>
          <a:prstGeom prst="line">
            <a:avLst/>
          </a:prstGeom>
          <a:ln w="47520">
            <a:solidFill>
              <a:srgbClr val="4d8ce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6"/>
          <p:cNvSpPr/>
          <p:nvPr/>
        </p:nvSpPr>
        <p:spPr>
          <a:xfrm>
            <a:off x="4172040" y="4035600"/>
            <a:ext cx="0" cy="1244520"/>
          </a:xfrm>
          <a:prstGeom prst="line">
            <a:avLst/>
          </a:prstGeom>
          <a:ln w="47520">
            <a:solidFill>
              <a:srgbClr val="4d8ce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7"/>
          <p:cNvSpPr/>
          <p:nvPr/>
        </p:nvSpPr>
        <p:spPr>
          <a:xfrm>
            <a:off x="6748560" y="4772160"/>
            <a:ext cx="0" cy="531720"/>
          </a:xfrm>
          <a:prstGeom prst="line">
            <a:avLst/>
          </a:prstGeom>
          <a:ln w="47520">
            <a:solidFill>
              <a:srgbClr val="4d8ce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8"/>
          <p:cNvSpPr/>
          <p:nvPr/>
        </p:nvSpPr>
        <p:spPr>
          <a:xfrm>
            <a:off x="8096400" y="1650960"/>
            <a:ext cx="0" cy="3652920"/>
          </a:xfrm>
          <a:prstGeom prst="line">
            <a:avLst/>
          </a:prstGeom>
          <a:ln w="47520">
            <a:solidFill>
              <a:srgbClr val="4d8ce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9"/>
          <p:cNvSpPr/>
          <p:nvPr/>
        </p:nvSpPr>
        <p:spPr>
          <a:xfrm>
            <a:off x="3987720" y="5126040"/>
            <a:ext cx="2330640" cy="1222200"/>
          </a:xfrm>
          <a:custGeom>
            <a:avLst/>
            <a:gdLst>
              <a:gd name="textAreaLeft" fmla="*/ 0 w 2330640"/>
              <a:gd name="textAreaRight" fmla="*/ 2330640 w 233064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1468" h="770">
                <a:moveTo>
                  <a:pt x="515" y="17"/>
                </a:moveTo>
                <a:cubicBezTo>
                  <a:pt x="437" y="34"/>
                  <a:pt x="270" y="62"/>
                  <a:pt x="190" y="111"/>
                </a:cubicBezTo>
                <a:cubicBezTo>
                  <a:pt x="110" y="160"/>
                  <a:pt x="54" y="236"/>
                  <a:pt x="33" y="311"/>
                </a:cubicBezTo>
                <a:cubicBezTo>
                  <a:pt x="12" y="386"/>
                  <a:pt x="0" y="489"/>
                  <a:pt x="64" y="561"/>
                </a:cubicBezTo>
                <a:cubicBezTo>
                  <a:pt x="128" y="633"/>
                  <a:pt x="270" y="710"/>
                  <a:pt x="420" y="740"/>
                </a:cubicBezTo>
                <a:cubicBezTo>
                  <a:pt x="570" y="770"/>
                  <a:pt x="804" y="751"/>
                  <a:pt x="965" y="740"/>
                </a:cubicBezTo>
                <a:cubicBezTo>
                  <a:pt x="1126" y="729"/>
                  <a:pt x="1300" y="713"/>
                  <a:pt x="1384" y="676"/>
                </a:cubicBezTo>
                <a:cubicBezTo>
                  <a:pt x="1468" y="639"/>
                  <a:pt x="1468" y="573"/>
                  <a:pt x="1468" y="519"/>
                </a:cubicBezTo>
                <a:cubicBezTo>
                  <a:pt x="1468" y="465"/>
                  <a:pt x="1435" y="404"/>
                  <a:pt x="1384" y="352"/>
                </a:cubicBezTo>
                <a:cubicBezTo>
                  <a:pt x="1333" y="300"/>
                  <a:pt x="1223" y="235"/>
                  <a:pt x="1164" y="205"/>
                </a:cubicBezTo>
                <a:cubicBezTo>
                  <a:pt x="1105" y="175"/>
                  <a:pt x="1070" y="191"/>
                  <a:pt x="1028" y="174"/>
                </a:cubicBezTo>
                <a:cubicBezTo>
                  <a:pt x="986" y="157"/>
                  <a:pt x="948" y="124"/>
                  <a:pt x="913" y="100"/>
                </a:cubicBezTo>
                <a:cubicBezTo>
                  <a:pt x="878" y="76"/>
                  <a:pt x="860" y="43"/>
                  <a:pt x="818" y="27"/>
                </a:cubicBezTo>
                <a:cubicBezTo>
                  <a:pt x="776" y="11"/>
                  <a:pt x="703" y="11"/>
                  <a:pt x="661" y="6"/>
                </a:cubicBezTo>
                <a:cubicBezTo>
                  <a:pt x="619" y="1"/>
                  <a:pt x="593" y="0"/>
                  <a:pt x="515" y="17"/>
                </a:cubicBezTo>
                <a:close/>
              </a:path>
            </a:pathLst>
          </a:custGeom>
          <a:noFill/>
          <a:ln w="38160">
            <a:solidFill>
              <a:srgbClr val="4d8c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0"/>
          <p:cNvSpPr/>
          <p:nvPr/>
        </p:nvSpPr>
        <p:spPr>
          <a:xfrm>
            <a:off x="6427800" y="5597640"/>
            <a:ext cx="2332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Book Antiqua"/>
              </a:rPr>
              <a:t>Water source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cess Integration for Resource Conserv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7D3-E0B8-4B22-84B8-4DAAEED606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92660-4051-4E38-9D68-F9939FB2BF3D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00:11:59Z</dcterms:created>
  <dc:creator>Dominic Foo Chwan Yee</dc:creator>
  <dc:description/>
  <dc:language>en-US</dc:language>
  <cp:lastModifiedBy>Dominic Foo</cp:lastModifiedBy>
  <dcterms:modified xsi:type="dcterms:W3CDTF">2012-08-04T16:24:54Z</dcterms:modified>
  <cp:revision>468</cp:revision>
  <dc:subject/>
  <dc:title>WCA_Tabular and numerical approach</dc:title>
</cp:coreProperties>
</file>