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camera.wav" ContentType="audio/x-wav"/>
  <Override PartName="/ppt/media/image1.jpeg" ContentType="image/jpe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2C600-296F-45CD-BD5A-A67A3D18D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7A987-FF2F-4C0D-AC81-B8EFE7576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EAA83-3D88-4976-824E-DDFB0AE7F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D6C60-1870-4699-9A8E-17F6A73E9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7CAC2-01A3-4CEF-A76B-57216168B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6FED3-59DF-48AB-B1FF-4AA2ED756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E1829-508B-4933-A3EF-D3E609780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06B99-3E11-4705-AC92-7D39F6128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3302E-BA00-4F8E-A1C1-234A82758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6C82C-FFE8-4B71-8A96-A1F2AADAD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BB0D8-47BD-4BDC-94BB-02C1D2F0C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BB115-63E9-4DBF-A27B-4C3096B06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8C9AF-9090-488C-9F1D-0AB0EB9B6F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actical 7-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rior Crime Scene Mapp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  <p:sndAc>
      <p:stSnd>
        <p:snd r:embed="rId1" name="camera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"/>
          <p:cNvGrpSpPr/>
          <p:nvPr/>
        </p:nvGrpSpPr>
        <p:grpSpPr>
          <a:xfrm>
            <a:off x="393120" y="208080"/>
            <a:ext cx="8316720" cy="6102000"/>
            <a:chOff x="393120" y="208080"/>
            <a:chExt cx="8316720" cy="6102000"/>
          </a:xfrm>
        </p:grpSpPr>
        <p:pic>
          <p:nvPicPr>
            <p:cNvPr id="143" name="scanoutside" descr=""/>
            <p:cNvPicPr/>
            <p:nvPr/>
          </p:nvPicPr>
          <p:blipFill>
            <a:blip r:embed="rId1"/>
            <a:srcRect l="0" t="1176" r="0" b="0"/>
            <a:stretch/>
          </p:blipFill>
          <p:spPr>
            <a:xfrm>
              <a:off x="685800" y="208080"/>
              <a:ext cx="7772400" cy="558324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144" name=""/>
            <p:cNvGraphicFramePr/>
            <p:nvPr/>
          </p:nvGraphicFramePr>
          <p:xfrm>
            <a:off x="8037360" y="853920"/>
            <a:ext cx="516240" cy="4971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45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8037360" y="853920"/>
                      <a:ext cx="516240" cy="497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46" name=""/>
            <p:cNvSpPr/>
            <p:nvPr/>
          </p:nvSpPr>
          <p:spPr>
            <a:xfrm>
              <a:off x="8115120" y="53352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771680" y="4724280"/>
              <a:ext cx="938160" cy="158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Sca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” = 4’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/2” = 2’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/4” = 1’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/8” = 6”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/16” = 3”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659400" y="2819520"/>
              <a:ext cx="29952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813400" y="2743200"/>
              <a:ext cx="30888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117960" y="2590920"/>
              <a:ext cx="29952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488200" y="2438280"/>
              <a:ext cx="30888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937120" y="2895480"/>
              <a:ext cx="28908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251320" y="3200400"/>
              <a:ext cx="27972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209680" y="1905120"/>
              <a:ext cx="228600" cy="228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238880" y="1905120"/>
              <a:ext cx="228600" cy="228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828800" y="4038480"/>
              <a:ext cx="228600" cy="2286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001000" y="327672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47080" y="3962520"/>
              <a:ext cx="90144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Drain cov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535160" y="2971800"/>
              <a:ext cx="113184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Water Fountai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090200" y="163044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Tre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37320" y="167652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Tre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93120" y="536400"/>
              <a:ext cx="1436400" cy="13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 - 40 cal. cas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 - 40 cal. cas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 - Bag/crac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 - 9mm cas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E - 9mm cas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F - Uzi 9m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898680" y="4191120"/>
              <a:ext cx="106920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olf Cart Pat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102120" y="5562720"/>
              <a:ext cx="318924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Triangulation on a Baselin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048120" y="2209680"/>
              <a:ext cx="3429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1904760" y="2209680"/>
              <a:ext cx="1143000" cy="198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362320" y="2057400"/>
              <a:ext cx="6858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V="1">
              <a:off x="6477120" y="2057040"/>
              <a:ext cx="8380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477120" y="2209680"/>
              <a:ext cx="160020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831400" y="1935000"/>
              <a:ext cx="444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RP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669480" y="1935000"/>
              <a:ext cx="444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RP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583880" y="1935000"/>
              <a:ext cx="444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RP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498280" y="1935000"/>
              <a:ext cx="444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RP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172920" y="1935000"/>
              <a:ext cx="444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RP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V="1">
              <a:off x="2971800" y="2209320"/>
              <a:ext cx="76320" cy="83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V="1">
              <a:off x="2971800" y="2209320"/>
              <a:ext cx="838080" cy="83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H="1" flipV="1">
              <a:off x="3047760" y="2285640"/>
              <a:ext cx="15228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flipV="1">
              <a:off x="3200400" y="2209320"/>
              <a:ext cx="60948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H="1" flipV="1">
              <a:off x="3047760" y="2209680"/>
              <a:ext cx="6858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3733920" y="2209680"/>
              <a:ext cx="759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 flipV="1">
              <a:off x="3809520" y="2209320"/>
              <a:ext cx="1752840" cy="129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 flipV="1">
              <a:off x="4800240" y="2209320"/>
              <a:ext cx="762120" cy="129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 flipV="1">
              <a:off x="4800600" y="2209680"/>
              <a:ext cx="83808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flipV="1">
              <a:off x="5638680" y="2209680"/>
              <a:ext cx="7632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V="1">
              <a:off x="5715000" y="2209320"/>
              <a:ext cx="0" cy="129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V="1">
              <a:off x="5715000" y="2209320"/>
              <a:ext cx="762120" cy="129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flipV="1">
              <a:off x="5714640" y="2209680"/>
              <a:ext cx="15228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5867280" y="2209680"/>
              <a:ext cx="60984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714400" y="2590920"/>
              <a:ext cx="407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2’6”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354120" y="2209680"/>
              <a:ext cx="407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3’9”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943000" y="3032280"/>
              <a:ext cx="407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4’9”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247920" y="2743200"/>
              <a:ext cx="407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3’6”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049560" y="2438280"/>
              <a:ext cx="287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2’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287440" y="3336840"/>
              <a:ext cx="407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8’6”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439720" y="1905120"/>
              <a:ext cx="407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3’6”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467240" y="2879640"/>
              <a:ext cx="407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8’6”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25720" y="2590920"/>
              <a:ext cx="407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5’6”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954320" y="2346480"/>
              <a:ext cx="287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4’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335560" y="2286000"/>
              <a:ext cx="407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1’6”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716440" y="2514600"/>
              <a:ext cx="407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3’3”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249960" y="2514600"/>
              <a:ext cx="287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6’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067440" y="2286000"/>
              <a:ext cx="407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4’6”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134120" y="2803680"/>
              <a:ext cx="287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7’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753240" y="1889280"/>
              <a:ext cx="407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3’9”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705120" y="2422440"/>
              <a:ext cx="407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1’3”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533920" y="3032280"/>
              <a:ext cx="407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4’6”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checker dir="vert"/>
    <p:sndAc>
      <p:stSnd>
        <p:snd r:embed="rId4" name="camera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actical 7-2 Instru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ine the scene in Slides # 1 or 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llowing the instructors guidelines map this scene using  exterior mapping metho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ending upon the technique and landmarks you use, your response may or may not exactly match the solu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ead concentrate on using the appropriate rules, not using inappropriate landmarks and taking all necessary measureme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  <p:sndAc>
      <p:stSnd>
        <p:snd r:embed="rId1" name="camera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lide #1 - Practical Scen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lar Coordina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rior Crime Scene Mapp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  <p:sndAc>
      <p:stSnd>
        <p:snd r:embed="rId1" name="camera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304200" y="208080"/>
            <a:ext cx="8472240" cy="6426000"/>
            <a:chOff x="304200" y="208080"/>
            <a:chExt cx="8472240" cy="6426000"/>
          </a:xfrm>
        </p:grpSpPr>
        <p:pic>
          <p:nvPicPr>
            <p:cNvPr id="48" name="scanoutside" descr=""/>
            <p:cNvPicPr/>
            <p:nvPr/>
          </p:nvPicPr>
          <p:blipFill>
            <a:blip r:embed="rId1"/>
            <a:srcRect l="0" t="1176" r="0" b="0"/>
            <a:stretch/>
          </p:blipFill>
          <p:spPr>
            <a:xfrm>
              <a:off x="685800" y="208080"/>
              <a:ext cx="7772400" cy="558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3581280" y="5410080"/>
              <a:ext cx="381240" cy="381240"/>
            </a:xfrm>
            <a:prstGeom prst="flowChartSummingJunction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964320" y="5486400"/>
              <a:ext cx="138024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nstrument Posi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51" name=""/>
            <p:cNvGraphicFramePr/>
            <p:nvPr/>
          </p:nvGraphicFramePr>
          <p:xfrm>
            <a:off x="8037360" y="853920"/>
            <a:ext cx="516240" cy="4971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52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8037360" y="853920"/>
                      <a:ext cx="516240" cy="497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3" name=""/>
            <p:cNvSpPr/>
            <p:nvPr/>
          </p:nvSpPr>
          <p:spPr>
            <a:xfrm>
              <a:off x="8115120" y="53352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838280" y="5048280"/>
              <a:ext cx="938160" cy="158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Sca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” = 4’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/2” = 2’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/4” = 1’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/8” = 6”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/16” = 3”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659400" y="2819520"/>
              <a:ext cx="29952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813400" y="2743200"/>
              <a:ext cx="30888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117960" y="2590920"/>
              <a:ext cx="29952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488200" y="2438280"/>
              <a:ext cx="30888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937120" y="2895480"/>
              <a:ext cx="28908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251320" y="3200400"/>
              <a:ext cx="27972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209680" y="1905120"/>
              <a:ext cx="228600" cy="228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238880" y="1905120"/>
              <a:ext cx="228600" cy="228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828800" y="4038480"/>
              <a:ext cx="228600" cy="2286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001000" y="327672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9760" y="4038480"/>
              <a:ext cx="90144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Drain cov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7535160" y="2971800"/>
              <a:ext cx="113184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Water Fountai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090200" y="163044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Tre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7320" y="167652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Tre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04200" y="536400"/>
              <a:ext cx="1436400" cy="13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 - 40 cal. cas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 - 40 cal. cas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 - Bag/crac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 - 9mm cas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E - 9mm cas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F - Uzi 9m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898680" y="4191120"/>
              <a:ext cx="106920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olf Cart Pat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470400" y="6232680"/>
              <a:ext cx="217116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Polar Coordina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checker dir="vert"/>
    <p:sndAc>
      <p:stSnd>
        <p:snd r:embed="rId4" name="camera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lide #2 - Solution Example Polar Coordina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rior Crime Scene Mapp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  <p:sndAc>
      <p:stSnd>
        <p:snd r:embed="rId1" name="camera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" name=""/>
          <p:cNvGrpSpPr/>
          <p:nvPr/>
        </p:nvGrpSpPr>
        <p:grpSpPr>
          <a:xfrm>
            <a:off x="304200" y="208080"/>
            <a:ext cx="8481600" cy="6426000"/>
            <a:chOff x="304200" y="208080"/>
            <a:chExt cx="8481600" cy="6426000"/>
          </a:xfrm>
        </p:grpSpPr>
        <p:pic>
          <p:nvPicPr>
            <p:cNvPr id="75" name="scanoutside" descr=""/>
            <p:cNvPicPr/>
            <p:nvPr/>
          </p:nvPicPr>
          <p:blipFill>
            <a:blip r:embed="rId1"/>
            <a:srcRect l="0" t="1176" r="0" b="0"/>
            <a:stretch/>
          </p:blipFill>
          <p:spPr>
            <a:xfrm>
              <a:off x="685800" y="208080"/>
              <a:ext cx="7772400" cy="558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"/>
            <p:cNvSpPr/>
            <p:nvPr/>
          </p:nvSpPr>
          <p:spPr>
            <a:xfrm>
              <a:off x="3581280" y="5334120"/>
              <a:ext cx="381240" cy="380880"/>
            </a:xfrm>
            <a:prstGeom prst="flowChartSummingJunction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964320" y="5486400"/>
              <a:ext cx="138024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nstrument Posi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8" name=""/>
            <p:cNvGraphicFramePr/>
            <p:nvPr/>
          </p:nvGraphicFramePr>
          <p:xfrm>
            <a:off x="8037360" y="853920"/>
            <a:ext cx="516240" cy="4971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8037360" y="853920"/>
                      <a:ext cx="516240" cy="497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0" name=""/>
            <p:cNvSpPr/>
            <p:nvPr/>
          </p:nvSpPr>
          <p:spPr>
            <a:xfrm>
              <a:off x="8115120" y="53352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38280" y="5048280"/>
              <a:ext cx="938160" cy="158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Sca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” = 4’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/2” = 2’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/4” = 1’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/8” = 6”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/16” = 3”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04200" y="536400"/>
              <a:ext cx="1436400" cy="13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 - 40 cal. cas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 - 40 cal. cas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 - Bag/crac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 - 9mm cas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E - 9mm cas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F - Uzi 9m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659400" y="2819520"/>
              <a:ext cx="29952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813400" y="2743200"/>
              <a:ext cx="30888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117960" y="2590920"/>
              <a:ext cx="29952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88200" y="2438280"/>
              <a:ext cx="30888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37120" y="2895480"/>
              <a:ext cx="28908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251320" y="3200400"/>
              <a:ext cx="27972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09680" y="1905120"/>
              <a:ext cx="228600" cy="228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238880" y="1905120"/>
              <a:ext cx="228600" cy="228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828800" y="4038480"/>
              <a:ext cx="228600" cy="2286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8001000" y="327672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89760" y="4038480"/>
              <a:ext cx="90144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Drain cov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2057040" y="4266720"/>
              <a:ext cx="1676520" cy="129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2971440" y="3124080"/>
              <a:ext cx="762120" cy="2438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flipV="1">
              <a:off x="3276720" y="3047760"/>
              <a:ext cx="457200" cy="251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V="1">
              <a:off x="3733920" y="2819520"/>
              <a:ext cx="0" cy="274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 flipV="1">
              <a:off x="3733920" y="3581280"/>
              <a:ext cx="1828800" cy="198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flipV="1">
              <a:off x="3733920" y="3276720"/>
              <a:ext cx="2057400" cy="228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flipV="1">
              <a:off x="3733920" y="2895120"/>
              <a:ext cx="1904760" cy="2667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flipV="1">
              <a:off x="3733920" y="3352320"/>
              <a:ext cx="4267080" cy="22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349000" y="3276720"/>
              <a:ext cx="837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341</a:t>
              </a:r>
              <a:r>
                <a:rPr b="0" lang="en-US" sz="1200" spc="-1" strike="noStrike" baseline="30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11’3”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814120" y="2392200"/>
              <a:ext cx="837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347</a:t>
              </a:r>
              <a:r>
                <a:rPr b="0" lang="en-US" sz="1200" spc="-1" strike="noStrike" baseline="30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11’6”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728520" y="3078000"/>
              <a:ext cx="837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359</a:t>
              </a:r>
              <a:r>
                <a:rPr b="0" lang="en-US" sz="1200" spc="-1" strike="noStrike" baseline="30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12’3”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709600" y="2590920"/>
              <a:ext cx="76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34</a:t>
              </a:r>
              <a:r>
                <a:rPr b="0" lang="en-US" sz="1200" spc="-1" strike="noStrike" baseline="30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14’3”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873040" y="3078000"/>
              <a:ext cx="76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40</a:t>
              </a:r>
              <a:r>
                <a:rPr b="0" lang="en-US" sz="1200" spc="-1" strike="noStrike" baseline="30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13’6”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870800" y="3382920"/>
              <a:ext cx="618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41</a:t>
              </a:r>
              <a:r>
                <a:rPr b="0" lang="en-US" sz="1200" spc="-1" strike="noStrike" baseline="30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12’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144640" y="3200400"/>
              <a:ext cx="64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20’10”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137320" y="167652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Tre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090200" y="163044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Tre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754280" y="4419720"/>
              <a:ext cx="421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0’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898680" y="4191120"/>
              <a:ext cx="106920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olf Cart Pat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535160" y="2971800"/>
              <a:ext cx="113184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Water Fountai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470400" y="6232680"/>
              <a:ext cx="217116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Polar Coordina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checker dir="vert"/>
    <p:sndAc>
      <p:stSnd>
        <p:snd r:embed="rId4" name="camera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lide #3 - Practical Scene Triangulation on a Base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rior Crime Scene Mapp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  <p:sndAc>
      <p:stSnd>
        <p:snd r:embed="rId1" name="camera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" name=""/>
          <p:cNvGrpSpPr/>
          <p:nvPr/>
        </p:nvGrpSpPr>
        <p:grpSpPr>
          <a:xfrm>
            <a:off x="304200" y="208080"/>
            <a:ext cx="8472240" cy="6426000"/>
            <a:chOff x="304200" y="208080"/>
            <a:chExt cx="8472240" cy="6426000"/>
          </a:xfrm>
        </p:grpSpPr>
        <p:pic>
          <p:nvPicPr>
            <p:cNvPr id="118" name="scanoutside" descr=""/>
            <p:cNvPicPr/>
            <p:nvPr/>
          </p:nvPicPr>
          <p:blipFill>
            <a:blip r:embed="rId1"/>
            <a:srcRect l="0" t="1176" r="0" b="0"/>
            <a:stretch/>
          </p:blipFill>
          <p:spPr>
            <a:xfrm>
              <a:off x="685800" y="208080"/>
              <a:ext cx="7772400" cy="558324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119" name=""/>
            <p:cNvGraphicFramePr/>
            <p:nvPr/>
          </p:nvGraphicFramePr>
          <p:xfrm>
            <a:off x="8037360" y="853920"/>
            <a:ext cx="516240" cy="4971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20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8037360" y="853920"/>
                      <a:ext cx="516240" cy="497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1" name=""/>
            <p:cNvSpPr/>
            <p:nvPr/>
          </p:nvSpPr>
          <p:spPr>
            <a:xfrm>
              <a:off x="8115120" y="53352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838280" y="5048280"/>
              <a:ext cx="938160" cy="158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Sca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” = 4’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/2” = 2’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/4” = 1’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/8” = 6”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/16” = 3”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659400" y="2819520"/>
              <a:ext cx="29952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813400" y="2743200"/>
              <a:ext cx="30888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117960" y="2590920"/>
              <a:ext cx="29952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488200" y="2438280"/>
              <a:ext cx="30888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937120" y="2895480"/>
              <a:ext cx="28908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251320" y="3200400"/>
              <a:ext cx="27972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209680" y="1905120"/>
              <a:ext cx="228600" cy="228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238880" y="1905120"/>
              <a:ext cx="228600" cy="228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828800" y="4038480"/>
              <a:ext cx="228600" cy="2286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8001000" y="327672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847080" y="3962520"/>
              <a:ext cx="90144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Drain cov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535160" y="2971800"/>
              <a:ext cx="113184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Water Fountai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090200" y="163044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Tre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137320" y="167652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Tre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04200" y="536400"/>
              <a:ext cx="1436400" cy="13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 - 40 cal. cas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 - 40 cal. cas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 - Bag/crac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 - 9mm cas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E - 9mm cas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F - Uzi 9m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898680" y="4191120"/>
              <a:ext cx="106920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olf Cart Pat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102120" y="5562720"/>
              <a:ext cx="318924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Triangulation on a Baselin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checker dir="vert"/>
    <p:sndAc>
      <p:stSnd>
        <p:snd r:embed="rId4" name="camera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lide #2 - Solution Example Triangulation on a Base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rior Crime Scene Mapp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  <p:sndAc>
      <p:stSnd>
        <p:snd r:embed="rId1" name="camera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11T14:38:02Z</dcterms:created>
  <dc:creator>Ross M. Gardner</dc:creator>
  <dc:description/>
  <dc:language>en-US</dc:language>
  <cp:lastModifiedBy>amcleary</cp:lastModifiedBy>
  <cp:lastPrinted>2003-12-11T16:22:17Z</cp:lastPrinted>
  <dcterms:modified xsi:type="dcterms:W3CDTF">2004-07-28T16:40:54Z</dcterms:modified>
  <cp:revision>11</cp:revision>
  <dc:subject/>
  <dc:title>No Slide Title</dc:title>
</cp:coreProperties>
</file>