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FDC-CC15-4EF4-BD1B-A4499DF5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F56-1F8B-4EF0-9333-6C3DFE69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144-169D-4497-AF44-2EE83822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4E21-94FB-4A77-AA18-7BBBE895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CAED-8D49-46E2-9815-AEDC554C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40A-C4CB-4837-9DDE-630B12F8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7EC-2FF5-493A-9996-97A7B6CB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88C-A456-4926-A165-AFCD0541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55B-1BDE-44C7-9B9C-F58456CD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212F-0847-439F-8574-86A3DA57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879-3769-4362-8DB8-4D3F12E7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13B-6DF2-4893-9FA8-78B23EED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A6A9-0B31-4A4E-ABBB-52254601A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babilistic Models for Dynamical Syst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Events and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1560" y="1590840"/>
            <a:ext cx="685944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9920" y="1338120"/>
            <a:ext cx="65088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892080"/>
            <a:ext cx="650880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36896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Ve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6320" y="1092240"/>
            <a:ext cx="304956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us De M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6320" y="1227240"/>
            <a:ext cx="304956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mas Ba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6320" y="1452600"/>
            <a:ext cx="30495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1560" y="2219400"/>
            <a:ext cx="68594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1560" y="2017800"/>
            <a:ext cx="685944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1560" y="1587600"/>
            <a:ext cx="68594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1560" y="2389320"/>
            <a:ext cx="685944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1560" y="2468520"/>
            <a:ext cx="68594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610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823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204920"/>
            <a:ext cx="61801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9:06:09Z</dcterms:created>
  <dc:creator>Pawan Sharma</dc:creator>
  <dc:description/>
  <dc:language>en-US</dc:language>
  <cp:lastModifiedBy>Pawan Sharma</cp:lastModifiedBy>
  <dcterms:modified xsi:type="dcterms:W3CDTF">2013-04-04T05:58:30Z</dcterms:modified>
  <cp:revision>42</cp:revision>
  <dc:subject/>
  <dc:title>001x001</dc:title>
</cp:coreProperties>
</file>