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90A-E955-483E-B5D2-05FED7D9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89F-960F-4C35-9D2E-903ECB01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B77-4F58-465B-8B0E-3AD7FC58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09C-C04A-4921-ABC2-C29D8AD6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7162-9C6E-40BE-939B-5FBFBF05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C13D-9228-4D80-A160-6C183D24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5EBD-131D-413C-9602-32954452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C4CA-9CA1-4A60-B888-8AED2BF6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0E6A-4C43-47D6-AC4E-7450CFD9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9AAE-E345-4C38-B766-FD594FD2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430B-7FCE-4D79-A00B-A0C8F17D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F792-62F6-4F80-8A4E-C9DF03FA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DB01-EBAC-4741-BB20-C45FD1FD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1AF7-8F9A-4751-9903-BB31B820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8849-9377-4A9B-BB1C-38F3CE8D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276A-4CEA-4814-B96D-EE779A5E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E322-C328-4CE8-A200-0A5AAA71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6E4-226E-4712-A353-7E6A146C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62C-FA6F-463C-92FD-4D4514BD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8CE-A002-49CF-8194-8D02D80F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7B8-98CA-4881-A8A5-296B9233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775-C228-4917-AC89-BEF11719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FA6-CD6A-42B4-8C50-393864E7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582-7463-43A6-B3FE-2EC66561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EAD0-92E1-4B13-8C19-094E8B066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FE27-586F-4EA7-9142-E4E082D340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hapter 2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on and Guid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man-Assets Approac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ote most of their time to staff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hasize recruiting and performance revie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change occurs is most concerned with staff satisfaction ad performance over external stakeholder wish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ertise Approac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hasizes the need for employees to develop specific expertise which will give the organization a competitive advant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concerned with educating upper level staff than overall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ox Approac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ministrator who is least likely to implement and direct chan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i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t of time spent on managing compliance and dealing swiftly with exceptions to the ru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hange Approac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ves priority to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es culture supportive of innovation, flexibility and grow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haracteristics of Effective Leade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81080" y="2209680"/>
          <a:ext cx="5197680" cy="4064040"/>
        </p:xfrm>
        <a:graphic>
          <a:graphicData uri="http://schemas.openxmlformats.org/drawingml/2006/table">
            <a:tbl>
              <a:tblPr/>
              <a:tblGrid>
                <a:gridCol w="1474920"/>
                <a:gridCol w="1173240"/>
                <a:gridCol w="1249200"/>
                <a:gridCol w="1300320"/>
              </a:tblGrid>
              <a:tr h="15552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ecutiv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nior Lev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ag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perviso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732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lf-Awarenes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lf-Awarenes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hics and Valu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hics and Valu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hics and Valu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hics and Valu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personal relationshi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personal relationshi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ion and Miss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ion and Miss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tivating oth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ral and Written Communic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ategic Think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ategic Think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veloping direct repor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tivating Oth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aging the External Environ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aging the External Environ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aging Conflic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veloping direct repor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wer and Influen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wer and Influen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am Buil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aging conflic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abo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ategic Planning and Performan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abo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am Buil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am Buil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am Buil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blem solving and decision mak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abo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abo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ategic think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blem solving and decision mak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aging chan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iminal justice syst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gram planning and performance assess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iminal justice syst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at is it that effective leaders d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00200" y="2895480"/>
          <a:ext cx="6080040" cy="2278080"/>
        </p:xfrm>
        <a:graphic>
          <a:graphicData uri="http://schemas.openxmlformats.org/drawingml/2006/table">
            <a:tbl>
              <a:tblPr/>
              <a:tblGrid>
                <a:gridCol w="6080040"/>
              </a:tblGrid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tat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hey plan and think strategically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hey assess organizational functioning prior to considering and implementing change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hey development changes consistent with the values, mission, vision and goals of the organization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hey use data to aid in decision-making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hey deal with organizational culture and address staff resistance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hey create learning organization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hey motivate staff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hey are committed to full implementation of the new initiative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he effectively communicate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hey implement the change in a manner consistent with the strategic plan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hey recognize that quality service delivery requires the utilization of quality assurance plan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hey are unafraid to admit that modification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at is it that effective leaders do? Cont’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age in strategic thinking and planning activ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duct assessment of organizational functio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 vision, mission, values and goals for the organiz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at is it that effective leaders do? Cont’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ress staff resistance and obtain commitment from staff for new initiativ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cate effective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 and modify changes as necess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rategic plan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atic process of envisioning a desired future, and translating this vision into broadly defined goals or objectives and a sequence of steps to achieve the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ve Schools of thought regarding strategic plan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ual Complex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havioral Complex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Management The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onary/Inspirational Leadersh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ified Systems The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ausal Tex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ly changing enviro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iving fo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sure to advance technological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sure to become more effici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sure to evolve and become more compl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ctivities required for effective strategic plan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vironmental Scan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enario Plan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ital planning and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keholder Analysis and Eng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Science and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ssessment is importa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step in ascertaining where an organization is in terms of function and sta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identify obstacles that could impede growth, development, and chan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s the organization with the knowledge and data to determine whether a change is truly need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gencies are defined by their mission and vis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 statement which describes the purpose and aims for the offender population within a particular ag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lects leaders hopes for the fu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adershi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ocial process that involves determining the group’s objectives, motivating behavior in pursuit of these objectives, and influencing group maintenance and cul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wis, Goodman, and Gandt 1994:42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aders vs. Manage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cus on vision and mi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ng-term positio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on orien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 aware of external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23920" y="19807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4720" y="2742840"/>
            <a:ext cx="40417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tain status qu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cy orien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 aware of internal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y is flexibility importan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tions are constantly in a state of flu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lps prepare for unforeseen circumst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organizations are quicker to adapt to chan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ve Approaches to Managing Organiz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-Asset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ertise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x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y take an approach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matter where a company is located or what it makes, its CEO must develop a guiding, overarching philosophy bout how he or she can best add value. …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y take an approach? Cont’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pproach taken determines which aspects of the organization receive atten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s values of the organiz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cates how an administrator is likely to respond to chan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rategic Approac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rned with changes driven by external stakehold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ary job is to create, test, design, and implement long-term strate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ote 80% of time to external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likely to address change driven by external stakeholders than staf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17:58:21Z</dcterms:created>
  <dc:creator>hurleyandhanley</dc:creator>
  <dc:description/>
  <cp:keywords/>
  <dc:language>en-US</dc:language>
  <cp:lastModifiedBy> </cp:lastModifiedBy>
  <dcterms:modified xsi:type="dcterms:W3CDTF">2009-11-23T18:28:48Z</dcterms:modified>
  <cp:revision>197</cp:revision>
  <dc:subject/>
  <dc:title>Chapter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561033</vt:lpwstr>
  </property>
</Properties>
</file>