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DE4-8159-410A-90D1-0416F365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E7D-2C33-401E-A084-9FCD391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1AD4A-9BE0-44A3-B0C7-F647B0B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0471F-1D63-439A-8B26-760837BA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B7DD2-EDA4-4E6B-A11B-7D5FE89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3F33C-188E-4407-8092-98BD630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C99CA-FDE9-41FA-9327-9AF93D5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674E3-DC8D-4F03-BF69-DD48B45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FBA91-9160-4C8A-8AFC-0B467157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9F18B-FCD4-45B7-A809-88F5F63C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4639B-0042-476E-AD63-5A3E7FFA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3ADD8-4D29-4DF0-9B77-A15FA829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EC4-87D0-414A-B646-3CF5310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3E8DF-96DB-4676-A5E2-EB13D68C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75FA4-50B0-4B2C-A527-7EE4A95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92029-4092-4968-A3A9-AE11FA7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210C-9C91-4948-AC99-7E3A185C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3DE9F-261B-4E97-802F-67332177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E1103-6977-4CC8-87C4-EEC9396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9D52F-4C42-42D4-96A0-4DE0A22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0B217-4AC5-4A99-AA7C-B32EE0E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A5B31-2614-4785-B14B-3B8073E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80E0F-45EB-499B-8920-1BC4E89C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CBD-E683-40F4-9EBB-8BC87010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1DCFE-7B3C-40E2-B0D6-915D7DE5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C1E16-4B06-41B7-9B87-4CC473D2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997AF-7A83-41D2-A541-48512E24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86C19-4D28-4BCD-9632-984EDC25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C73B-9062-4C26-BF95-9A40923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6DC3B-A9D6-4687-9E67-22EDBAF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4B96-C5EB-4775-9497-FBAB5D3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950A-27EE-4151-8D31-B061CE1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393C3-12DD-4056-92A4-52EC6FC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90B35-1E18-401C-8181-0CA7AB8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02EB-C8BD-41F5-AFA0-CBC123BD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B26A1-4E8A-4170-99DD-238BF56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54067-6E1D-46B1-A55B-601860B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B7012-5444-4847-857E-38336598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5936D-E808-4896-B8DE-99749CA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C176C-30C2-491E-8F54-6E127C6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69E96-0507-404C-ADEB-5C4B6516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C06CB-8006-4530-8998-05BC88E9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BD079-C6BC-4C62-8C09-E7912B4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8FE4A-8530-49FC-8E6D-76A9ACC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E2190-1E5D-45CD-846E-1DF06E7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E4A-2238-4322-8DFF-B60D2997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F6F2D-5195-40D6-A071-A518B8F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6B566-4E2E-4767-AF54-44CB96A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02D72-3464-4E2B-A87C-AE9EFAD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BF5F2-942F-4676-A0A5-279CAA6C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FD8BA-81D7-42A4-8F42-E2607D3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7924-80D4-41C4-BD5B-C4F6824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1A4C-F1FC-413B-8393-F074E47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1DD2-85F9-492C-A306-DCE62CD0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F62-776D-4D79-8069-9527098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5719-228C-44E1-AE2F-DFF1D30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786-D4F1-4FD1-9541-25B49D1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7897-B611-45BC-B521-7A43C3C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D7E-8680-4D8C-94E6-20F6619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40A-2F9E-4E59-8F7B-7D404B6E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8B65-A0FD-4F7B-BC41-ED8B51C8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8A3F-7F94-402D-9146-63E6D3AF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7DB7-081F-4C44-B219-BC62EF07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99CF-9C2F-45D2-B5F6-16C8981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AEED-3AC8-42E1-B78B-37255D8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46C0-9B41-46D8-A841-B6D7DD6F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D4CC-E2C7-48AC-812F-880C0F24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6B2-BEC1-4505-ACF8-AAA4E957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BAF2-941A-44F4-9B14-B6774908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EDAF-E774-46E3-9555-7AB042F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2ED5-F4CF-464A-8E7E-146FF29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225C-61DA-44B7-86AB-48FF914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865A-7638-48E2-AE6A-CA8DE3F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30D1-B8B3-4A5E-81C3-0553DD05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0E54-CFC7-4843-8218-6DA4D72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72A6-917D-4BF4-AA52-30D1FB66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1C49-6345-4E9A-8A5E-18D9A8D9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2656-B323-46BA-B3B0-0673F46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57F-5D98-4DB0-B6F2-9923FE13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8D5E-7006-4997-93A4-C85E83C7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F194-3DF1-4F04-AB71-5C887DA5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670D-EB1E-4C70-A89C-F1ECC47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FD28-F3B2-42C1-834F-32281BA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1ABA-E810-4404-8F83-B9BF6F8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D9C3-C5A9-490C-863C-875F26A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4F3F-48F6-497D-895F-56076F3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D383-B306-4A4E-8DC2-2B385872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78F5-9255-4EBB-BB2D-BEDBCB5E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73C9B-3AD5-4472-B402-F56661C6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140-7F3B-4F7C-A44D-7D421E0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811D-6172-40A8-B5EA-D669D82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F856-123B-49D5-A914-C2A1DE1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1254-1E00-419F-A77B-88210AC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22E8-C909-4943-AC70-BEAE42A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B7AD-5791-44BE-89E2-412F4FF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8581-E48E-4165-B7E1-B4A3A504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F984D-E9C8-4F2C-8189-A323D21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FB28-315A-4DB6-8AD7-165D3BE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B835-54F1-45BB-9ADA-BD7A3323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F8EC-3614-4145-AFC4-EB41301E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87A-E9E7-4AFD-A351-3FDF18A8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0D30-1641-48E2-B0B6-58F1FE7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2210-0EAE-4F4F-A615-E29D6C94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7E26-C7B9-4B70-9C66-48A3593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7A4C-B900-47B4-A9DA-0B10A88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8190-1166-400F-AB07-A9955FF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2526-A6A9-4090-87BE-5547C935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14C6-6787-4287-A69F-CF93BDD3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50D2-FD61-4F41-9E91-A1B09CB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798F-497C-4A54-BC99-3205538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BA45-E925-480A-AD94-31DDC832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A55-CA63-4534-9879-9606540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45F0-88F5-4D4B-BD4E-6EF442E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73E08-73EE-476E-AC4A-21CCD268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0D73-EC6B-493B-B4FB-B928C178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93F3C-B16C-4826-89DD-1394C846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9A1B-88E7-4DA0-9E7F-9196FB73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2EA2-A58F-4677-A0F1-77E6E14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D6A1-2A47-4699-A641-A92F1235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BD40-5451-43B9-BC71-65198EC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4260-B7E0-4BC7-9B5C-BF41961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89E3-DFAF-40EB-B283-2701EC2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C85-3C49-4A54-A735-DA635E4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D45B9-1202-4F80-A078-394B602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3D82-7716-43DC-98DD-8206024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3A8A-60A3-4A90-8A8D-CEE1F38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53CF-AB14-405E-99ED-8267BDA7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E24D-C0FD-4F81-8720-A336A3BC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6496-5048-4A20-BD47-1347FAD4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17D16-20C1-4A6C-979A-64D093F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0DA9-2CCF-4D34-9C04-5E2FB3BB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2FA02-C0AC-4A92-8BCE-75AE3E2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4135-0110-469C-87F5-422B7CA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E02-6F14-4DF9-B0A9-4B7996E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81CB-D88B-4018-91F6-A354B979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9981-0590-4B00-92BA-4B25E91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31F2-45BD-4835-9E27-82D6C77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4A42-3D27-45E2-B4B9-A085E9B0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0F7DF-E41B-42F3-8C04-B31F55C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F3706-4405-4DB6-8DBA-DBB2A8F4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3CEA-F74B-48A9-8C86-809B2682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B6973-E0D7-4267-8E44-510CAA5F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7C1EF-3166-4973-82ED-DD3F671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D96C5-5DF6-49FB-898E-FB9F376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AD51-17D0-4209-BF11-44CDEAD97D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AC52-3EEE-46DE-88FA-D6F6E55F06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CC1-A1BD-44B2-8509-7DD805C278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688-62C9-47CB-A228-B26CDB7C30D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EE5-2F8E-40FD-A40F-56CA767752C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053-CA5E-4FFF-A96D-E22653C8DD6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B24-F261-42CA-8B26-AFBED83D3C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52B-122B-4EE6-8C7E-137092E9E4A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A7D9-03C7-4233-9674-D13171BC820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E81-490C-4EF3-9C04-89C630B9A9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C7A6-17D5-4ABA-8B10-4A6DBE33D93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FFC4-6439-4449-A602-16402C1E42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 PHILIP PURPUR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URITY:  An Introduction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9839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Busines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ivatiz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ofessionalism and Security Associatio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tional Foundation for Protection Offic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SIS International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Industry Associ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ional Burglar &amp; Fire Alarm Associ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dditional Associations and Certific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thic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gulation of the Security Industr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Trai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Methodologies for Preparing Instructional Progra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structional Strategi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er Educatio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Benefits of College Educ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are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TECTING PEOPLE AND ASSETS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I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METHODOLO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4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hodology Defin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Business Propos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Master Pla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or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ecurity-Relevant Criminolog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cological Theories of Cr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fensible Spa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me Prevention through Environmental Desig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roken-Windows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tuational Crime Prev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ational-Choice The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outine-Activity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me-Pattern The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-Analysis Methodolog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General Security Risk-Assessment Guideli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pplying Security-Relevant Criminology to Risk Analys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Quantitative versus Qualitative Methodologi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ric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actical Applic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search and Evalu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STRATEG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5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Generic and Specific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Generic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Objective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Layers and Redundan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Level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Maxim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orce Multipli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Violence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ories of Violen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Violence in the Workpla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ft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ies of Thef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Theft in the Workpla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Drugs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rug-Free Workplace Strate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RSONNEL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6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HISTORY AND PROFESSION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Insider Threa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ypologies of Insider Threa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sychology of the Insid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Challenges of Confronting Insider Threat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esearch Nee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the Insider Threa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employment Screeni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hy is Preemployment Screening Important?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egal Guidelines for Preemployment Scree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eemployment Screening Metho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tivating Personne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ies of Motiv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untering Complacency and Promoting Reliability an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cellen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xecutive and Personnel Prot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of Executive and Personnel Protec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Web and Identity Thef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HYSICAL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7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hysical Security Defin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search Directions for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hallenges of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hallenges of Vulnerability Assessmen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Stand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Technology and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erimeter Barrier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last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lectronic Security System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lectronic Entry-Control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ock and Key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oo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indow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ight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losed-Circuit Television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Operations Cent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FORMATION AND INFORMATION TECHNOLOGY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8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as an Asse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Laws Protecting Proprietary Inform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reats to Information Technology and Dat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Malwa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otne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Variety of Threa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eganograph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Voice over Internet Protocol and Cellular Phon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yber Warfa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tandards and Guideli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Polici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lassification Syst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estruction of Proprietary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angible Asse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trategies of Information Secur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echnical Control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ommunications Sec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ompetitive Intellige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LAW AND LIABILITIE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9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Development of Law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aw Define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etical Models of Law and Socie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iminal and Civil Law and Procedur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bstantive Crimina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cedural Crimina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bstantive Civi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cedural Civi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aw of Arres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EFINITION, ROLE, AND HISTORY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Weights of Eviden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arch and Seizure: Public Poli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arch and Seizure: Private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VESTIG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0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vestig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ypes and Guidelines of Investig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raud Investigation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l Theft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hoplifting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obbery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iques of Investig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viewing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rogations and Suspect Right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tecting the Crime Sce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ources of Inform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rveilla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Undercover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eport Writ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stify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olog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orensic Science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ISK AND ALL-HAZARDS PROTECTION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II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NTERPRISE RISK MANAGEMENT AND RESILIENC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 Manag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isk Management in the Privat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isk Management in the Public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paring and Contrasting Private and Public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isk Managemen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nterprise Risk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nterprise Security Risk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ural Disast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uman-Made Events/Hazar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Business Continuity and Enterprise Resilien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usiness Continu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terprise Resilie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mergency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Life Saf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ire Protection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TECTION OF CRITICAL INFRASTRUCTURES AND KEY RESOURCES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2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otection Challen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arly Critical Infrastructure Prote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National Infrastructure Protection Pl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Assessing Vulnerability of Critical Infrastructures and Key Resourc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itical Infrastructures and Key Resourc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griculture and Food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ater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ealth-Care and Public Health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mergency Service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fense Industry Bas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munication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Define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Contexts of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Role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Methodolog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Strate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Role of Security is Pervasive and Global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History of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Importance of Hist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ends in the Historical Development of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ehistoric Times and Early Hist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Development of Security in the United Stat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01320" y="1526760"/>
            <a:ext cx="8613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formation Technolog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erg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ansportation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anking and Financ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hemical Industr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ostal and Shipping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tical Manufacturing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ional Monuments and Icon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uclear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am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Government Facilitie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mercial Facilitie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FUTU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V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WENTY-FIRST CENTURY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3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utures Stud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hodologies for Anticipating the Futur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end Analysi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yclical Pattern Analysi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vironmental Scan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oss-Impact Ana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lphi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dditional Methodolo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valuating Futures Research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dictions from the World Future Soci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dictions and Issu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olog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Technolog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Offic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aw Enforcement Technology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680" y="1828800"/>
            <a:ext cx="884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dustry Form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chnological Impac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Trade Association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IN AN ENVIRONMENT OF THREATS, TERRORISM, AND ALL-HAZAR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2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reats and Haz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rroris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Difficulty of Defining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rrorism: A History of Viole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lassifying Terrorist Group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nflicts in the Name of Relig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auses of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tional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omestic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rrorist Attacks and Weap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National Strateg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 Legislation for Counterterrorism and All-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zards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omeland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partment of Homeland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 Emergency Management Agency and All-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zards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PROFESSION AND BUSINESS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3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0:40:29Z</dcterms:created>
  <dc:creator>Student</dc:creator>
  <dc:description/>
  <dc:language>en-US</dc:language>
  <cp:lastModifiedBy>listewnikm</cp:lastModifiedBy>
  <dcterms:modified xsi:type="dcterms:W3CDTF">2010-10-04T15:29:39Z</dcterms:modified>
  <cp:revision>17</cp:revision>
  <dc:subject/>
  <dc:title>SECURITY:  An Introduction</dc:title>
</cp:coreProperties>
</file>