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3F16-A333-4AA7-AD7A-217B9909C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18DE-561A-4491-8B3D-784026E3F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D2C5-F924-436F-B517-4BDF6192E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AFE-39F3-423A-9D11-BB86B6D2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5A91-F6BC-4EA0-AC5C-B8A2CBCC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6852-B5FB-4A80-B381-3C341A20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0B8C-42E2-474B-A036-94CD7C20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216C-1BE9-48A8-8953-E9C14F7F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4014-489E-4618-9653-2A20DBFF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932A-3AA9-4911-9F87-CEFAE5B2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87FB-D9EB-48C6-95AF-47060B7C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7F90-CE83-4715-A994-DF5224F9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42FA-8AE2-4239-BA17-10B8393F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B556-CE91-4CE6-A781-486C566F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5B54-5E4B-491D-9F69-DDB32374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8CC4-F03F-4F7B-8FB1-EA7B9C6D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FF65-EEF4-42D1-8ABD-FB797147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A05D-93C1-49D0-97AF-44339916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3B30-72C6-4D96-AB34-B9B41EB4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48168-6E36-4AF4-BCE5-83250937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60B0D-975C-4490-AE97-D92689CD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152A4-079A-4161-84E5-2512D131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312C8-714F-4F17-B544-DF5193DA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9A6F3-26E0-4343-A1A5-33FAF756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A310-1097-4ADC-852C-BC0DAE56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E85D2-1B64-48EA-9369-D6340E83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75198-98EF-4987-8913-E28DFCB4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CA41C-A96D-483E-830F-47AE9D25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70A1D-C1F3-4E18-8186-2DDC5CBA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5D8BD-553D-4B1D-9357-97CCA1EE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B2D6F-E9A2-4BAA-B501-F0364961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87B13-FC52-4B58-B8AC-F0F59BE3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8E5DF-1AB1-403F-85EF-BB0CAD34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FEDC9-7260-4663-88EB-09B70A43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0715B-124D-4E95-9D9C-E6F94104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EF14-F42E-4B3C-B5D4-DCF93516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48CB1-E745-4117-A019-0B476E8A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EEC9A-ABB0-4F8E-B5E8-D557B1EC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1E0B8-37A0-40DF-86D9-6C873925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E662F-3FFE-4357-A3E8-132E07B4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69FBC-40F0-4DB8-899A-CB5EA324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FC29F-CFBB-4BD4-913F-4A2E9B22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5E8DA-3A14-457E-8A04-05444653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491D9-9D50-4E6A-B5C1-25AB8BCB8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90D1B-D8E3-470D-9FE8-28ED9FD7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156-E848-4B5B-BC33-370D12CE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2E85-F8CA-4BA4-B08D-9DF2F372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131A-293C-47BF-BD0D-DE02D04E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A745-153D-4869-BB0C-1A819A87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427A-911D-4522-947A-DE839C31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6B54-8085-4FF4-A35F-4E683270CC2D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© 2017 Taylor &amp; Franc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6E06-8DBB-4BD0-B991-EB2F12F7291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D83B-480F-4913-B48D-083AB1A6E629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© 2017 Taylor &amp; Franc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08F9-A506-472D-9A80-7A5ECF7ED47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BDB0-BB66-497C-9D70-AD2DCC0768AB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© 2017 Taylor &amp; Franc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728E-EDE2-4875-BC6B-657E8E3A1C8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233B-1A70-4239-99FD-FFF704DAD00F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© 2017 Taylor &amp; Franc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3FCF-3D2F-43A5-96E6-20C2A2BC76E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c9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406920" cy="12621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01920" y="2895480"/>
            <a:ext cx="4952880" cy="228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 a Quantitative Research Project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Footer Placeholder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© 2017 Taylor &amp; Franc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c9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"/>
          <p:cNvSpPr/>
          <p:nvPr/>
        </p:nvSpPr>
        <p:spPr>
          <a:xfrm>
            <a:off x="2057400" y="76212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2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304920" y="1600200"/>
            <a:ext cx="8610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f the Steps in the Research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Sample Research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s of Research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ing Research Problems in the 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stics of a Good Research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 Versus N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spread Versus Limited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-Researched Versus Unknown Terr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works for Stating Research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how to Phrase a Research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the 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 of the Literature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s to Use in Literature Re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© 2017 Taylor &amp; Franc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c9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"/>
          <p:cNvSpPr/>
          <p:nvPr/>
        </p:nvSpPr>
        <p:spPr>
          <a:xfrm>
            <a:off x="228600" y="30492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ching Objectives for Chapt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152280" y="1219320"/>
            <a:ext cx="883944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student will be able to identify the ordered steps in the research pla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student will be able to define the concept of a research problem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student will be able to identify and rate the research problems in extant literatu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student will be able to discuss the major sources of research problem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student will be able to obtain examples of research problems from the literatu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student will be able to rate research problems by the following characteristics: filling a gap in the literature, testing a theory, stated clearly and unambiguously, being testable, being ethical, feasible, and being of interest to the researche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student will be able to discuss how research problems can be broad or narrow, widespread or limited in interest, and well researched or unknown territor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student will be able to define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literature review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student will be able to identify sources to use in a literature review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© 2017 Taylor &amp; Franc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c9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igure 2.1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2514600" y="826920"/>
            <a:ext cx="4191120" cy="6031080"/>
          </a:xfrm>
          <a:prstGeom prst="rect">
            <a:avLst/>
          </a:prstGeom>
          <a:ln w="0">
            <a:noFill/>
          </a:ln>
        </p:spPr>
      </p:pic>
      <p:sp>
        <p:nvSpPr>
          <p:cNvPr id="213" name="Footer Placeholder 2"/>
          <p:cNvSpPr/>
          <p:nvPr/>
        </p:nvSpPr>
        <p:spPr>
          <a:xfrm>
            <a:off x="433440" y="64008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© 2017 Taylor &amp; Franc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c9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228600" y="6094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Concep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609480" y="1752480"/>
            <a:ext cx="8229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a good research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 of research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work for stating research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for conducting a literature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ics in writing literature re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 for literature re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in planning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© 2017 Taylor &amp; Franc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c9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"/>
          <p:cNvSpPr/>
          <p:nvPr/>
        </p:nvSpPr>
        <p:spPr>
          <a:xfrm>
            <a:off x="228600" y="6094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Distin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609480" y="175248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 versus narrow research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isting literature versus personal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perience versus clinical 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 review versus annotat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source versus secondar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-researched versus unknown terr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spread versus limited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© 2017 Taylor &amp; Franc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4:51:41Z</dcterms:created>
  <dc:creator>Ian Gordon</dc:creator>
  <dc:description/>
  <dc:language>en-US</dc:language>
  <cp:lastModifiedBy>Bookbright Media EAP</cp:lastModifiedBy>
  <dcterms:modified xsi:type="dcterms:W3CDTF">2016-09-16T16:38:47Z</dcterms:modified>
  <cp:revision>25</cp:revision>
  <dc:subject/>
  <dc:title>Chapter 1 Figures</dc:title>
</cp:coreProperties>
</file>