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Text Box 1029"/>
          <p:cNvSpPr/>
          <p:nvPr/>
        </p:nvSpPr>
        <p:spPr>
          <a:xfrm>
            <a:off x="2895480" y="6477120"/>
            <a:ext cx="40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5ea"/>
                </a:solidFill>
                <a:latin typeface="Arial"/>
              </a:rPr>
              <a:t>Experiencing Cities, 3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2017 Taylor &amp; Francis</a:t>
            </a:r>
            <a:r>
              <a:rPr b="0" lang="en-US" sz="1000" spc="-1" strike="noStrike">
                <a:solidFill>
                  <a:srgbClr val="fbf5ea"/>
                </a:solidFill>
                <a:latin typeface="Arial"/>
              </a:rPr>
              <a:t>, Inc. All rights </a:t>
            </a:r>
            <a:r>
              <a:rPr b="0" lang="en-US" sz="1000" spc="-1" strike="noStrike">
                <a:solidFill>
                  <a:srgbClr val="fbf5ea"/>
                </a:solidFill>
                <a:latin typeface="Verdana"/>
              </a:rPr>
              <a:t>reserved</a:t>
            </a:r>
            <a:r>
              <a:rPr b="0" lang="en-US" sz="1000" spc="-1" strike="noStrike">
                <a:solidFill>
                  <a:srgbClr val="fbf5ea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1760" y="1828440"/>
            <a:ext cx="84200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b5d"/>
                </a:solidFill>
                <a:latin typeface="Verdana"/>
              </a:rPr>
              <a:t>Chapter 2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8b5d"/>
                </a:solidFill>
                <a:latin typeface="Verdana"/>
              </a:rPr>
              <a:t>The Emergence of Cities</a:t>
            </a: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b5d"/>
                </a:solidFill>
                <a:latin typeface="Verdana"/>
              </a:rPr>
              <a:t>Knowledge of Sumer </a:t>
            </a: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7627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8b5d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Religious tex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Old Testament re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buClr>
                <a:srgbClr val="008b5d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Book of Genesis, chapter 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343080" indent="-343080">
              <a:buClr>
                <a:srgbClr val="008b5d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Accurate archaeology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Dating 3500 B.C. to 1800 B.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Physical remains and artif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b5d"/>
                </a:solidFill>
                <a:latin typeface="Verdana"/>
              </a:rPr>
              <a:t>Trade Theory and the Origin of Cities</a:t>
            </a:r>
            <a:r>
              <a:rPr b="1" lang="en-US" sz="3200" spc="-1" strike="noStrike">
                <a:solidFill>
                  <a:srgbClr val="008b5d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7627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8b5d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Jane Jacobs’ Theory: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Primary function of Urbanized Citi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buClr>
                <a:srgbClr val="008b5d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Promotion of trade and comme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Supplemental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buClr>
                <a:srgbClr val="008b5d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enter for animal and crop production and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buClr>
                <a:srgbClr val="008b5d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Agricultural as support for trade, not primary purpose of t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b5d"/>
                </a:solidFill>
                <a:latin typeface="Verdana"/>
              </a:rPr>
              <a:t>SOCIAL AND CULTURAL FACTORS AND THE EMERGENCE, DEVELOPMENT, AND DECLINE OF EARLY CITIES</a:t>
            </a:r>
            <a:endParaRPr b="1" lang="en-US" sz="28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904760"/>
            <a:ext cx="89154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343080" indent="-343080">
              <a:buClr>
                <a:srgbClr val="008b5d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Ozymandias” written by Percy Bysshe Shelley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lvl="2" marL="879480" indent="-165240">
              <a:buClr>
                <a:srgbClr val="008b5d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Dramatizes the importance of social and cultural factors for the origin, development, and decline of the early c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b5d"/>
                </a:solidFill>
                <a:latin typeface="Verdana"/>
              </a:rPr>
              <a:t>Religion in Early Cities</a:t>
            </a:r>
            <a:r>
              <a:rPr b="1" lang="en-US" sz="3600" spc="-1" strike="noStrike">
                <a:solidFill>
                  <a:srgbClr val="008b5d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7627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8b5d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Relig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ohesive element central to sense of 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Predates advances in agricultural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b5d"/>
                </a:solidFill>
                <a:latin typeface="Verdana"/>
              </a:rPr>
              <a:t>The Rise of the City </a:t>
            </a: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" indent="-180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Those who live in the towns and cities are dependent upon those who work the l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" indent="-180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The urban elite must provide a hierarchy for the  management of production and control of w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" indent="-180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Leads to new socioeconomic classes: military, political, and administrative el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b5d"/>
                </a:solidFill>
                <a:latin typeface="Verdana"/>
              </a:rPr>
              <a:t>The Rise of the City </a:t>
            </a:r>
            <a:r>
              <a:rPr b="1" lang="en-US" sz="2800" spc="-1" strike="noStrike">
                <a:solidFill>
                  <a:srgbClr val="008b5d"/>
                </a:solidFill>
                <a:latin typeface="Verdana"/>
              </a:rPr>
              <a:t>(cont.)</a:t>
            </a:r>
            <a:endParaRPr b="1" lang="en-US" sz="28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7627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8b5d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Impediments to growth 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Diffusion of cul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buClr>
                <a:srgbClr val="008b5d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Diversity as a dividing fa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Sani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buClr>
                <a:srgbClr val="008b5d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High morbidity/mortality rates as result of little or no sanitary consid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Lack of medical knowledge to cope with sanitation and disease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Natural disasters and impact on concentrated popu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b5d"/>
                </a:solidFill>
                <a:latin typeface="Verdana"/>
              </a:rPr>
              <a:t>Summary</a:t>
            </a: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7627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8b5d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Balance of probability facto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Ecological change promotes agricultural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Surpluses allow social and cultural reorganization into urban concent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b5d"/>
                </a:solidFill>
                <a:latin typeface="Verdana"/>
              </a:rPr>
              <a:t>Summary </a:t>
            </a:r>
            <a:r>
              <a:rPr b="1" lang="en-US" sz="2800" spc="-1" strike="noStrike">
                <a:solidFill>
                  <a:srgbClr val="008b5d"/>
                </a:solidFill>
                <a:latin typeface="Verdana"/>
              </a:rPr>
              <a:t>(cont.)</a:t>
            </a:r>
            <a:endParaRPr b="1" lang="en-US" sz="28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7627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Emergence of larger social and cultur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buClr>
                <a:srgbClr val="008b5d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Special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buClr>
                <a:srgbClr val="008b5d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Differentiations of functions of lab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buClr>
                <a:srgbClr val="008b5d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Hierarchical power struc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All of these factors are components of the urban rev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b5d"/>
                </a:solidFill>
                <a:latin typeface="Verdana"/>
              </a:rPr>
              <a:t>The Origin of Cities</a:t>
            </a:r>
            <a:r>
              <a:rPr b="1" lang="en-US" sz="3600" spc="-1" strike="noStrike">
                <a:solidFill>
                  <a:srgbClr val="008b5d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buClr>
                <a:srgbClr val="008b5d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Understanding social forces leading to population change based 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lvl="1" marL="914400" indent="-457200">
              <a:buClr>
                <a:srgbClr val="008b5d"/>
              </a:buClr>
              <a:buSzPct val="8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Requirements for Urban Settl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buClr>
                <a:srgbClr val="008b5d"/>
              </a:buClr>
              <a:buSzPct val="8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Sufficient and surplus of food and other necess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buClr>
                <a:srgbClr val="008b5d"/>
              </a:buClr>
              <a:buSzPct val="8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Social organization guaranteeing appropriate social use of surpl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b5d"/>
                </a:solidFill>
                <a:latin typeface="Verdana"/>
              </a:rPr>
              <a:t>The Origin of Cities </a:t>
            </a:r>
            <a:r>
              <a:rPr b="1" lang="en-US" sz="2800" spc="-1" strike="noStrike">
                <a:solidFill>
                  <a:srgbClr val="008b5d"/>
                </a:solidFill>
                <a:latin typeface="Verdana"/>
              </a:rPr>
              <a:t>(cont.)</a:t>
            </a:r>
            <a:endParaRPr b="1" lang="en-US" sz="28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7627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8b5d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Geographic Diversity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Mesopotam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Egy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Indus Valley (Pakista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ina—Yellow River Bas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entral and South America—Valley of Mexico, Guatemala, Honduras, Pe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b5d"/>
                </a:solidFill>
                <a:latin typeface="Verdana"/>
              </a:rPr>
              <a:t>The Agricultural Revolution</a:t>
            </a:r>
            <a:r>
              <a:rPr b="1" lang="en-US" sz="3600" spc="-1" strike="noStrike">
                <a:solidFill>
                  <a:srgbClr val="008b5d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7627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8b5d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End of Pleistocene epoch, circa 9,000 B.C.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343080" indent="-343080">
              <a:buClr>
                <a:srgbClr val="008b5d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Marks beginning of the Neolithic era, the “New Stone Age”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343080" indent="-343080">
              <a:buClr>
                <a:srgbClr val="008b5d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Environmental chang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Fertile valle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apacity to grow food cro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b5d"/>
                </a:solidFill>
                <a:latin typeface="Verdana"/>
              </a:rPr>
              <a:t>The Agricultural Revolution </a:t>
            </a:r>
            <a:r>
              <a:rPr b="1" lang="en-US" sz="2800" spc="-1" strike="noStrike">
                <a:solidFill>
                  <a:srgbClr val="008b5d"/>
                </a:solidFill>
                <a:latin typeface="Verdana"/>
              </a:rPr>
              <a:t>(cont.)</a:t>
            </a:r>
            <a:endParaRPr b="1" lang="en-US" sz="28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7631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New conditions favorable to community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Technology adva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buClr>
                <a:srgbClr val="008b5d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buClr>
                <a:srgbClr val="008b5d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Axes, hoes, sickles, and bl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buClr>
                <a:srgbClr val="008b5d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Animal husbandry and use of domestic anim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buClr>
                <a:srgbClr val="008b5d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b5d"/>
                </a:solidFill>
                <a:latin typeface="Verdana"/>
              </a:rPr>
              <a:t>The (First) Urban Revolution</a:t>
            </a: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buClr>
                <a:srgbClr val="008b5d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ilde’s requirements for an early city: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457200" indent="-457200">
              <a:buClr>
                <a:srgbClr val="008b5d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Larger permanent settlemen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457200" indent="-457200">
              <a:buClr>
                <a:srgbClr val="008b5d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Social classes; diversity of social functions of labor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457200" indent="-457200">
              <a:buClr>
                <a:srgbClr val="008b5d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Taxation and capital accumulation based on surplu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b5d"/>
                </a:solidFill>
                <a:latin typeface="Verdana"/>
              </a:rPr>
              <a:t>The (First) Urban Revolution </a:t>
            </a:r>
            <a:r>
              <a:rPr b="1" lang="en-US" sz="2800" spc="-1" strike="noStrike">
                <a:solidFill>
                  <a:srgbClr val="008b5d"/>
                </a:solidFill>
                <a:latin typeface="Verdana"/>
              </a:rPr>
              <a:t>(cont.)</a:t>
            </a:r>
            <a:endParaRPr b="1" lang="en-US" sz="28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76276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b5d"/>
                </a:solidFill>
                <a:latin typeface="Verdana"/>
              </a:rPr>
              <a:t>4.</a:t>
            </a:r>
            <a:r>
              <a:rPr b="1" lang="en-US" sz="2000" spc="-1" strike="noStrike">
                <a:solidFill>
                  <a:srgbClr val="008b5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Large public buildings / symbol of surplus and wealth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b5d"/>
                </a:solidFill>
                <a:latin typeface="Verdana"/>
              </a:rPr>
              <a:t>5.</a:t>
            </a:r>
            <a:r>
              <a:rPr b="1" lang="en-US" sz="2000" spc="-1" strike="noStrike">
                <a:solidFill>
                  <a:srgbClr val="008b5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Ruling class: priests, civil &amp; military leade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457200" indent="-457200">
              <a:buClr>
                <a:srgbClr val="008b5d"/>
              </a:buClr>
              <a:buSzPct val="8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Systems of recording and exact scien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457200" indent="-457200">
              <a:buClr>
                <a:srgbClr val="008b5d"/>
              </a:buClr>
              <a:buSzPct val="8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Written language with writing techniques (supported exact and predictive sciences)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lvl="2" marL="13716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b5d"/>
                </a:solidFill>
                <a:latin typeface="Verdana"/>
              </a:rPr>
              <a:t>The Urban Revolution </a:t>
            </a:r>
            <a:r>
              <a:rPr b="1" lang="en-US" sz="2800" spc="-1" strike="noStrike">
                <a:solidFill>
                  <a:srgbClr val="008b5d"/>
                </a:solidFill>
                <a:latin typeface="Verdana"/>
              </a:rPr>
              <a:t>(cont.)</a:t>
            </a:r>
            <a:endParaRPr b="1" lang="en-US" sz="28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b5d"/>
                </a:solidFill>
                <a:latin typeface="Verdana"/>
              </a:rPr>
              <a:t>8.</a:t>
            </a:r>
            <a:r>
              <a:rPr b="1" lang="en-US" sz="2000" spc="-1" strike="noStrike">
                <a:solidFill>
                  <a:srgbClr val="008b5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Specialists in artistic expression supported by surplu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b5d"/>
                </a:solidFill>
                <a:latin typeface="Verdana"/>
              </a:rPr>
              <a:t>9.</a:t>
            </a:r>
            <a:r>
              <a:rPr b="1" lang="en-US" sz="2000" spc="-1" strike="noStrike">
                <a:solidFill>
                  <a:srgbClr val="008b5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Long distance trade to support industry &amp; relig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b5d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b5d"/>
                </a:solidFill>
                <a:latin typeface="Verdana"/>
              </a:rPr>
              <a:t>10.</a:t>
            </a: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 Social organization based on residen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b5d"/>
                </a:solidFill>
                <a:latin typeface="Verdana"/>
              </a:rPr>
              <a:t>Sumerian Cities</a:t>
            </a: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7627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8b5d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Multiple city-stat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5,000 to 25,000 inhabit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Walled, heavily fortif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Ziggurats: monumental religious structures in city cent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Surrounding commercial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8b5d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ourtyard hou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5:25:05Z</dcterms:created>
  <dc:creator>rosimerr</dc:creator>
  <dc:description>Built by: www.mediasterling.com</dc:description>
  <dc:language>en-US</dc:language>
  <cp:lastModifiedBy>Bookbright Media_JCV</cp:lastModifiedBy>
  <cp:lastPrinted>2016-08-29T17:17:48Z</cp:lastPrinted>
  <dcterms:modified xsi:type="dcterms:W3CDTF">2016-11-21T20:06:50Z</dcterms:modified>
  <cp:revision>1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