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4.jpeg" ContentType="image/jpeg"/>
  <Override PartName="/ppt/media/image2.png" ContentType="image/png"/>
  <Override PartName="/ppt/media/image5.wmf" ContentType="image/x-wmf"/>
  <Override PartName="/ppt/media/image28.wmf" ContentType="image/x-wmf"/>
  <Override PartName="/ppt/media/image30.png" ContentType="image/png"/>
  <Override PartName="/ppt/media/image11.png" ContentType="image/png"/>
  <Override PartName="/ppt/media/image6.wmf" ContentType="image/x-wmf"/>
  <Override PartName="/ppt/media/image29.wmf" ContentType="image/x-wmf"/>
  <Override PartName="/ppt/media/image31.png" ContentType="image/png"/>
  <Override PartName="/ppt/media/image7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wmf" ContentType="image/x-wmf"/>
  <Override PartName="/ppt/media/image25.wmf" ContentType="image/x-wmf"/>
  <Override PartName="/ppt/media/image15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8.wmf" ContentType="image/x-wmf"/>
  <Override PartName="/ppt/media/image26.jpeg" ContentType="image/jpeg"/>
  <Override PartName="/ppt/media/image20.wmf" ContentType="image/x-wmf"/>
  <Override PartName="/ppt/media/image17.png" ContentType="image/png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B18C-33FE-4A61-8AE9-46695F48E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330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59360"/>
            <a:ext cx="42591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A956-CABC-4498-BEED-0327A4E4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330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0782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39520" y="1599840"/>
            <a:ext cx="20782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59360"/>
            <a:ext cx="20782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39520" y="4059360"/>
            <a:ext cx="20782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FFD1-56FB-4FE0-AEC1-F585CA9C9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330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3712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97200" y="1599840"/>
            <a:ext cx="13712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37200" y="1599840"/>
            <a:ext cx="13712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59360"/>
            <a:ext cx="13712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97200" y="4059360"/>
            <a:ext cx="13712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37200" y="4059360"/>
            <a:ext cx="13712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7EB8-0DF4-4EB0-B114-C3A7AE925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330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425916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B265-908C-4A9F-A0E5-159138EE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330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D144-FA64-4067-9C9C-53961AC8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330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0782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39520" y="1599840"/>
            <a:ext cx="20782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8A45-ED33-4D23-93DC-958C3CFB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330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DB75-C6CE-4901-8231-9953C134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4330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0BDD-EF47-4090-ACDF-0155CF1C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330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0782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39520" y="1599840"/>
            <a:ext cx="20782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59360"/>
            <a:ext cx="20782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791B-6944-49BD-B747-B8807AB4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330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0782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39520" y="1599840"/>
            <a:ext cx="20782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39520" y="4059360"/>
            <a:ext cx="20782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6323-4E65-44F5-BE2A-6B2E94A5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330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0782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39520" y="1599840"/>
            <a:ext cx="20782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59360"/>
            <a:ext cx="42591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A07E-7EEB-4E80-9A13-27D9DC70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330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4259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A30E-E175-48CC-8CC7-12FA6F67E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330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tion 2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24000" y="1989000"/>
            <a:ext cx="3301920" cy="41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18CD-748A-490C-A41A-F2E22DFA442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338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99"/>
                </a:solidFill>
                <a:latin typeface="Tahoma"/>
              </a:rPr>
              <a:t>Chapter 8 Setting up the management system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48355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Management framework as a spreadsheet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3300"/>
                </a:solidFill>
                <a:latin typeface="Arial"/>
              </a:rPr>
              <a:t>The Stakeholder List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cc3300"/>
                </a:solidFill>
                <a:latin typeface="Arial"/>
              </a:rPr>
              <a:t>identification, engagement, requirement analysis, planning, implementation, control and evaluation 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3300"/>
                </a:solidFill>
                <a:latin typeface="Arial"/>
              </a:rPr>
              <a:t>Work Breakdown Structure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cc3300"/>
                </a:solidFill>
                <a:latin typeface="Arial"/>
              </a:rPr>
              <a:t>a process of decomposition whereby a complex project is broken up into smaller units of work that can be easily managed 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3300"/>
                </a:solidFill>
                <a:latin typeface="Arial"/>
              </a:rPr>
              <a:t>The Schedule: Milestones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cc3300"/>
                </a:solidFill>
                <a:latin typeface="Arial"/>
              </a:rPr>
              <a:t>dates that mark the conclusion of an important task 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cc3300"/>
                </a:solidFill>
                <a:latin typeface="Arial"/>
              </a:rPr>
              <a:t>Deliverables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cc3300"/>
                </a:solidFill>
                <a:latin typeface="Arial"/>
              </a:rPr>
              <a:t>Each milestone and its deliverable is a mini project 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884840" y="1052640"/>
            <a:ext cx="4259160" cy="1601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884840" y="4600440"/>
            <a:ext cx="4259160" cy="22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BD35-8CE4-47BE-A9AA-7A37B4909D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3920"/>
            <a:ext cx="79311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99"/>
                </a:solidFill>
                <a:latin typeface="Tahoma"/>
              </a:rPr>
              <a:t>Chapter 8 Setting up the management system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627552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Management framework as a spreadsheet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3300"/>
                </a:solidFill>
                <a:latin typeface="Arial"/>
              </a:rPr>
              <a:t>The Resources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cc3300"/>
                </a:solidFill>
                <a:latin typeface="Arial"/>
              </a:rPr>
              <a:t>outsource /inhouse and make/buy/hire decisions 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3300"/>
                </a:solidFill>
                <a:latin typeface="Arial"/>
              </a:rPr>
              <a:t>The budget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3300"/>
                </a:solidFill>
                <a:latin typeface="Arial"/>
              </a:rPr>
              <a:t>The program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me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3300"/>
                </a:solidFill>
                <a:latin typeface="Arial"/>
              </a:rPr>
              <a:t>The risk register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3300"/>
                </a:solidFill>
                <a:latin typeface="Arial"/>
              </a:rPr>
              <a:t>The site map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3300"/>
                </a:solidFill>
                <a:latin typeface="Arial"/>
              </a:rPr>
              <a:t>The event checklist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43280" y="1660680"/>
            <a:ext cx="4500720" cy="1912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876840" y="3645000"/>
            <a:ext cx="5267160" cy="2828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79280" y="3500280"/>
            <a:ext cx="3708360" cy="24814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31720" y="6093000"/>
            <a:ext cx="321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Photo courtesy of Peter Kagwa, Eventswarehouse, Ugand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C51D-79B6-40A4-9097-AEC3F7CF12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338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99"/>
                </a:solidFill>
                <a:latin typeface="Tahoma"/>
              </a:rPr>
              <a:t>Chapter 8 Setting up the management system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The developing event: a maturity model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c3300"/>
                </a:solidFill>
                <a:latin typeface="Arial"/>
              </a:rPr>
              <a:t>How events start and their pathway to growth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c3300"/>
                </a:solidFill>
                <a:latin typeface="Arial"/>
              </a:rPr>
              <a:t>Informal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c3300"/>
                </a:solidFill>
                <a:latin typeface="Arial"/>
              </a:rPr>
              <a:t>Formal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c3300"/>
                </a:solidFill>
                <a:latin typeface="Arial"/>
              </a:rPr>
              <a:t>Accountable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c3300"/>
                </a:solidFill>
                <a:latin typeface="Arial"/>
              </a:rPr>
              <a:t>Adaptable and improvable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0" y="3213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1ED6-8E9E-451D-BF68-A5E6476447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99"/>
                </a:solidFill>
                <a:latin typeface="Tahoma"/>
              </a:rPr>
              <a:t>Chapter 9 Event management process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cc3300"/>
                </a:solidFill>
                <a:latin typeface="Arial"/>
              </a:rPr>
              <a:t>From domains to a process model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c3300"/>
                </a:solidFill>
                <a:latin typeface="Arial"/>
              </a:rPr>
              <a:t>1. Domain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c3300"/>
                </a:solidFill>
                <a:latin typeface="Arial"/>
              </a:rPr>
              <a:t>2. Phase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c3300"/>
                </a:solidFill>
                <a:latin typeface="Arial"/>
              </a:rPr>
              <a:t>3. Processes that are employed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c3300"/>
                </a:solidFill>
                <a:latin typeface="Arial"/>
              </a:rPr>
              <a:t>A process is series of step by step tasks or activities repeated in the management of an event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c3300"/>
                </a:solidFill>
                <a:latin typeface="Arial"/>
              </a:rPr>
              <a:t>Process groups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2" marL="1005840" indent="-200880"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3300"/>
                </a:solidFill>
                <a:latin typeface="Arial"/>
              </a:rPr>
              <a:t>Scope: the integration and control of all the work flows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2" marL="1005840" indent="-200880"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3300"/>
                </a:solidFill>
                <a:latin typeface="Arial"/>
              </a:rPr>
              <a:t>Stakeholders including sponsorship management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2" marL="1005840" indent="-200880"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3300"/>
                </a:solidFill>
                <a:latin typeface="Arial"/>
              </a:rPr>
              <a:t>Design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2" marL="1005840" indent="-200880"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3300"/>
                </a:solidFill>
                <a:latin typeface="Arial"/>
              </a:rPr>
              <a:t>Marketing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2" marL="1005840" indent="-200880"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3300"/>
                </a:solidFill>
                <a:latin typeface="Arial"/>
              </a:rPr>
              <a:t>Finance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2" marL="1005840" indent="-200880"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33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2" marL="1005840" indent="-200880"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3300"/>
                </a:solidFill>
                <a:latin typeface="Arial"/>
              </a:rPr>
              <a:t>Risk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2" marL="1005840" indent="-200880"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3300"/>
                </a:solidFill>
                <a:latin typeface="Arial"/>
              </a:rPr>
              <a:t>Communication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2" marL="1005840" indent="-200880"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3300"/>
                </a:solidFill>
                <a:latin typeface="Arial"/>
              </a:rPr>
              <a:t>Procurement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2" marL="1005840" indent="-200880"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3300"/>
                </a:solidFill>
                <a:latin typeface="Arial"/>
              </a:rPr>
              <a:t>Human Resources</a:t>
            </a:r>
            <a:r>
              <a:rPr b="0" lang="en-AU" sz="1600" spc="-1" strike="noStrike">
                <a:solidFill>
                  <a:srgbClr val="cc33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1045-4234-4A93-A831-FC54EEE981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483760" cy="5949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42EF-7C94-4270-AEA3-6B733A950F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278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99"/>
                </a:solidFill>
                <a:latin typeface="Tahoma"/>
              </a:rPr>
              <a:t>Chapter 9 Event management process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0527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Process groups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Scope: the integration and control of all the work flows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787920" y="1125360"/>
          <a:ext cx="4849560" cy="518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7920" y="1125360"/>
                    <a:ext cx="484956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D388-8DF6-45DD-A099-BB774DFF89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715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99"/>
                </a:solidFill>
                <a:latin typeface="Tahoma"/>
              </a:rPr>
              <a:t>Chapter 9 Event management process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3640" y="3184560"/>
            <a:ext cx="231444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c3300"/>
                </a:solidFill>
                <a:latin typeface="Arial"/>
              </a:rPr>
              <a:t>Process groups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3300"/>
                </a:solidFill>
                <a:latin typeface="Arial"/>
              </a:rPr>
              <a:t>Stakeholders including sponsorship management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843280" y="1197000"/>
          <a:ext cx="6086520" cy="505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1197000"/>
                    <a:ext cx="6086520" cy="50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363E-5D48-446D-83E8-52D5C3E60C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330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99"/>
                </a:solidFill>
                <a:latin typeface="Tahoma"/>
              </a:rPr>
              <a:t>Chapter 9 Event management process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61952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c3300"/>
                </a:solidFill>
                <a:latin typeface="Arial"/>
              </a:rPr>
              <a:t>Process groups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3300"/>
                </a:solidFill>
                <a:latin typeface="Arial"/>
              </a:rPr>
              <a:t>Design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Event site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Programme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3300"/>
                </a:solidFill>
                <a:latin typeface="Arial"/>
              </a:rPr>
              <a:t>Marketing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Marketing mix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Promotion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448240" y="404640"/>
          <a:ext cx="36957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8240" y="404640"/>
                    <a:ext cx="36957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826920" y="3311640"/>
          <a:ext cx="3959280" cy="354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3311640"/>
                    <a:ext cx="3959280" cy="35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4ED4-2B35-4B86-A28D-D81D158284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139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99"/>
                </a:solidFill>
                <a:latin typeface="Tahoma"/>
              </a:rPr>
              <a:t>Chapter 9 Event management process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17808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c3300"/>
                </a:solidFill>
                <a:latin typeface="Arial"/>
              </a:rPr>
              <a:t>Process groups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3300"/>
                </a:solidFill>
                <a:latin typeface="Arial"/>
              </a:rPr>
              <a:t>Finance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Budget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Pricing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Cost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Cash flow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Pricing event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management services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995640" y="1341360"/>
          <a:ext cx="44611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341360"/>
                    <a:ext cx="44611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8049-ED30-48EA-972C-3E07EBA0B0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99"/>
                </a:solidFill>
                <a:latin typeface="Tahoma"/>
              </a:rPr>
              <a:t>Chapter 10 Event management processes – section</a:t>
            </a:r>
            <a:r>
              <a:rPr b="0" lang="en-AU" sz="2400" spc="-1" strike="noStrike">
                <a:solidFill>
                  <a:srgbClr val="333399"/>
                </a:solidFill>
                <a:latin typeface="Tahoma"/>
              </a:rPr>
              <a:t> two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0527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Time management process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cc3300"/>
                </a:solidFill>
                <a:latin typeface="Arial"/>
              </a:rPr>
              <a:t>Event Date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cc3300"/>
                </a:solidFill>
                <a:latin typeface="Arial"/>
              </a:rPr>
              <a:t>Deadline Management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211640" y="1341360"/>
          <a:ext cx="476424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341360"/>
                    <a:ext cx="476424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1054-94B6-499D-B6EA-D1CF1C9549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3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tion Two Management : Topics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8000" y="592200"/>
            <a:ext cx="5759640" cy="575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8723-F3BD-49A4-A007-981E1C5EAF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330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deadlin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5444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 immoveable deadline is one of the defining characteristic of most events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very decision and change must take into account the effect on the deadline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 deadline analysis flowchart is a universal process in the event management model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87840" y="620640"/>
          <a:ext cx="4556160" cy="56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7840" y="620640"/>
                    <a:ext cx="455616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7B1A-2A3F-4A1F-9D9F-32AD9AFA2C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99"/>
                </a:solidFill>
                <a:latin typeface="Tahoma"/>
              </a:rPr>
              <a:t>Chapter 10 Event management processes – section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w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7480"/>
            <a:ext cx="325116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Risk Management Process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cc3300"/>
                </a:solidFill>
                <a:latin typeface="Arial"/>
              </a:rPr>
              <a:t>Operational Risk and Upstream Design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995640" y="1052640"/>
          <a:ext cx="4854600" cy="55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052640"/>
                    <a:ext cx="48546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68360" y="3933720"/>
            <a:ext cx="3241800" cy="2157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18840" y="6224760"/>
            <a:ext cx="25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Queen’s Baton Relay 2010, Namibia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Photo courtesy of Maxxam Events Internati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76E8-C838-4687-A5C2-8FEFE5E871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99"/>
                </a:solidFill>
                <a:latin typeface="Tahoma"/>
              </a:rPr>
              <a:t>Chapter 10 Event management processes – section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w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467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Communication process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cc3300"/>
                </a:solidFill>
                <a:latin typeface="Arial"/>
              </a:rPr>
              <a:t>External Communication – Promotion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3300"/>
                </a:solidFill>
                <a:latin typeface="Arial"/>
              </a:rPr>
              <a:t>Internal Staff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cc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cc3300"/>
                </a:solidFill>
                <a:latin typeface="Arial"/>
              </a:rPr>
              <a:t>Documentation/Office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cc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cc3300"/>
                </a:solidFill>
                <a:latin typeface="Arial"/>
              </a:rPr>
              <a:t>Administration Manual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cc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cc3300"/>
                </a:solidFill>
                <a:latin typeface="Arial"/>
              </a:rPr>
              <a:t>IT system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cc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cc3300"/>
                </a:solidFill>
                <a:latin typeface="Arial"/>
              </a:rPr>
              <a:t>Internal Volunteers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cc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cc3300"/>
                </a:solidFill>
                <a:latin typeface="Arial"/>
              </a:rPr>
              <a:t>Meetings, briefings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3300"/>
                </a:solidFill>
                <a:latin typeface="Arial"/>
              </a:rPr>
              <a:t>Internal – during event :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cc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cc3300"/>
                </a:solidFill>
                <a:latin typeface="Arial"/>
              </a:rPr>
              <a:t>Onsite Communication systems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cc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cc3300"/>
                </a:solidFill>
                <a:latin typeface="Arial"/>
              </a:rPr>
              <a:t>Operation manual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3300"/>
                </a:solidFill>
                <a:latin typeface="Arial"/>
              </a:rPr>
              <a:t>External – stakeholders: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cc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cc3300"/>
                </a:solidFill>
                <a:latin typeface="Arial"/>
              </a:rPr>
              <a:t>Progress Reporting such as legal requirements 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cc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cc3300"/>
                </a:solidFill>
                <a:latin typeface="Arial"/>
              </a:rPr>
              <a:t>Promoting (audience)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cc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cc3300"/>
                </a:solidFill>
                <a:latin typeface="Arial"/>
              </a:rPr>
              <a:t>Development (sponsors)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284720" y="1700280"/>
          <a:ext cx="4789440" cy="44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00280"/>
                    <a:ext cx="4789440" cy="44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6FB0-B730-47E0-B800-0EC3B4E851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99"/>
                </a:solidFill>
                <a:latin typeface="Tahoma"/>
              </a:rPr>
              <a:t>Chapter 10 Event management processes – section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w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Procurement Process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cc3300"/>
                </a:solidFill>
                <a:latin typeface="Arial"/>
              </a:rPr>
              <a:t>Contract management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Human Resources Process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cc3300"/>
                </a:solidFill>
                <a:latin typeface="Arial"/>
              </a:rPr>
              <a:t>HR and Delegation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09520" y="2997360"/>
          <a:ext cx="3463920" cy="37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2997360"/>
                    <a:ext cx="3463920" cy="37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425840" y="1486080"/>
          <a:ext cx="4216680" cy="453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5840" y="1486080"/>
                    <a:ext cx="421668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1E6B-87A0-46FE-A649-32B872448A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330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99"/>
                </a:solidFill>
                <a:latin typeface="Tahoma"/>
              </a:rPr>
              <a:t>Chapter 11 Event metrics and checklist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4321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cc3300"/>
                </a:solidFill>
                <a:latin typeface="Arial"/>
              </a:rPr>
              <a:t>Metrics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3300"/>
                </a:solidFill>
                <a:latin typeface="Arial"/>
              </a:rPr>
              <a:t>Exposure Profile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cc3300"/>
                </a:solidFill>
                <a:latin typeface="Arial"/>
              </a:rPr>
              <a:t>Return on Investment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c3300"/>
                </a:solidFill>
                <a:latin typeface="Arial"/>
              </a:rPr>
              <a:t>(Income − Cost)/Cost</a:t>
            </a:r>
            <a:r>
              <a:rPr b="0" lang="en-AU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cc3300"/>
                </a:solidFill>
                <a:latin typeface="Arial"/>
              </a:rPr>
              <a:t>Compare investments – a commensurable variable 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3300"/>
                </a:solidFill>
                <a:latin typeface="Arial"/>
              </a:rPr>
              <a:t>Return on Objectives (ROO)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cc3300"/>
                </a:solidFill>
                <a:latin typeface="Arial"/>
              </a:rPr>
              <a:t>The general process of ROI analysis is: 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cc3300"/>
                </a:solidFill>
                <a:latin typeface="Arial"/>
              </a:rPr>
              <a:t>Establish the client of the ROI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cc3300"/>
                </a:solidFill>
                <a:latin typeface="Arial"/>
              </a:rPr>
              <a:t>Establish objective of the client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cc3300"/>
                </a:solidFill>
                <a:latin typeface="Arial"/>
              </a:rPr>
              <a:t>Create a system for correctly costing the event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cc3300"/>
                </a:solidFill>
                <a:latin typeface="Arial"/>
              </a:rPr>
              <a:t>Analyse the elements of the event that directly contribute to the income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cc3300"/>
                </a:solidFill>
                <a:latin typeface="Arial"/>
              </a:rPr>
              <a:t>Analysis of the elements that indirectly contribute to the income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cc3300"/>
                </a:solidFill>
                <a:latin typeface="Arial"/>
              </a:rPr>
              <a:t>Develop a measure for the intangible aspects 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cc3300"/>
                </a:solidFill>
                <a:latin typeface="Arial"/>
              </a:rPr>
              <a:t>Establish the time frame of the incoming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cc3300"/>
                </a:solidFill>
                <a:latin typeface="Arial"/>
              </a:rPr>
              <a:t>Analyse the efficiency of the elements of the event to deliver the incoming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3321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716360" y="3454560"/>
            <a:ext cx="4392720" cy="329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413F-C152-493A-AB89-B9D9E96C55E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86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99"/>
                </a:solidFill>
                <a:latin typeface="Tahoma"/>
              </a:rPr>
              <a:t>Chapter 7 Management models and the business cas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251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A model, processes, system or a Body of Knowledge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3300"/>
                </a:solidFill>
                <a:latin typeface="Arial"/>
              </a:rPr>
              <a:t>Qualities of a good model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The event management environment: Complexity and Uncertainty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181480" y="1700280"/>
          <a:ext cx="340056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700280"/>
                    <a:ext cx="340056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39640" y="4076640"/>
            <a:ext cx="3600720" cy="2473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93520" y="6492960"/>
            <a:ext cx="25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Olympic Torch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Photo courtesy of Maxxam Events Internati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1854-8808-41E8-9240-06D1008ACC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570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99"/>
                </a:solidFill>
                <a:latin typeface="Tahoma"/>
              </a:rPr>
              <a:t>Chapter 7 Management models and the business cas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0527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mplexity due to: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Number of stakeholders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Number of reciprocal dependencies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Multi-objectives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Number of changes or modifications to both the product and the project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Uncertainty of goals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Uncertainty of methods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700360" y="1424160"/>
          <a:ext cx="6229440" cy="48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424160"/>
                    <a:ext cx="6229440" cy="48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9415-4181-40D6-9622-CBFA49923B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99"/>
                </a:solidFill>
                <a:latin typeface="Tahoma"/>
              </a:rPr>
              <a:t>Chapter 7 Management models and the business cas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435636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Dynamic System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ynamic – change on many levels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Tightly coupled – changes in one area of the management will quickly affect other areas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Governed by feedback – any action will have a result that will influence other similar actions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Nonlinear – effect and cause are rarely proportional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History dependent – actions are mostly irreversible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Self-organising – semi-autonomous groups or teams 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Adaptive – can quickly respond to changes to minimise their negative impact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ounterintuitive – difficult to exactly predict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Policy resistive – difficult to comprehend and therefore control using linear methods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haracterised by trade-offs – the effects of a decision in one area of event management will be traded against the results in other areas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716360" y="1197000"/>
          <a:ext cx="4430880" cy="36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197000"/>
                    <a:ext cx="4430880" cy="36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A368-F0B5-4C22-84A1-DFDCEF7800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99"/>
                </a:solidFill>
                <a:latin typeface="Tahoma"/>
              </a:rPr>
              <a:t>Chapter 7 Management models and the business cas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cc3300"/>
                </a:solidFill>
                <a:latin typeface="Arial"/>
              </a:rPr>
              <a:t>Phases of event management and the event life cycle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cc3300"/>
                </a:solidFill>
                <a:latin typeface="Arial"/>
              </a:rPr>
              <a:t>Idea – concept development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cc3300"/>
                </a:solidFill>
                <a:latin typeface="Arial"/>
              </a:rPr>
              <a:t>Feasibility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cc3300"/>
                </a:solidFill>
                <a:latin typeface="Arial"/>
              </a:rPr>
              <a:t>Planning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cc3300"/>
                </a:solidFill>
                <a:latin typeface="Arial"/>
              </a:rPr>
              <a:t>Implementation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cc3300"/>
                </a:solidFill>
                <a:latin typeface="Arial"/>
              </a:rPr>
              <a:t>Setup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cc3300"/>
                </a:solidFill>
                <a:latin typeface="Arial"/>
              </a:rPr>
              <a:t>Event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cc3300"/>
                </a:solidFill>
                <a:latin typeface="Arial"/>
              </a:rPr>
              <a:t>Shutdown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cc3300"/>
                </a:solidFill>
                <a:latin typeface="Arial"/>
              </a:rPr>
              <a:t>Intangibility of outcomes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cc3300"/>
                </a:solidFill>
                <a:latin typeface="Arial"/>
              </a:rPr>
              <a:t>ROI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cc3300"/>
                </a:solidFill>
                <a:latin typeface="Arial"/>
              </a:rPr>
              <a:t>ROO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cc3300"/>
                </a:solidFill>
                <a:latin typeface="Arial"/>
              </a:rPr>
              <a:t>ROE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00720" y="3357720"/>
            <a:ext cx="4324320" cy="2890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428800" y="6381720"/>
            <a:ext cx="259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Photo courtesy of Maxxam Events Internati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096A-BD4E-4304-9A05-CF231A0F5C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99"/>
                </a:solidFill>
                <a:latin typeface="Tahoma"/>
              </a:rPr>
              <a:t>Chapter 7 Management models and the business cas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c3300"/>
                </a:solidFill>
                <a:latin typeface="Arial"/>
              </a:rPr>
              <a:t>The Business case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cc3300"/>
                </a:solidFill>
                <a:latin typeface="Arial"/>
              </a:rPr>
              <a:t>The business case is the justification to proceed with an event from a business point of view.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c3300"/>
                </a:solidFill>
                <a:latin typeface="Arial"/>
              </a:rPr>
              <a:t>A template for a business case will include the headings: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cc3300"/>
                </a:solidFill>
                <a:latin typeface="Arial"/>
              </a:rPr>
              <a:t>Date:</a:t>
            </a:r>
            <a:r>
              <a:rPr b="0" lang="en-AU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cc3300"/>
                </a:solidFill>
                <a:latin typeface="Arial"/>
              </a:rPr>
              <a:t>                         Event:</a:t>
            </a:r>
            <a:r>
              <a:rPr b="0" lang="en-AU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cc3300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cc3300"/>
                </a:solidFill>
                <a:latin typeface="Arial"/>
              </a:rPr>
              <a:t>Event Description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cc3300"/>
                </a:solidFill>
                <a:latin typeface="Arial"/>
              </a:rPr>
              <a:t>Target Audience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cc3300"/>
                </a:solidFill>
                <a:latin typeface="Arial"/>
              </a:rPr>
              <a:t>Company Participation &amp; Staffing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cc3300"/>
                </a:solidFill>
                <a:latin typeface="Arial"/>
              </a:rPr>
              <a:t>Required resources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cc33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cc3300"/>
                </a:solidFill>
                <a:latin typeface="Arial"/>
              </a:rPr>
              <a:t>Company benefits: Direct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cc3300"/>
                </a:solidFill>
                <a:latin typeface="Arial"/>
              </a:rPr>
              <a:t>Company benefits: Indirect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cc3300"/>
                </a:solidFill>
                <a:latin typeface="Arial"/>
              </a:rPr>
              <a:t>Action recommended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A9BE-243A-4EDE-8504-FCE90B5145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99"/>
                </a:solidFill>
                <a:latin typeface="Tahoma"/>
              </a:rPr>
              <a:t>Chapter 8 Setting up the management system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663588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Event project methodology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c3300"/>
                </a:solidFill>
                <a:latin typeface="Arial"/>
              </a:rPr>
              <a:t>Management framework during the feasibility/initiation phase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3300"/>
                </a:solidFill>
                <a:latin typeface="Arial"/>
              </a:rPr>
              <a:t>Scoping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3300"/>
                </a:solidFill>
                <a:latin typeface="Arial"/>
              </a:rPr>
              <a:t>Drafting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12988" t="13239" r="0" b="0"/>
          <a:stretch/>
        </p:blipFill>
        <p:spPr>
          <a:xfrm>
            <a:off x="2916360" y="2200320"/>
            <a:ext cx="6227640" cy="46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9C80-A0F1-420E-9B17-4198F2EF3C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338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99"/>
                </a:solidFill>
                <a:latin typeface="Tahoma"/>
              </a:rPr>
              <a:t>Chapter 8 Setting up the management system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76244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Management framework as a spreadsheet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3300"/>
                </a:solidFill>
                <a:latin typeface="Arial"/>
              </a:rPr>
              <a:t>Contents page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2" marL="1017000" indent="-203400"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cc3300"/>
                </a:solidFill>
                <a:latin typeface="Arial"/>
              </a:rPr>
              <a:t>Link to all spreadsheets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3300"/>
                </a:solidFill>
                <a:latin typeface="Arial"/>
              </a:rPr>
              <a:t>The scope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2" marL="1017000" indent="-203400"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cc3300"/>
                </a:solidFill>
                <a:latin typeface="Arial"/>
              </a:rPr>
              <a:t>The objectives of the event as well as the major responsibilities and assumptions 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3300"/>
                </a:solidFill>
                <a:latin typeface="Arial"/>
              </a:rPr>
              <a:t>The organisation structure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2" marL="1017000" indent="-203400"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cc3300"/>
                </a:solidFill>
                <a:latin typeface="Arial"/>
              </a:rPr>
              <a:t>Temporary organisation structure that is time based 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5267160" cy="1324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165640" y="765000"/>
            <a:ext cx="3978360" cy="271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EF41-BD91-4A6D-B952-E61C7756B4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07:04:02Z</dcterms:created>
  <dc:creator>Bill</dc:creator>
  <dc:description/>
  <dc:language>en-US</dc:language>
  <cp:lastModifiedBy>Bill</cp:lastModifiedBy>
  <dcterms:modified xsi:type="dcterms:W3CDTF">2010-11-12T07:46:08Z</dcterms:modified>
  <cp:revision>37</cp:revision>
  <dc:subject/>
  <dc:title>Slide 1</dc:title>
</cp:coreProperties>
</file>