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E346-B422-4B86-9F81-269F0F16D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4A23-84FD-4579-A0BC-6DC51338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94BE-A840-44DF-A800-CCDCB65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318A-E7EF-422B-B8F5-062544F3F4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A1290-6493-4832-B8D3-77675B2EE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91E1E-549E-4875-B354-821B6C1D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3EABE-8A5F-448B-B35D-7AAAB837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C81B0-2535-4587-9B67-146B7C3F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63CEB-B0AE-44F3-9FD2-B735AA85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4F53F-9A93-4F41-8EE6-527E6927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71D9D-FE4F-4124-9C63-4743FA8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D347-E954-4F53-A69C-F040E318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37B1B-4E62-47F2-BD61-6BB95F9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E332A-57A2-4086-8A67-B0F6A64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A0FDB-AE43-42E2-96AF-1FB73921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6AF29-AA32-4FE5-B393-2190C50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CC372-7AF0-4ED7-A492-39C3D72B0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B9C0-7373-4525-A7CF-6433BEA15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518-C0B4-4E30-ADCE-AA88246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2EF-4457-4B3E-B8E1-383022D5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B373-2510-4696-A1D1-091B04B4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C6B5-8D11-4349-8DBB-C02738EA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390C-D987-497E-8DC1-945AE572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84E0-1A31-4EC9-A1C3-37C798EE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C833-7770-4F99-9B51-3F15D73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301-2752-4241-9A66-04453950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3FE-230B-49CC-BFA5-DA4A889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C43F-9FCC-45EA-9FCE-92BEA41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43D5-1329-42D3-B9AF-580F5C4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9150-4B8C-48C6-87D9-843250F53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F55E0-BD2D-43B8-8E7C-01719ED88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4E96C-E91E-44CF-A66D-0FA3607D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67AE3-0EC3-420A-96D5-8B0CD473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B030-A9AD-481E-981F-FE9D0212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7C70E-C606-4FA2-9B93-6BDE995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CBF12-9DC0-42E9-B01D-7821B55E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5AECE-7B82-4E6A-8765-CB5C238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DD9DF-67D2-45CC-8E3D-B2CAE7C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8C585-B485-45DC-B7AC-5BB52D0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1F7ED-2322-4A33-9129-2B85400B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7B1FD-16BC-4EF2-AB4E-6B3CD15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AF367-7389-473D-B02F-DD7A9B45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FE92C-14BF-4632-9961-A39DD6C5E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6D013-4996-40AB-8BA6-7F62C2894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8472-08F3-41E7-806B-0A5E1435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93AC8-F03E-4ED2-9F48-8283F615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31EFE-C2B9-44E1-9CD9-9E26A73C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E5751-2D1B-4D14-B70D-D4259749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A443F-53AF-428A-81F3-E63C6FBD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94529-7A32-4E2C-9D44-2A19D619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F95F6-3D4A-4C4C-8789-9F4A144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E1946-8042-4B83-BD3B-0A852D4C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690FD-3223-415B-9218-D3878E64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BD891-6B84-4425-AEE5-DAA59A1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BBB7D-66F9-4828-AF21-AF6B9D1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8138-9E6D-47CC-8DCE-516AAE02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16FB1-62C0-4EBC-AE0D-CD2C11DB8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A602-D714-4753-8E88-9848D48C4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F43A6-7954-486F-910F-5AF97251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DA75-E879-4002-B384-282D7FC1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0DFF-0866-4DD9-8C9F-A3BD1AB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0546-48F2-4049-A3E5-72023FDA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CC63-BFD7-4EE4-9C14-B941C852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5088-F8C0-43E1-89E3-ECDBB47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9A13-761B-48A7-B3C8-A5D05F9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7B3E-9094-4896-8ACB-DCEFD804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A46C-8F3F-42B6-AADF-4852C9DF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1E69-A734-4D0E-9156-4163E36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324B-49C5-4932-B342-5BA4A5C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18DB-88FF-4995-9E84-8E4CB0818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70A30-80A0-441A-AC72-2033F3343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D7D95-7219-4263-BFE2-8350405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D1698-1A3E-4D65-B9F1-632CD964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1A9CC-74DD-4FE0-8622-2C51CF71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D4FB2-5B4E-4A6C-A3E7-80E5215A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F87FF-23CD-484F-8344-744F036E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21280-957C-41BC-8E26-0169E93B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004D-CBD0-45F9-B161-124C68CE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97EAF-15BA-4612-9FA9-0A7FB09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7FC52-E5E1-4363-980B-01C533B5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9E54C-0093-413D-AEB8-B2979AC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AA7B4-5F1C-4EB9-A223-7EBA5FA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3FDCD-5622-4E67-8D09-B7DC1B099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3F278-47DA-4DAC-A0AC-2802496EA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551D08-D373-42F4-9233-8010301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0B4739-5DB2-48B4-AE11-C7FA40A2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97429-9CF6-481B-B457-A5848017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BBCF0-3394-44DB-80FA-F77361AB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A24B-004F-4C35-8C1B-E4D498E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26C7E-2FDB-4FAB-992E-879B1E40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E97799-FD3C-4BDF-9B5B-4BF545D4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E3C61F-14E9-4BB2-9307-4C41136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3C657-98C9-4A89-B68C-DA69E249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2880"/>
            <a:ext cx="82281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6C34FC-53D8-43B9-98C7-471FD9DB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520" y="121896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520" y="3782880"/>
            <a:ext cx="4015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0DCA9-E484-40A5-965D-9A2B669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28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1360" y="121896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28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1360" y="3782880"/>
            <a:ext cx="264924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2F603-9FC4-481F-9433-83A75E2F1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7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898720" y="635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979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1C63A-E303-4930-B545-8C020B8BA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720"/>
            <a:ext cx="12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AF4BFC5-68DD-4D92-91CF-ADE5BA32BCA5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1069920" y="6354720"/>
            <a:ext cx="151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6854C-D15E-4CE8-935A-106EB6A04E20}" type="slidenum"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6C41-8B9F-41D0-B83F-9DA368117AF6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173B-C57D-483A-8CE8-41DC5D4EC1C0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0362A-DE76-40B4-8A22-9A869310B730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F88F-EC50-47EF-A820-81A71BE131CD}" type="slidenum">
              <a:rPr b="0" lang="en-US" sz="1400" spc="-1" strike="noStrike">
                <a:solidFill>
                  <a:srgbClr val="dde9ec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cap="sq" w="9360">
            <a:solidFill>
              <a:srgbClr val="9fb8c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64F24-4792-45E0-BBCF-B221E8F4440E}" type="slidenum">
              <a:rPr b="0" lang="en-US" sz="1400" spc="-1" strike="noStrike">
                <a:solidFill>
                  <a:srgbClr val="464653"/>
                </a:solidFill>
                <a:latin typeface="Gill Sans MT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186000" cy="12668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657600" y="5181480"/>
            <a:ext cx="440064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8305920" y="5791320"/>
            <a:ext cx="647640" cy="86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295280" y="0"/>
            <a:ext cx="66294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2 CRM: Why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Increasing Number of High-Quality Competitors an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nsumers faced an unlimited number of new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aced an unlimited number of new, high-quality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ifficult for companies to stand 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systems were the technique that would enable companies to develop bonds with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2 CRM: Why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219320"/>
            <a:ext cx="82296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Increasing Number of High-Quality Competitors an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nsumers faced an unlimited number of new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aced unlimited number of new, high-quality cho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ifficult for companies to stand 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systems were the technique that would enable companies to develop bonds with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rosion of Traditional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oise” in marketplace makes it difficult to promote pro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hange in the pace of lif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roduction of Intern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3 Organizations’ Experiences with CRM: Success or Failure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uccess is difficult to deter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uccess metrics must be determined in advance of CRM installation and implemen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without performance metrics, CRM does not work and cannot be considered val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he need for companies to communicate with, and to manage, their customer base is the core of any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any companies have gone into CRM efforts without clearly stated goals, making assessment of CRM failure specio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3 Organizations’ Experiences with CRM: Success or Failure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Why some systems f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adequate support from to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o CRM champion within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adequate financial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upply-chain partners not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o specification regarding who own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oor-qual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echnology the focus instead of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erformance metrics not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ack of change-managemen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mployees not “sold” on customer-centric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4 Challenges in Implementing CRM and How the Many Barriers Can Be Overco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roducing CRM systems into any organization requires a great deal of ch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will affect the ways that things have been traditionally d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iverse stakeholder group makes it more difficult for the organization to implement the changes needed for suc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ompanies can overcome barriers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eg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res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21276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4 Challenges in Implementing CRM and How the Many Barriers Can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1219320"/>
            <a:ext cx="4267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adopt a relationship marketing philosophy across all functional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detail and communicate the benefits of a CRM orientation to all managers and sta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op executive support must be obtained and maintained throughout CRM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Business strategies must drive CRM development rather than the other way arou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1219320"/>
            <a:ext cx="464832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f separate “quick-results” CRM projects are being implemented as opposed to an all-encompassing CRM suite, then these separate projects must be integrated and functionally align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include both IT and business unit managers in CRM start-up te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ustomer data must be integrated and maintain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s must build a business case and conduct a business analysis before deciding on a CRM solu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uccess metrics must be developed to assess the effectiveness of the CRM eff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5 Developing CRM from a Tactical Perspe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21932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hecklist for customer servic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he importance of the customer contact centers (CCC) cannot be underestim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ain customer touch poi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CC personnel are critical links to the CRM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evelop a profiling technique to hire best applic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rovide complete customer profiles and adjust information based 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ut process blueprint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ustomer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use databases more effective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egment and identify the value of seg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build customer relationshi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5 Developing CRM from a Tactical Perspe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219320"/>
            <a:ext cx="8229600" cy="50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roduc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ation’s needs and CRM goals ar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products must be selected based on the company’s need to provide greater value to its custome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ix-Step Time Line of CRM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ablish a strategic plan for CRM system activities quantifying goals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imate the impacts on ongo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mmunicate the relationship marketing philosophy from the top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Build the CRM platform technology to solve the problems f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Organize to expedite the development of the CR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ablish CRM program metrics to measure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6 Extending the Meaning and Application of CR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RM includes more constituencies than merely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 has been extended to include all members who might find it beneficial to collabo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s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facilitating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very relationship is dependent upon the quality, relevance, consistency, and value of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veryone in the organization can be a beneficiary of a CR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Section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CRM Theory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512460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Chapter 2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Bookman Old Style"/>
                <a:ea typeface="Microsoft YaHei"/>
              </a:rPr>
              <a:t>The History and Development of C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Relationship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maintaining a continuous relationship with customers and building long-term bo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ong-term bonds teach companies more about the customer’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knowledge of a customer’s needs allows companies to provide personalized and one-on-one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Marketing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easures customer satisfac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market segments as opposed to individu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219320"/>
            <a:ext cx="822960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B2B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underlying process involves relationships in which two parties are acquainted and through dialogue, associations become stronger and dee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Materials Resource Planning (M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production planning and inventory systems in order to manage manufacturing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Enterprise Resource Planning (E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ater version of MR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automates a company’s system integration through a software 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1219320"/>
            <a:ext cx="82296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ompany that integrated traditional MRP functions with accou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stablished customer data warehou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ustomer Contact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telemarketing technology led to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new technologies and evaluation metrics are constantly introduc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ales-Force Auto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eveloped and introduced to improve the capture of customer and prospect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vides real-time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ampaign Managemen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introduced to contain excessive costs associated with media buys for mass-marketing promotional campaig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Point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CRM systems started with the goal of satisfying the needs of a single department or fun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CRM Suit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developed to integrate all of the point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must be consistently upgra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219320"/>
            <a:ext cx="82296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ffusion of Personal Comp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every desktop had the capability to analyze customer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ed to company divisions having the ability 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manipulate their own custom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evelop their own marketing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assess their own performance (without regard to what headquarters was d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Analytical C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SPSS, SAS, and personal computers laid found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analysts are able to study product movement by multiple variab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rect-Response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vides identification of individual target prospects, personalized communications and messages, and measures of suc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toll-free c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direct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Relational Datab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allow companies to identify, access, manipulate, and share customer information across depart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icrosoft YaHei"/>
              </a:rPr>
              <a:t>2.1 The Origins of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219320"/>
            <a:ext cx="822960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Industrial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ooks at interaction theories and relationship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focuses on trust and commitment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Service Mark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looks at service quality, satisfaction, and the need to maintain one’s customer b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icrosoft YaHei"/>
              </a:rPr>
              <a:t>4 P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d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l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omo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Microsoft YaHei"/>
              </a:rPr>
              <a:t>pr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7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000920" y="5562720"/>
            <a:ext cx="21430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03:51Z</dcterms:created>
  <dc:creator>Lauren</dc:creator>
  <dc:description/>
  <dc:language>en-US</dc:language>
  <cp:lastModifiedBy>Lauren</cp:lastModifiedBy>
  <dcterms:modified xsi:type="dcterms:W3CDTF">2012-06-16T11:17:18Z</dcterms:modified>
  <cp:revision>39</cp:revision>
  <dc:subject/>
  <dc:title>Slide 1</dc:title>
</cp:coreProperties>
</file>