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B97-C2A5-41DF-8311-6FE4DEDC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7D9-3DFD-47CF-8403-2A13EECC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2BB-824C-4BE6-9BE4-3261FB9C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0B1-463D-4A50-87B6-A384A480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DC4F-2BC3-4707-8177-280B679B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974C-28A2-4EF4-9034-F99A1565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6D2-5EE2-4E07-B854-BB439279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0F53-A0A0-423F-B46B-E09DBE09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267-909F-4D3B-9079-33907AB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C4B-AA03-4F3E-A85C-4D398D3E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A002-6188-476E-BD50-FCE1534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FF7-7093-4326-B860-E6B133A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8126-4C51-4F09-B76C-3183BAE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C98-6CD2-4B87-A3DD-A33EB27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184-A2D7-4ED3-BFE5-3F25D4B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167-B16E-4B3F-9F1C-A9024CF3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B54-52E6-4B36-ACCF-8C01321C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6A4-8CE6-44BF-AF75-26B6D91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F35-99CE-47B4-A143-04CB0B1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99B-4E2E-4DBA-91D0-1BBCC4F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988-4D14-4B3E-BDF8-7E227F3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7A5-2403-4CB3-8CB0-5A2CB1A6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E71-BEE6-43BD-A745-5707BB30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66C-74EE-48CC-B3C3-D676295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7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A87-E809-4C5C-98BA-FFF4EAE19C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B2CA-5528-48E2-83FB-479CFE90D2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7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304920" y="380880"/>
            <a:ext cx="8610480" cy="201600"/>
            <a:chOff x="304920" y="38088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304920" y="38088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175200" y="38088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6045480" y="38088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7A21-71B9-4D6C-A796-A3489B1D8EE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BA57-6EAF-496A-963D-7BB78DD6C3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95320" y="1218960"/>
            <a:ext cx="4343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bf1f"/>
                </a:solidFill>
                <a:latin typeface="Times New Roman"/>
              </a:rPr>
              <a:t>Human Origins</a:t>
            </a:r>
            <a:endParaRPr b="1" lang="en-US" sz="48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876920" y="3429000"/>
            <a:ext cx="39621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HuntColander14eCoverImage"/>
          <p:cNvPicPr/>
          <p:nvPr/>
        </p:nvPicPr>
        <p:blipFill>
          <a:blip r:embed="rId1"/>
          <a:stretch/>
        </p:blipFill>
        <p:spPr>
          <a:xfrm>
            <a:off x="426960" y="838080"/>
            <a:ext cx="3714840" cy="4648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952880" y="5775480"/>
            <a:ext cx="419112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 any public performances or display, including transmission of any image over a network; preparation of any derivative work, including the extraction, in whole or in part, of any images; any rental, lease, or lending of the program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5" descr="Hunt cover.jpg"/>
          <p:cNvPicPr/>
          <p:nvPr/>
        </p:nvPicPr>
        <p:blipFill>
          <a:blip r:embed="rId2"/>
          <a:stretch/>
        </p:blipFill>
        <p:spPr>
          <a:xfrm>
            <a:off x="152280" y="762120"/>
            <a:ext cx="419112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7F2E-4911-40F0-BF00-C866E4FC246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1840-344D-4D88-8367-9A46FDD1566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f1f"/>
                </a:solidFill>
                <a:latin typeface="Times New Roman"/>
              </a:rPr>
              <a:t>The Evolution of Human Beings:  Science, Faith, and Controversy</a:t>
            </a:r>
            <a:endParaRPr b="1" lang="en-US" sz="40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s Trial (19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evolution in public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s against teaching evolution not repealed until 1960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fic creatio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f, not science-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fe forms created spontane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pressure to include in texts,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ndorsed by scient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igent design the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A7F1-0ACF-4519-A8E0-EC31A47E42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F653-3477-43BE-9913-79412F630D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Timeline of Human Evolution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ne-celled organis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billions of years a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im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65 to 70 million years a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pelike spec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22 to 38 million years a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omini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6 to 10 million years ag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 sapiens (reasoning man, MODE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 habilis (man with tool-making ability, EXTIN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 erectus (upright man, EXTIN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8B4-8207-45E4-AC43-739BC7CB1B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42F-4932-4C61-8482-49BAA7405E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Lines of Descent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pic>
        <p:nvPicPr>
          <p:cNvPr id="148" name="Picture 7" descr="Ch 2_Page_2"/>
          <p:cNvPicPr/>
          <p:nvPr/>
        </p:nvPicPr>
        <p:blipFill>
          <a:blip r:embed="rId1"/>
          <a:stretch/>
        </p:blipFill>
        <p:spPr>
          <a:xfrm>
            <a:off x="1828800" y="1828800"/>
            <a:ext cx="56307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43E-3DCA-4A92-9A02-7C439FEACE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52D-B2AC-45CC-B068-93E479A65C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Apes and Humans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imila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for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, coope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pos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F122-A928-4220-BA59-4D6F977216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04A6-4FCC-4FCC-B4F2-4A3BDD9FEC9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Emergence of Homo Sapiens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erectus changes into two 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 (modern hum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omo sapie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larger brains, better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s about 200,000-300,000 years ago, possibly lo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ants all other homin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estors of all moder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ly follows Cro-Magn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3B7-A1CF-4062-A28C-A19D843A88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FFEC-EB8F-4F49-AF48-D6760BE883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Modern Humans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ly distin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ly sophisti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ly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a begins as Stone Age 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ical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uman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9791-25DB-4244-A924-515955C0DD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9DFD-A320-4B13-B86B-216D6935ED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Origins of Human Species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odern scientists agre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appeared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5 to 7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e ances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 produced first humanlike cr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670E-950D-4A3A-B8F1-4A8C1FC8A5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D69-1A6F-4469-84EB-52BF52EC49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Darwin and Evolution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: process of progressiv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ized by English biologist Charles Darw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natural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Origin of Spec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Descent of M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um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363-B48A-4BDC-B42E-D80F1C8351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2163-586C-491E-8DB7-B96150DDDB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Concepts in Darwinian Evolution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not th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stotle, Lamarck, Linna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haracteristics more favorable for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ival of the fit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ion: random genetic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D183-EA31-400F-BCD3-DEA810E0A3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292-B935-4B2F-8C10-18C22EFE75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eut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enefic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a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cial mutations make evolution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ime, changes in species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dom or accid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by chemical/radiation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genetic level, involves changes in all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8B6-CCBB-447E-ACED-A4D6ED32C7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FE68-A60F-4BEA-A5D9-7C10AD8BC3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Genetic Engineering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 structure discovered in 19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splicing makes gene manipulation possible (1970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engineering: rearranging genetic materials to make new life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Genom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Sociobiology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 of sociological and biological reflections that theorize a genetic basic for human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O. Wilson, Harvard entomologist, is a leader in sociobi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97DF-073D-4315-B6E9-99A49E3F1B4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B375-87F6-45BD-AA06-ACD52F4F28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D1E3-EEEA-474E-8197-EB97B88922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f1f"/>
                </a:solidFill>
                <a:latin typeface="Times New Roman"/>
              </a:rPr>
              <a:t>Punctuated Equilibrium vs. </a:t>
            </a:r>
            <a:br>
              <a:rPr sz="4000"/>
            </a:br>
            <a:r>
              <a:rPr b="1" lang="en-US" sz="4000" spc="-1" strike="noStrike">
                <a:solidFill>
                  <a:srgbClr val="ffbf1f"/>
                </a:solidFill>
                <a:latin typeface="Times New Roman"/>
              </a:rPr>
              <a:t>Gradual Change</a:t>
            </a:r>
            <a:endParaRPr b="1" lang="en-US" sz="4000" spc="-1" strike="noStrike">
              <a:solidFill>
                <a:srgbClr val="ffbf1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sele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redge and G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eriods of stability, followed by sudden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and go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ro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31240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4, 2011 Pearson Education, Inc. All rights reserved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6B4-1B7A-452A-88AA-C7A977A6DA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8B1-30AA-493F-A87A-C3FEE4ED6B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f1f"/>
                </a:solidFill>
                <a:latin typeface="Times New Roman"/>
              </a:rPr>
              <a:t>Theories of Evolution</a:t>
            </a:r>
            <a:endParaRPr b="1" lang="en-US" sz="4400" spc="-1" strike="noStrike">
              <a:solidFill>
                <a:srgbClr val="ffbf1f"/>
              </a:solidFill>
              <a:latin typeface="Times New Roman"/>
            </a:endParaRPr>
          </a:p>
        </p:txBody>
      </p:sp>
      <p:pic>
        <p:nvPicPr>
          <p:cNvPr id="133" name="Picture 8" descr="Ch 2_Page_1"/>
          <p:cNvPicPr/>
          <p:nvPr/>
        </p:nvPicPr>
        <p:blipFill>
          <a:blip r:embed="rId1"/>
          <a:stretch/>
        </p:blipFill>
        <p:spPr>
          <a:xfrm>
            <a:off x="2590920" y="1523880"/>
            <a:ext cx="3987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tors Inc</dc:creator>
  <dc:description/>
  <dc:language>en-US</dc:language>
  <cp:lastModifiedBy>Maggie Barbieri</cp:lastModifiedBy>
  <dcterms:modified xsi:type="dcterms:W3CDTF">2013-07-03T13:52:19Z</dcterms:modified>
  <cp:revision>14</cp:revision>
  <dc:subject/>
  <dc:title>PowerPoint Presentation</dc:title>
</cp:coreProperties>
</file>