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789F-D555-4AC5-B0AD-3CFD6247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51D7-3634-4139-976C-269705480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469-7568-48E2-9FEE-29CB2B243B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509-6265-48E9-BAA7-2CD849F65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A83-83BA-4930-A40A-E8B09E3F4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F824-C4AC-424C-B531-CAFC91BB41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336-6BEF-49DD-B512-830C52B2B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CBBA-C40B-4749-9ADF-000082A400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CD85-BD08-4BDC-AE91-E9732EB01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EF2-225E-456B-A03E-E3289A9ED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E287-A858-4C3E-8960-EC9A292F27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2F1-F006-4387-A9E9-4799F4C2C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2C50-821F-41DA-A750-D458370F84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240-E1FB-4027-9CF7-A9D5716AD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689A-E89B-45BF-BA08-94A475D5F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AFFD-E38D-48B3-BB0C-4BDA62C806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525-E554-4EA1-9B64-F513DF8476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3607-0AFC-4B28-B552-D3BD48FE4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56E-064B-413F-ADA8-066ABDA3B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8D54-A79C-4655-95EE-4FB763B75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11BA-F397-4DF1-AF68-F4D4E834D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0D9A-606D-4A9B-A889-752B27E69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ED5-9E09-49BE-9C1D-F2AE8D0E68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757A-0FB4-41D1-9B2B-5A3B875D84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C48-967D-446A-940F-AC91B9BF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AE7-9CAB-4B0A-96F3-D1079F8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88B-31F3-4123-978B-8000D25F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72E-C8ED-41AA-ACD1-12F4B1D3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9F4-1AFE-4857-8B4C-96E429C1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C59C-A4F3-45E4-860F-87238F3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A88-7068-4A85-B44E-1EB7E288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FB56-320E-4535-AA9A-10AB099A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C0E-C3E5-4F91-9F86-06353B35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D900-3E3C-4906-86DE-AAABD909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3A8-D910-4E26-9646-973FB155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C4E-16C3-45FF-A938-00F435B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3A7C-F6B0-45DD-AD45-529EDBD4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D17-9657-4BCF-BD61-2DDCEEED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6544-2D89-4A81-AAF3-F82E4C3E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23A-E095-427F-91C1-7331A572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D187-F386-4A50-ACB3-C57F6398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A960-F3C1-48F0-978D-303540C8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16C5-C123-4CA2-9189-2B505DA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C8C2-5CBC-4AC3-AC91-7EA51E1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BB6B-3F3F-4200-B6AF-0142483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0F09-EAEA-43E8-90B9-D6BFE03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087-1336-46B6-BBF6-0E655F0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0E3F-95E7-45E8-85C9-EDF7B047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1D8B1-D767-4F1D-8461-B0D4D36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3AD0-E983-420E-A78D-9899F68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B87C-2BE4-4A8F-A702-8C1A5F5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ED3B-6375-41AB-932C-4D92F557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4EA7-33D7-4C1C-9868-2A533B1A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C814-BC0C-4FF6-8B61-BF7B0C87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86DD-B2D3-4966-8B16-2819CB91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9F9E-5E88-4B74-A8EE-C9D40C2D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7BB4-8F7D-494C-B2D5-87BFAAB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893-0D09-40F8-B04B-794FC79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C139-D2C4-44EB-A714-1AD6E34C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2F72-1B16-45B0-993A-C8EB39B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8D5F-24ED-4D3A-B0F0-AA1A5162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B5B04-35FD-4B0F-B437-D43B718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66928-F12C-4319-A8B6-4F60A444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137B-F777-4FB6-913F-C1BC6938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FC04-B6A4-45C8-81DE-042C31C9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F4C8-60E7-4842-B00B-FFAFD894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BE85-711B-4C91-B82E-55CE1E7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63BA-F9E9-40F6-A72D-D696CDD9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E7D-C66E-481C-B055-56D98235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4723A-D6FA-4DB3-9D63-0A533B5F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CAD3-116F-4D5F-AC37-998A4ED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65A4-24FD-4F67-87B0-AE2C0F31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3449C-0672-49BC-B41C-70A0BEC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079DD-CA89-46EA-AFD6-2B440566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941B7-BE38-4737-94E8-23B35E1D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B139E-274C-464C-8572-3B5C5D9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E0FB-F1C1-4A7A-8ED4-360A5CB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C449-2A96-4C0E-96BC-535B2B8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8EEE-1AED-4DD0-BE55-E3CA4A0C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522-640B-4C1B-86A2-AECE642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7CF4-4FAB-4585-AAB3-FFAAABA7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CF43-6DB7-45DC-8585-52F67857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8AB91-93AF-4004-9673-B57009B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3232-0226-44B9-BFD5-A3910215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9C819-3E84-44F3-9E87-A777189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0F34-F241-4FEC-B777-6D73FB9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84233-B47C-4038-9E8D-FCC01F88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4406-5008-4C39-A864-9D26F133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7D137-DFE6-4AC0-A81A-2C1944CD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D04C-CCEE-4B22-BC50-69DF059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741-C722-4610-A6DC-F24ADF9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6FC8-B728-4E0D-AFE9-50895C5A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FD04-60F9-4C21-B171-C803893E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67D6A-4A8D-48F3-8CF6-D0FD5EAD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813D2-24DF-4979-886C-DCD6A015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AE5CA-866E-472C-9A1B-7CA29C17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C721-79A7-47C1-B407-7054D5E1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3A71A-CF11-4E62-9509-E1630DBB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C90E-15C4-49EC-9B27-63ECB82C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B33C4-B5AF-4F04-A0D6-0E7DC9E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07A4-BBFE-4D10-B6B5-D7AC95A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EA7-81A0-4431-B96D-1BC12461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460E-5009-4866-ABFF-A2324E4C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9266-5003-44F8-AEF2-33EAE27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8AAB-919D-4B86-9B5F-AAE8E6B6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81259-51EE-49BF-A0FC-5133EC02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C29F2-702A-4F8C-9B42-5BFC9E3C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F1F-7ACE-4264-916D-320299E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7733-8FEC-4554-855E-9DF84982FDF7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C23-A0A0-49E5-9A84-F0E2FA382822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2F55-4511-4E11-A75D-47DFA8E6D457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A1A2-2F6B-49F4-90A0-5B805D85F60D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229-28CC-4A65-B5BC-99F58D802A6C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B62-2A53-4F5D-8E85-977A58C724F1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0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9FE-532A-411B-84B6-C769107BD4FF}" type="slidenum">
              <a:rPr b="0" lang="en-US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91ff"/>
                </a:solidFill>
                <a:latin typeface="Consolas"/>
              </a:rPr>
              <a:t>Women’s Lives:  A Psychological Exploration 3/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46c"/>
                </a:solidFill>
                <a:latin typeface="Corbel"/>
              </a:rPr>
              <a:t>Claire A. Etaugh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d46c"/>
                </a:solidFill>
                <a:latin typeface="Corbel"/>
              </a:rPr>
              <a:t>and Judith S. Bridg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d46c"/>
                </a:solidFill>
                <a:latin typeface="Corbel"/>
              </a:rPr>
              <a:t>Prepared by Claire Etaug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d46c"/>
                </a:solidFill>
                <a:latin typeface="Corbel"/>
              </a:rPr>
              <a:t>Bradley Universit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7eea"/>
                </a:solidFill>
                <a:latin typeface="Corbel"/>
              </a:rPr>
              <a:t>___________________________________________________________________</a:t>
            </a: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is multimedia product and its contents are protected under copyright law.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The following are prohibited by law: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preparation of any derivative work, including the extraction, in whole or in part, of any image;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-any rental, lease, or lending of the program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5" descr="Etaugh_3Edition cover image.jpg"/>
          <p:cNvPicPr/>
          <p:nvPr/>
        </p:nvPicPr>
        <p:blipFill>
          <a:blip r:embed="rId1"/>
          <a:stretch/>
        </p:blipFill>
        <p:spPr>
          <a:xfrm>
            <a:off x="5943600" y="1676520"/>
            <a:ext cx="2746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Based on Identity Lab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76212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ong-standing cultural norm that a woman is defined in terms of her relationship to a man (Gooding &amp; Kreider, 2010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ur impressions of women are influenced by her preferred title (Mrs., Miss, Ms) and by her choice of surname when she marri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ereotypes of women who prefer nontraditional forms of address might be due to the belief that they are in nontraditional ro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762120" y="5562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: Experiences and Attitu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62120" y="190476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Stereotypes and/or discriminatory behaviors that serve to restrict women’s roles and maintain male dominatio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acklash effec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n Hopki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914400" y="5105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2120" y="16765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Changes in sexist attitudes over tim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m has decreased in the U.S. since 1970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y be due in part to changes in legislati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anges over time may reflect decreased social acceptability of blatantly sexist views rather than real changes in belief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38080" y="5562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3712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Experiences with sexism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st girls and women experience sexism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men vary in their interpretation of sexist incident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men vary in their willingness to acknowledge their own experience with discrimination (Kobrynowicz &amp; Branscombe, 1997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6094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exism,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762120" y="1371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Ambivalent Sexism (Glick &amp; Fiske, 2007)</a:t>
            </a:r>
            <a:br>
              <a:rPr sz="28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dern sexism:  Belief that gender discrimination is no longer a problem in society and is manifested by harmful treatment of women in ways that appear to be socially acceptable (Swim, Becker et al., 2010)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ostile sexism:  Negative stereotypes of wome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enevolent sexism:   Positive characterizations such as “women are pure” or “women should be protected”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120" y="54864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20570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1:  Underrepresentation of femal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3808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85800" y="1904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2:  Underrepresentation of specific groups of femal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thnicity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uble standard of aging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 orient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62120" y="5715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21337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3:  Portrayal of gender-based social rol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6212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62120" y="22096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Pattern 4:  Depiction of female communion and male agency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38080" y="4800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762120" y="1904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d46c"/>
                </a:solidFill>
                <a:latin typeface="Corbel"/>
              </a:rPr>
              <a:t>Pattern 5:  Emphasis on female attractiveness and sexuality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lectronic medi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int media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cus on thinnes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ite beauty is valu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ve campaig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38080" y="5638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Chapter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Cultural Representation of Gender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914400" y="4876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Medi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2120" y="1981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Impact of gender-role media imag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izing effec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hapes our construction of gende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hapes our expectations of what females and males are lik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762120" y="5181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580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Language practices based on the assumption that male is normativ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sculine generic language:  Language that uses male terms but purports to be inclusive of males and female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potlighting: The practice of emphasizing an individual’s gende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iminutive suffixes for female term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62120" y="5562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62120" y="19807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Negative terms for femal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allel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hildlike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imal and food term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ization of wome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914400" y="5562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Representation of Gender in the English Languag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85800" y="1981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Significance of differential treatment of females and males in language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t language reinforces and perpetuates gender stereotypes (Swim et al., 2003, 2004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ist language reinforces and perpetuates status differences between women and men (Swim et al., 2003, 2004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838080" y="52578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content of gender stereotyp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 stereotypes:  Widely shared beliefs about the attributes of females and ma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mmunion:  Traits stereotypically associated with women such as sympathy and warmth, which reflect a concern about other peop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ncy:  Traits stereotypically associated with men, such as achievement orientation and ambitiousness, which reflect a concern about accomplishing task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62120" y="5715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621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content of gender stereotypes, continued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me gender stereotypes have remained relatively unchanged since the 1970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ttributes associated with the male stereotype are more highly regarded and considered more powerful in North American society (Fiske &amp; Cuddy, 2006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-related stereotypes can guide our expectations and interpretations of other peopl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ender-related stereotypes can guide choices we make about our own behavi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re is a discrepancy between the traits North Americans regard as </a:t>
            </a:r>
            <a:r>
              <a:rPr b="0" i="1" lang="en-US" sz="2200" spc="-1" strike="noStrike">
                <a:solidFill>
                  <a:srgbClr val="ffffff"/>
                </a:solidFill>
                <a:latin typeface="Corbel"/>
              </a:rPr>
              <a:t>representativ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of most women and men and those they consider </a:t>
            </a:r>
            <a:r>
              <a:rPr b="0" i="1" lang="en-US" sz="2200" spc="-1" strike="noStrike">
                <a:solidFill>
                  <a:srgbClr val="ffffff"/>
                </a:solidFill>
                <a:latin typeface="Corbel"/>
              </a:rPr>
              <a:t>ideal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for women and men (e.g., Street et al., 1995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200" y="5943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62120" y="2133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perceiver’s ethnicity and gender stereotype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ople from different ethnic backgrounds vary in the degree to which they believe the ideal traits for females are different from those for mal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earch suggests that Blacks are the least likely to adhere to rigid gender stereotypes (Harris, 1994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38080" y="5257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Females and Mal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The target’s characteristics and gender stereotyp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geism:  Bias against older people (Hurd Clarke, 2011)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thnicity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class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xual orientation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len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leism:  bias against people because of their disability (Chisholm &amp; Greene, 2008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9480" y="5867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Stereotypes of Girls and Boy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d46c"/>
                </a:solidFill>
                <a:latin typeface="Corbel"/>
              </a:rPr>
              <a:t>Adults’ gender-stereotypic expectations of childre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ewborn girls and boys perceived differentl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Girls rated as finer featured, less strong, more delicate than boy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4- to 7-year-old girls and boys perceived differentl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ceived traits reflect communion-agency stereotyp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5800" y="5562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Bases for Gender Stereotyp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2120" y="1905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d46c"/>
                </a:solidFill>
                <a:latin typeface="Corbel"/>
              </a:rPr>
              <a:t>Process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categoriz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lps simplify our social percep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ased on easily identifiable characteristic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an lead us astray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914400" y="5029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91ff"/>
                </a:solidFill>
                <a:latin typeface="Consolas"/>
              </a:rPr>
              <a:t>Bases for Gender Stereotypes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621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d46c"/>
                </a:solidFill>
                <a:latin typeface="Corbel"/>
              </a:rPr>
              <a:t>Content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role theor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ereotypes of women and men stem from the association of women with the domestic role and men with the employee role (Wood &amp; Eagly, 2010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earch demonstrates the influence of a person’s social role on the application of gender-related traits to her or hi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cial roles influence gender stereotypes even when people are asked to describe women and men in both the past and the futur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lps explain why gender stereotypes are resistant to change despite increased participation of women in the labor for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d6ecff"/>
                </a:solidFill>
                <a:latin typeface="Arial"/>
                <a:ea typeface="Arial"/>
              </a:rPr>
              <a:t>© Pearson Education 201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62120" y="5867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eea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2:54:29Z</dcterms:created>
  <dc:creator>Macalester</dc:creator>
  <dc:description/>
  <dc:language>en-US</dc:language>
  <cp:lastModifiedBy>Patricie Blattenberger</cp:lastModifiedBy>
  <dcterms:modified xsi:type="dcterms:W3CDTF">2012-03-06T19:28:56Z</dcterms:modified>
  <cp:revision>78</cp:revision>
  <dc:subject/>
  <dc:title>Women’s Lives:  Psychological Explorations X/e  Claire Etaugh &amp; Judith  </dc:title>
</cp:coreProperties>
</file>