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0" y="6400800"/>
            <a:ext cx="9163080" cy="457200"/>
          </a:xfrm>
          <a:prstGeom prst="rect">
            <a:avLst/>
          </a:prstGeom>
          <a:solidFill>
            <a:srgbClr val="293d9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7" descr="Pearson_Strap_Bound_White"/>
          <p:cNvPicPr/>
          <p:nvPr/>
        </p:nvPicPr>
        <p:blipFill>
          <a:blip r:embed="rId2"/>
          <a:stretch/>
        </p:blipFill>
        <p:spPr>
          <a:xfrm>
            <a:off x="0" y="6397560"/>
            <a:ext cx="1766880" cy="4572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</p:pic>
      <p:sp>
        <p:nvSpPr>
          <p:cNvPr id="4" name="Text Box 9"/>
          <p:cNvSpPr/>
          <p:nvPr/>
        </p:nvSpPr>
        <p:spPr>
          <a:xfrm>
            <a:off x="2743200" y="6477120"/>
            <a:ext cx="40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2012 by Pearson Education, Inc. All rights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erv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Pearson_Bound_White"/>
          <p:cNvPicPr/>
          <p:nvPr/>
        </p:nvPicPr>
        <p:blipFill>
          <a:blip r:embed="rId3"/>
          <a:stretch/>
        </p:blipFill>
        <p:spPr>
          <a:xfrm>
            <a:off x="7485120" y="6364440"/>
            <a:ext cx="1655640" cy="4935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68580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cal Sociolog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elfth Edition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lliam C. Cockerh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ease and Moder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health profiles of industrialized societies are different from that of developing countr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rnizing countries experienc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mortality from infectious diseases and parasitic dis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ines in other diseases of the digestive and respiratory systems with a communicable compon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s in life expectanc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ines in infant mort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reases in mortality from heart disease, cancer, and other physical ailments associated with modern li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plexity of Modern Ills: Heart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rt disease represents an example of the complexity of modern health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factors contribute to the risk of developing heart disease by pathways not yet fully underst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ificant risk factors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 (specifically male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dvancing 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blood pressu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igarette smo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e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HIV/AIDS and Influ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guished from epidemics by their widespread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 not only the countries of one region but multiple regions and continents in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HIV/A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V/AIDS has a widespread social 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 is firmly rooted in social behavi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influenced changing norms, values, sex habits, and lifestyles throughout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ed in the U.S. in 197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ed a significant epidemiological puzzle: first in determining what the new disease was, then in how it was transmitted and where it origin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HIV/AIDS – U.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mary mode of transmission (CDC 2007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ong adult and adolescent mal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4 percent of all cases reported were homosexual and bisexual 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 percent were IV dru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7 percent were homosexuals and IV dru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percent resulted from heterosexual conta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percent from other causes like blood transfu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ong adult and adolescent fema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72 percent are from heterosexual contact with infected m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6 percent are infected from IV drug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percent from other 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HIV/AIDS – U.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Screen shot 2011-04-07 at 1.20.58 AM.jpg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HIV/AIDS – Worldw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 (33.4 million ca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of the Sahara the hardest h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mode of transmission: heterosexual cont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nt labor system plays a vital role in transmission, spreading disease from urban to rur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account for 60 percent of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HIV/AIDS – Worldw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estern Europe (850,000 cases) and Eastern Europe (1.5 million cas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mode of transmission: Homosexual activity and IV drug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ia (South/Southeast Asia, 3.8 million cases; East Asia and China, 850,000 cas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mode of transmission: Heterosexual activity (especially through migrant labor systems and prostitu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tin America (2.0 million cases) and Caribbean (230,000 cas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iginally spread through homosexual activity and IV drug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w spreading to women through bisexual activity by 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demics: Influ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outbreaks, such as 1918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ish flu,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killed millions worldw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nt outbreaks of H1N1 (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ine fl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H5N1 (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an flu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have the potential to become especially serious pandem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ing outbreaks of influenza and controlling the spread of infection remains challenging for epidemiolog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 is a multi-disciplinary field that studies the origin and distribution of health problems, whether infectious diseases, chronic ailments, or problems resulting from unhealthy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emiological Mea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se: An episode of a disorder, illness, or injury involving a p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alence: The total number of cases of a health disorder that exist at any given t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int prevalence (the number of cases at a certain point in time, usually a particular day or we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od prevalence (the total number of cases during a specified period of time, usually a month or y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fetime prevalence (the number of people who have had the health problem at least once during their lifeti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idence: Refers to the number of new cases of a specific health disorder occurring within a given population during a stated period of t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ed from prevalence as the rate at which cases first appear, while prevalence is the rate at which all cas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pidemiological Mea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ude rate: The number of persons (cases) who have the characteristics being measured during a specific unit of tim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: Birth rates and mortality r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-adjusted rate: A more specific measure than crude rate and shows differences by age in the distribution of health proble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Infant mortality rate, which measures the deaths of all infants in a geographical area under the age of one ye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ten used as an approximate indicator of a society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standard of liv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velopment of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pidemics only began to affect human populations as trade between regions increased and as humans began moving in greater proportions into c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bonic plagu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ed Europe between 1340 and 17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lled approximately one-third of the European popula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mission of the disease was not understood initially but social patterning in the distribution of the disease was obser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velopment of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Snow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investigations into cholera outbreaks in Lond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systematically mapped out cases of infection, interviewed victims, and traced their daily activities to a common source: contaminated well-pu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d the foundation of modern epidemiolog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velopment of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usal ag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cogniz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agents - bacteria, viruses, or ins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ritional agents - fats and carbohyd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agents - gases and toxic chemicals that pollute the air, water, and 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gents - climate or vege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agents - occupation, social class, location of residence, or life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velopment of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cial enviro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fers to actual living conditions, such as poverty or crowding, and also the norms, values, and attitudes that reflect a particular social and cultural context of liv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what a person does, who a person is, and where a person lives influences what health hazards are most likely to exist in that individua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evelopment of Epidem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ges in the field of epidemiology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anitary e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early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) - focus was largely on sewage and drainage systems, and the major preventive measure was the introduction of sanitation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ectious disease e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at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to mid-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) - principal preventive approach was to break the chain of transmission between the agent and the h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ronic disease e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mid- to lat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) - focus was on controlling risk factors by modifying lifestyles, agents, or the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co-epidemiolo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ntury) - preventive measures are multidisciplinary as scientists from many fields use their techniques to deal with a variety of health problems at the molecular, social behavioral, population, and global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8:32:40Z</dcterms:created>
  <dc:creator>Sarah B</dc:creator>
  <dc:description/>
  <dc:language>en-US</dc:language>
  <cp:lastModifiedBy>UBOSCMA</cp:lastModifiedBy>
  <dcterms:modified xsi:type="dcterms:W3CDTF">2011-04-07T18:01:41Z</dcterms:modified>
  <cp:revision>34</cp:revision>
  <dc:subject/>
  <dc:title>Medical Sociology</dc:title>
</cp:coreProperties>
</file>