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Time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410080" y="6477120"/>
            <a:ext cx="35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2 Pearson Education Inc.,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8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9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3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7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Good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7880" y="661356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Pearson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41911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multimedia product and its contents are protected under copyright law. The following are prohibited by law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y public performance or display, including transmission of any image over a networ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ation of any derivative work, including the extraction, in whole or in part, of any imag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y rental, lease, or lending of the progr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future bosses wa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writ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current professio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management text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tips for better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ctive v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mod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lo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prepositional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long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 tips for better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overuse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placing important words or phrases in the middle of a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 focus on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your sentences alo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weeme</cp:lastModifiedBy>
  <dcterms:modified xsi:type="dcterms:W3CDTF">2011-08-24T18:14:11Z</dcterms:modified>
  <cp:revision>13</cp:revision>
  <dc:subject/>
  <dc:title>The Importance of Good Writing</dc:title>
</cp:coreProperties>
</file>