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Line 7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8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6" descr="Pearson_Strap_Bound_White"/>
          <p:cNvPicPr/>
          <p:nvPr/>
        </p:nvPicPr>
        <p:blipFill>
          <a:blip r:embed="rId3"/>
          <a:stretch/>
        </p:blipFill>
        <p:spPr>
          <a:xfrm>
            <a:off x="0" y="636444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895480" y="6477120"/>
            <a:ext cx="403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5ea"/>
                </a:solidFill>
                <a:latin typeface="Arial"/>
              </a:rPr>
              <a:t>Copyright ©2012 by Pearson Education, Inc. All rights </a:t>
            </a:r>
            <a:r>
              <a:rPr b="0" lang="en-US" sz="1000" spc="-1" strike="noStrike">
                <a:solidFill>
                  <a:srgbClr val="fbf5ea"/>
                </a:solidFill>
                <a:latin typeface="Verdana"/>
              </a:rPr>
              <a:t>reserved</a:t>
            </a:r>
            <a:r>
              <a:rPr b="0" lang="en-US" sz="1000" spc="-1" strike="noStrike">
                <a:solidFill>
                  <a:srgbClr val="fbf5ea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80880"/>
            <a:ext cx="861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410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The Harvard Cri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receptive and unresponsive (to any external stimuli or internal ne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movements or breat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reflex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at EEG (no brain activity or brain wav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circulation to or within the brain (no oxygen or nutrition to the brai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6840" y="-360"/>
            <a:ext cx="89154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The Current Sce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7035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684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Total Brain Failure”: An Emerging Conce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lternative to prevailing concepts and practices, the focus is no longer entirely on physical symptoms and syst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iew that even the severely impaired person continues to interact with the world and may be fighting for surviv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Zamperetti &amp; Bellome, 200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684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EVENT VERSUS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ath is sometimes treated as an event; the same word also refers to the state that follows the ev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684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WHAT DOES DEATH ME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76240" y="1650960"/>
            <a:ext cx="815364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684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INTERPRET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OF THE DEATH ST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Enfeebled Lif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formed into a repulsive and pitiable creature, a decremental model of mise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Contin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ition to more of the same exist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Perpetual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ition to a freer mode of existence in which continued spiritual and evolutionary growth occ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Wai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nsion between death and an end-state; waiting for judgment; in limbo or suspe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Cycling and Recyc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is one position on a constantly turning whe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684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Not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ing and the death even can be observed, but death is the absence of life, process, or qu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Virtual, Therefore Not De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is something without dimension or place, similar to imaginary virtual computer worl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684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Implications of the Ways in Which We Interpret De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ath has been viewed as clean or unclean in various cultu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ath can be viewed as an end, a beginning, or a transi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684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CONDITIONS THAT RESEMBLE DE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Inorganic and Unrespons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as stone or rock – cold and h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as a mechanical fail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Sleep and Altered States of Conscious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as a deep slee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ug and alcohol-induced states are likened to d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CHAPTER 2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Is Death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380880"/>
            <a:ext cx="8588520" cy="39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Beings Who Resemble or Represent De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ged hybrid beings, such as Homer’s sirens, who brought d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uses, who sang at funerals and guided departed sou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pheus, who had power over death through s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keleton (utilized since ancient tim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684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DEATH AS A PERS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ifying an abstract conce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ressing feelings that are difficult to articu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as a coin of commun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sorbing some of the shock, pain, anger, and fear experienced during traumatic ev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ing symbols that can be reshaped during emotional healing and cognitive inte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334800"/>
            <a:ext cx="86868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How We Personify Death: The First St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acab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ugly, menacing, vicious, and repulsive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entle comfor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serene and welco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ay deceiv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elegant, sexually alluring, tempting, and then traps y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utoma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bland, shell of a person who just goes about his bus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304920"/>
            <a:ext cx="8686800" cy="47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The Follow-Up St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is still represented predominately as a male, but there is a sharp increase in female personific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der differenc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men favor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entle comfor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n site a “cold and remote” pers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entle comfor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still seen as an elderly person, but that is no longer true of the others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acab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ay deceiv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utoma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684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CONDITIONS THAT DEATH RESEMB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Social De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be defined in context or by sit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d on how a person is treated by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son is ignored, discounted, and exclu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Phenomenological De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e 1: partial death, loss of part of the body or ide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e 2: total self takes on a deadened t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684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THE UND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The Fertile D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fe gives way to death, but death also gives way to lif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From Beast to Dark Lo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invitation to revisit the darker side of our own natures where life and death do not obey the rules of strict rational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Bringing the Vampire Down to Ea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vampires/zombies real? Positive evidence for their existence is not abunda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6840"/>
            <a:ext cx="91440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DEATH AS AN AGENT OF PERSONAL, POLICAL, AND SOCIAL 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The Great Leve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makes no distinction between peo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gnoring, for example, race, gender, age, IQ, finances, religion, and personal pow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The Great Valid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erson’s worth in life can be reflected in the level of mourning and size of the funeral or memo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228600"/>
            <a:ext cx="8991720" cy="59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Death Unites/Separ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tes us with those who have already d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es us from the li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Ultimate Problem or Ultimate Solu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s our opportunities to achie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oses down our inner experiences, consciousness, and aware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takes us away from all our life-relate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ath of others removes some of our problems (for example, death of crimina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The Ultimate Meaningless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ndom and sensel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answer to the question of why a death occur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68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GLO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295280"/>
            <a:ext cx="358128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ain de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tato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a, comat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E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avenous flui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yrd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ally conscious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600200"/>
            <a:ext cx="4572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1295280"/>
            <a:ext cx="3973320" cy="40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n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ient vegetativ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mp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getativ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rtual re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mb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684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IDEAS ABOUT THE N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AND THE MEANING OF DEA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only do individuals differ in their attitudes and feelings toward death, but the same person may differ from situation to situ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e mean by “death” becomes of practical importance when we communicate with others who have a different concep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684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80880"/>
            <a:ext cx="8991720" cy="51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DEATH AS OBSERVED, PROCLAIMED, AND IMAGIN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sla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Death is final when the soul leaves the bod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picuru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Death is one of many events  that have no meaning or val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indu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Reincarnation; we are born to die, and die to be rebor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hristian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Death and sexuality are intertwined; sexual sinfulness can lead to dea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ew A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Death is a transition to the next lif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684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04920"/>
            <a:ext cx="8839080" cy="50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Death as Symbolic Co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need a mental construction because death has so many important referents, associations, and consequen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r concept of death is influenced by movies and telev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s are often sensational and viol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les are six times more likely to instigate deat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s are twice as likely to be victi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684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BIOMEDICAL APPROA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TO THE DEFINITION OF DEA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Traditional Determination of De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2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ck of respiration, pulse, and heartbe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2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ilure to respond to stimuli, such as light, movement, and p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2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wered body temperature and stiff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2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ed later by bloating and signs of decom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ck Kevorkian developed a method based on the status of the ey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erved 51 patients in 1957, published his findings in 196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fically checked the eye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gmentation and interruption of blood circ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haziness of the corn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arance of homogeneity and pale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684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Ways of Being D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cal advances have made it possible to maintain the body in a nonresponsive state for an indefinite period of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 such circumstances we may hesitate to evoke either category: alive or de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ecision may have to be made that will require a definition of “deadness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684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Brain Death and the Harvard Cri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first, the concept of brain death served mainly to help physicians decide that additional medical procedures would be of no benefit to the pati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medical advances such as organ donation led to ethical and moral dilemm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the health care and justice systems felt the need for guida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20:09:08Z</dcterms:created>
  <dc:creator>rosimerr</dc:creator>
  <dc:description>Built by: www.mediasterling.com</dc:description>
  <dc:language>en-US</dc:language>
  <cp:lastModifiedBy>UBOSCMA</cp:lastModifiedBy>
  <dcterms:modified xsi:type="dcterms:W3CDTF">2011-10-03T16:06:46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